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CB6-972E-45FC-B8AF-4B82E4FD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543-3976-4014-9D48-E75F87B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02E-986D-4710-A4B6-C8EE7E54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1E1-66DC-4126-9238-B8BB0FEA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347-40D6-45BA-8154-3BE14BC9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BB29-B0FB-479D-9CE4-1AF5A1C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C9B-C958-4192-A334-9184AE9F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5391-307E-4770-BC91-FAE4AEC3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674A-389A-409E-AEA1-3AAFBFA8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AE67-05D6-4D71-AC59-B8F2C71B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8C57-51B0-4214-A4A7-9355AE8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680-ECDF-4571-A661-F7C776F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1C37-FEB8-457B-BA97-BE80FB3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E8E8-1BA4-4CD9-81AD-969211B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6BE-4264-454F-8FCE-7316323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DE96-1ACB-496C-80B9-A23B7131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B35-2186-41EE-ADB7-60E00242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DE6-70F0-46A9-9699-C71D3EC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11F-B660-4B65-8A95-A981C09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331-D550-4815-8BDD-D04C993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648-4179-448A-91AB-C2471329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E62-D2BC-4195-AB65-CF2A222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A75-7DEC-4B20-9CD7-FD8B42B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5C2-F938-4935-B171-E317078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4495-91EE-4584-BA08-2B40E0AAA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5D2-39A8-441B-9C01-F258293FDE31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gency FB"/>
              </a:rPr>
              <a:t>Решаем задачи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3366cc"/>
              </a:solidFill>
              <a:latin typeface="Times New Roman"/>
            </a:endParaRPr>
          </a:p>
        </p:txBody>
      </p:sp>
      <p:pic>
        <p:nvPicPr>
          <p:cNvPr id="193" name="Picture 4" descr="481-0163[1]"/>
          <p:cNvPicPr/>
          <p:nvPr/>
        </p:nvPicPr>
        <p:blipFill>
          <a:blip r:embed="rId1"/>
          <a:stretch/>
        </p:blipFill>
        <p:spPr>
          <a:xfrm>
            <a:off x="539640" y="2781360"/>
            <a:ext cx="3216240" cy="3495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509800" y="2852640"/>
            <a:ext cx="1308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Использование краткой записи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50920" y="981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Индийском океане 5 морей, а в Тихом на 4 больше. Сколько морей в Тихом и Индийском океанах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324000" y="1844640"/>
            <a:ext cx="268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нд. – 5 м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их. – ?, на 4 </a:t>
            </a: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б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3" name="Freeform 10"/>
          <p:cNvSpPr/>
          <p:nvPr/>
        </p:nvSpPr>
        <p:spPr>
          <a:xfrm>
            <a:off x="1619280" y="1916280"/>
            <a:ext cx="620640" cy="583920"/>
          </a:xfrm>
          <a:prstGeom prst="pie">
            <a:avLst/>
          </a:prstGeom>
          <a:noFill/>
          <a:ln w="12600">
            <a:solidFill>
              <a:srgbClr val="66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4" name="AutoShape 12"/>
          <p:cNvSpPr/>
          <p:nvPr/>
        </p:nvSpPr>
        <p:spPr>
          <a:xfrm>
            <a:off x="2268360" y="1989000"/>
            <a:ext cx="216000" cy="64800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262908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250920" y="278136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Северном Ледовитом океане 10 морей, а в Индийском на 5 меньше. Сколько морей в двух этих океанах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93480" y="3716280"/>
            <a:ext cx="192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.Лед. – 10 м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нд. – ?, на 5 </a:t>
            </a: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м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8" name="Freeform 16"/>
          <p:cNvSpPr/>
          <p:nvPr/>
        </p:nvSpPr>
        <p:spPr>
          <a:xfrm>
            <a:off x="1979640" y="3789360"/>
            <a:ext cx="620640" cy="584280"/>
          </a:xfrm>
          <a:prstGeom prst="pie">
            <a:avLst/>
          </a:prstGeom>
          <a:noFill/>
          <a:ln w="12600">
            <a:solidFill>
              <a:srgbClr val="66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2700360" y="378936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2989440" y="39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179280" y="450864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Тихом океане 9 морей, а в Атлантическом 6 морей. На сколько меньше морей в Атлантическом океане? (На сколько больше морей в Тихом океане?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2" name="Text Box 20"/>
          <p:cNvSpPr/>
          <p:nvPr/>
        </p:nvSpPr>
        <p:spPr>
          <a:xfrm>
            <a:off x="610200" y="537372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их. – 9 м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тл. – 6 м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AutoShape 21"/>
          <p:cNvSpPr/>
          <p:nvPr/>
        </p:nvSpPr>
        <p:spPr>
          <a:xfrm>
            <a:off x="1908000" y="5516640"/>
            <a:ext cx="142920" cy="504720"/>
          </a:xfrm>
          <a:custGeom>
            <a:avLst/>
            <a:gdLst>
              <a:gd name="textAreaLeft" fmla="*/ 0 w 142920"/>
              <a:gd name="textAreaRight" fmla="*/ 100440 w 14292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2033640" y="5514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 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75" name="Picture 23" descr="мальчик с якорем"/>
          <p:cNvPicPr/>
          <p:nvPr/>
        </p:nvPicPr>
        <p:blipFill>
          <a:blip r:embed="rId1"/>
          <a:stretch/>
        </p:blipFill>
        <p:spPr>
          <a:xfrm>
            <a:off x="7093080" y="1989000"/>
            <a:ext cx="88236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5" descr="animals15"/>
          <p:cNvPicPr/>
          <p:nvPr/>
        </p:nvPicPr>
        <p:blipFill>
          <a:blip r:embed="rId1"/>
          <a:stretch/>
        </p:blipFill>
        <p:spPr>
          <a:xfrm>
            <a:off x="5435640" y="404640"/>
            <a:ext cx="2543040" cy="378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41-21[1]"/>
          <p:cNvPicPr/>
          <p:nvPr/>
        </p:nvPicPr>
        <p:blipFill>
          <a:blip r:embed="rId2"/>
          <a:stretch/>
        </p:blipFill>
        <p:spPr>
          <a:xfrm>
            <a:off x="179280" y="2852640"/>
            <a:ext cx="1751040" cy="31086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17"/>
          <p:cNvSpPr txBox="1"/>
          <p:nvPr/>
        </p:nvSpPr>
        <p:spPr>
          <a:xfrm rot="21118200">
            <a:off x="323640" y="-243000"/>
            <a:ext cx="5976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8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alisto MT"/>
              </a:rPr>
              <a:t>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alisto MT"/>
              </a:rPr>
              <a:t>Желаю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alisto MT"/>
              <a:ea typeface="Calisto MT"/>
            </a:endParaRPr>
          </a:p>
        </p:txBody>
      </p:sp>
      <p:sp>
        <p:nvSpPr>
          <p:cNvPr id="379" name="WordArt 18"/>
          <p:cNvSpPr txBox="1"/>
          <p:nvPr/>
        </p:nvSpPr>
        <p:spPr>
          <a:xfrm>
            <a:off x="1979640" y="3716280"/>
            <a:ext cx="5329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alisto MT"/>
              </a:rPr>
              <a:t>удачи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alisto MT"/>
              <a:ea typeface="Calisto MT"/>
            </a:endParaRPr>
          </a:p>
        </p:txBody>
      </p:sp>
      <p:pic>
        <p:nvPicPr>
          <p:cNvPr id="380" name="Picture 19" descr="d3215e43fc469294d9e4e9d34bd846b0"/>
          <p:cNvPicPr/>
          <p:nvPr/>
        </p:nvPicPr>
        <p:blipFill>
          <a:blip r:embed="rId3"/>
          <a:stretch/>
        </p:blipFill>
        <p:spPr>
          <a:xfrm>
            <a:off x="2268360" y="3141720"/>
            <a:ext cx="1513080" cy="923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0" descr="d3215e43fc469294d9e4e9d34bd846b1"/>
          <p:cNvPicPr/>
          <p:nvPr/>
        </p:nvPicPr>
        <p:blipFill>
          <a:blip r:embed="rId4"/>
          <a:stretch/>
        </p:blipFill>
        <p:spPr>
          <a:xfrm>
            <a:off x="4284720" y="3213000"/>
            <a:ext cx="15080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56880" y="5572080"/>
            <a:ext cx="62010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втор: Базелюк Лариса Анатольевна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АОУ «Гимназия №2» г.Перм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</a:rPr>
              <a:t>Порядок решения задач:</a:t>
            </a:r>
            <a:endParaRPr b="0" lang="en-US" sz="5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очитай текст задач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ыдели условие – то, что известно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опрос задачи – то, что нужно найт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ыполни схему или краткую запись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дбери выражение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пиши решение задач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пиши ответ задач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7" name="Picture 4" descr="book3"/>
          <p:cNvPicPr/>
          <p:nvPr/>
        </p:nvPicPr>
        <p:blipFill>
          <a:blip r:embed="rId1"/>
          <a:stretch/>
        </p:blipFill>
        <p:spPr>
          <a:xfrm>
            <a:off x="5867280" y="5084640"/>
            <a:ext cx="1513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Простые задачи на нахождение целого или части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2627280" y="422100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5076720" y="4221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 rot="16200000">
            <a:off x="4319640" y="2600280"/>
            <a:ext cx="287280" cy="36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87840 h 3672000"/>
              <a:gd name="textAreaBottom" fmla="*/ 358416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6"/>
                  <a:pt x="10800" y="1652"/>
                </a:cubicBezTo>
                <a:lnTo>
                  <a:pt x="10800" y="9143"/>
                </a:lnTo>
                <a:cubicBezTo>
                  <a:pt x="10800" y="9969"/>
                  <a:pt x="5400" y="10795"/>
                  <a:pt x="0" y="10795"/>
                </a:cubicBezTo>
                <a:cubicBezTo>
                  <a:pt x="5400" y="10795"/>
                  <a:pt x="10800" y="11621"/>
                  <a:pt x="10800" y="12447"/>
                </a:cubicBezTo>
                <a:lnTo>
                  <a:pt x="10800" y="19948"/>
                </a:lnTo>
                <a:cubicBezTo>
                  <a:pt x="10800" y="2077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74480" y="1484280"/>
            <a:ext cx="66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А) 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Находим целое.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тобы найти целое, нужно сложить части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0" y="229860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первый день около школы посадили 20 деревьев, а во второй – ещё 10 деревьев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колько всего деревьев посадили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781440" y="32130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420720" y="378936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д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436720" y="378936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д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35744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52720" y="2997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252720" y="357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252720" y="4149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252720" y="474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252720" y="5391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2556720" y="5084640"/>
            <a:ext cx="208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20 + 10 = 30 (д.)</a:t>
            </a:r>
            <a:endParaRPr b="0" lang="en-US" sz="2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2611800" y="5634000"/>
            <a:ext cx="248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Ответ: 30 деревьев.</a:t>
            </a:r>
            <a:endParaRPr b="0" lang="en-US" sz="2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5" name="Picture 21" descr="C26-44[1]"/>
          <p:cNvPicPr/>
          <p:nvPr/>
        </p:nvPicPr>
        <p:blipFill>
          <a:blip r:embed="rId1"/>
          <a:stretch/>
        </p:blipFill>
        <p:spPr>
          <a:xfrm>
            <a:off x="5076720" y="4513320"/>
            <a:ext cx="29545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250920" y="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Б) 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Находим часть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тобы найти часть, нужно из целого вычесть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известную часть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04760" y="134136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На опушке леса мирно паслось 12 мамонтов. После набега древних охотников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х осталось 10. Сколько мамонтов притащили охотники в свою доисторическую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еревню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5800" y="2060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25800" y="26542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25800" y="3303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25800" y="3860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25800" y="4508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25800" y="5084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255840" y="229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3760560" y="22986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050920" y="328464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4500720" y="328464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 rot="16200000">
            <a:off x="3743280" y="1665360"/>
            <a:ext cx="287280" cy="36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87840 h 3672000"/>
              <a:gd name="textAreaBottom" fmla="*/ 358416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6"/>
                  <a:pt x="10800" y="1652"/>
                </a:cubicBezTo>
                <a:lnTo>
                  <a:pt x="10800" y="9143"/>
                </a:lnTo>
                <a:cubicBezTo>
                  <a:pt x="10800" y="9969"/>
                  <a:pt x="5400" y="10795"/>
                  <a:pt x="0" y="10795"/>
                </a:cubicBezTo>
                <a:cubicBezTo>
                  <a:pt x="5400" y="10795"/>
                  <a:pt x="10800" y="11621"/>
                  <a:pt x="10800" y="12447"/>
                </a:cubicBezTo>
                <a:lnTo>
                  <a:pt x="10800" y="19948"/>
                </a:lnTo>
                <a:cubicBezTo>
                  <a:pt x="10800" y="2077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49338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825280" y="2874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3636360" y="357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1957320" y="417024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12 – 10 = 2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2102400" y="474660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2 мамонта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4" name="Picture 26" descr="CHLD138"/>
          <p:cNvPicPr/>
          <p:nvPr/>
        </p:nvPicPr>
        <p:blipFill>
          <a:blip r:embed="rId1"/>
          <a:stretch/>
        </p:blipFill>
        <p:spPr>
          <a:xfrm>
            <a:off x="5148360" y="407664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Простые задачи на сравнение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0" y="62064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А) 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Находим разность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тобы узнать на сколько одно число больше или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еньше другого, нужно из большего числа вычесть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еньшее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0" y="229860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Тихом океане 9 морей, а в Атлантическом 6 морей. На сколько меньше морей в Атлантическом океане? (На сколько больше морей в Тихом океане?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52720" y="29242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52720" y="35002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252720" y="47242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2720" y="4149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252720" y="53737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3040200" y="29145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349440" y="32130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2340000" y="414972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340000" y="4797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2340000" y="422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211640" y="422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Arc 18"/>
          <p:cNvSpPr/>
          <p:nvPr/>
        </p:nvSpPr>
        <p:spPr>
          <a:xfrm rot="8651400">
            <a:off x="4134600" y="3429000"/>
            <a:ext cx="909720" cy="10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256560" y="37386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3185640" y="4457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4625640" y="42418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2318040" y="5033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9 – 6 = 3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2267280" y="5661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</a:t>
            </a: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3 моря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5" name="Picture 25" descr="мальчик с кругом"/>
          <p:cNvPicPr/>
          <p:nvPr/>
        </p:nvPicPr>
        <p:blipFill>
          <a:blip r:embed="rId1"/>
          <a:stretch/>
        </p:blipFill>
        <p:spPr>
          <a:xfrm>
            <a:off x="4859280" y="3306600"/>
            <a:ext cx="3078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179280" y="144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Б) 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Находим большее число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тобы найти большее число, нужно к меньшему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ислу прибавить разность.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подсказка – на…больше    + 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7164360" y="1197000"/>
            <a:ext cx="144360" cy="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08000" y="1362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Индийском океане 5 морей, а в Тихом на 4 больше. Сколько морей в Тихом океане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252720" y="38386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52720" y="32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52720" y="26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252720" y="1989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252720" y="44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760560" y="22986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2700360" y="386064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2700360" y="328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2700360" y="3284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211640" y="3284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Arc 17"/>
          <p:cNvSpPr/>
          <p:nvPr/>
        </p:nvSpPr>
        <p:spPr>
          <a:xfrm rot="19044000">
            <a:off x="4354200" y="3422160"/>
            <a:ext cx="930240" cy="927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3204720" y="29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501800" y="3213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833640" y="38829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678040" y="41702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5 + 4 = 9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2607480" y="46753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9 морей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5" name="Picture 23" descr="мальчик в лодке"/>
          <p:cNvPicPr/>
          <p:nvPr/>
        </p:nvPicPr>
        <p:blipFill>
          <a:blip r:embed="rId1"/>
          <a:stretch/>
        </p:blipFill>
        <p:spPr>
          <a:xfrm>
            <a:off x="5508720" y="3789360"/>
            <a:ext cx="22352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108000" y="-572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)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 Находим меньшее число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Чтобы найти меньшее число, нужно из большего числа вычесть разницу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3120" y="1362240"/>
            <a:ext cx="77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Северном Ледовитом океане 10 морей, а в Индийском на 5 меньше. Сколько морей в Индийском океане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52720" y="2060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252720" y="26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52720" y="32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52720" y="3860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252720" y="4508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252720" y="5084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2700360" y="3860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257280" y="22986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2700360" y="3284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2700360" y="3284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4211640" y="3284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Arc 17"/>
          <p:cNvSpPr/>
          <p:nvPr/>
        </p:nvSpPr>
        <p:spPr>
          <a:xfrm rot="8019600">
            <a:off x="4482720" y="2763720"/>
            <a:ext cx="1044360" cy="100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3976200" y="2874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4841280" y="3522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3257280" y="38098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2678760" y="409896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10 – 5 = 5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2607480" y="474660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5 морей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5" name="Picture 24" descr="мальчик с глобусом"/>
          <p:cNvPicPr/>
          <p:nvPr/>
        </p:nvPicPr>
        <p:blipFill>
          <a:blip r:embed="rId1"/>
          <a:stretch/>
        </p:blipFill>
        <p:spPr>
          <a:xfrm>
            <a:off x="5796000" y="3716280"/>
            <a:ext cx="2158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252720" y="38386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252720" y="32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252720" y="26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252720" y="1989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52720" y="44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565440" y="162864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2700360" y="328464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2700360" y="263700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2700360" y="2708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4211640" y="2708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Arc 15"/>
          <p:cNvSpPr/>
          <p:nvPr/>
        </p:nvSpPr>
        <p:spPr>
          <a:xfrm rot="18996600">
            <a:off x="4356000" y="2852280"/>
            <a:ext cx="928800" cy="925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3204720" y="22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450180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3852720" y="3284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2625840" y="47242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1)5 + 4 = 9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2626920" y="59500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14 морей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Rectangle 21"/>
          <p:cNvSpPr/>
          <p:nvPr/>
        </p:nvSpPr>
        <p:spPr>
          <a:xfrm>
            <a:off x="179280" y="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Составные задачи.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468360" y="692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Индийском океане 5 морей, а в Тихом на 4 больше. Сколько морей в Тихом и Индийском океанах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AutoShape 23"/>
          <p:cNvSpPr/>
          <p:nvPr/>
        </p:nvSpPr>
        <p:spPr>
          <a:xfrm>
            <a:off x="5435640" y="242100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572580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252720" y="501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2625480" y="53737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2) 9 + 5 = 14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252720" y="14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52720" y="5661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3134160" y="3573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2627280" y="4508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Line 31"/>
          <p:cNvSpPr/>
          <p:nvPr/>
        </p:nvSpPr>
        <p:spPr>
          <a:xfrm>
            <a:off x="3564000" y="450864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2844720" y="414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4067640" y="4149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 + 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5" name="AutoShape 34"/>
          <p:cNvSpPr/>
          <p:nvPr/>
        </p:nvSpPr>
        <p:spPr>
          <a:xfrm flipH="1" rot="16242000">
            <a:off x="3888000" y="3245400"/>
            <a:ext cx="142920" cy="2665800"/>
          </a:xfrm>
          <a:custGeom>
            <a:avLst/>
            <a:gdLst>
              <a:gd name="textAreaLeft" fmla="*/ 0 w 142920"/>
              <a:gd name="textAreaRight" fmla="*/ 51480 w 142920"/>
              <a:gd name="textAreaTop" fmla="*/ 69480 h 2665800"/>
              <a:gd name="textAreaBottom" fmla="*/ 2596320 h 26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3189"/>
                </a:lnTo>
                <a:cubicBezTo>
                  <a:pt x="10800" y="14089"/>
                  <a:pt x="16200" y="14989"/>
                  <a:pt x="21600" y="14989"/>
                </a:cubicBezTo>
                <a:cubicBezTo>
                  <a:pt x="16200" y="14989"/>
                  <a:pt x="10800" y="15889"/>
                  <a:pt x="10800" y="167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4357440" y="45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7" name="Picture 36" descr="мальчик моряк"/>
          <p:cNvPicPr/>
          <p:nvPr/>
        </p:nvPicPr>
        <p:blipFill>
          <a:blip r:embed="rId1"/>
          <a:stretch/>
        </p:blipFill>
        <p:spPr>
          <a:xfrm>
            <a:off x="6156360" y="3573360"/>
            <a:ext cx="16891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79280" y="189000"/>
            <a:ext cx="77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Северном Ледовитом океане 10 морей, а в Индийском на 5 меньше. Сколько морей в двух этих океанах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252720" y="836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2720" y="1989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2720" y="14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252720" y="26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52720" y="3860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52720" y="3213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340000" y="263700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3278160" y="112536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340000" y="2060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340000" y="20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3851280" y="20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Arc 15"/>
          <p:cNvSpPr/>
          <p:nvPr/>
        </p:nvSpPr>
        <p:spPr>
          <a:xfrm rot="8193000">
            <a:off x="4122720" y="1574280"/>
            <a:ext cx="1044720" cy="100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3565080" y="16286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4501800" y="2492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2989080" y="2565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2625840" y="479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1) 10 – 5 = 5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2699640" y="59500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вет: 15 морей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AutoShape 21"/>
          <p:cNvSpPr/>
          <p:nvPr/>
        </p:nvSpPr>
        <p:spPr>
          <a:xfrm>
            <a:off x="5435640" y="1773360"/>
            <a:ext cx="360360" cy="1079280"/>
          </a:xfrm>
          <a:custGeom>
            <a:avLst/>
            <a:gdLst>
              <a:gd name="textAreaLeft" fmla="*/ 0 w 360360"/>
              <a:gd name="textAreaRight" fmla="*/ 129960 w 360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5868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2624760" y="5373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2) 10 + 5 = 15 (м.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252720" y="4437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0" name="Rectangle 28"/>
          <p:cNvSpPr/>
          <p:nvPr/>
        </p:nvSpPr>
        <p:spPr>
          <a:xfrm>
            <a:off x="252720" y="508464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Rectangle 29"/>
          <p:cNvSpPr/>
          <p:nvPr/>
        </p:nvSpPr>
        <p:spPr>
          <a:xfrm>
            <a:off x="252720" y="56610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3402360" y="29462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411280" y="38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>
            <a:off x="4211640" y="3860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2536920" y="344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Text Box 34"/>
          <p:cNvSpPr/>
          <p:nvPr/>
        </p:nvSpPr>
        <p:spPr>
          <a:xfrm>
            <a:off x="4285080" y="3429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– 5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7" name="AutoShape 35"/>
          <p:cNvSpPr/>
          <p:nvPr/>
        </p:nvSpPr>
        <p:spPr>
          <a:xfrm flipH="1" rot="16242000">
            <a:off x="3706920" y="2636640"/>
            <a:ext cx="142920" cy="2737080"/>
          </a:xfrm>
          <a:custGeom>
            <a:avLst/>
            <a:gdLst>
              <a:gd name="textAreaLeft" fmla="*/ 0 w 142920"/>
              <a:gd name="textAreaRight" fmla="*/ 514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Text Box 36"/>
          <p:cNvSpPr/>
          <p:nvPr/>
        </p:nvSpPr>
        <p:spPr>
          <a:xfrm>
            <a:off x="3636720" y="414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9" name="Picture 37" descr="мальчик у штурвала"/>
          <p:cNvPicPr/>
          <p:nvPr/>
        </p:nvPicPr>
        <p:blipFill>
          <a:blip r:embed="rId1"/>
          <a:stretch/>
        </p:blipFill>
        <p:spPr>
          <a:xfrm>
            <a:off x="5724360" y="4076640"/>
            <a:ext cx="208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4:45:16Z</dcterms:created>
  <dc:creator>Дом</dc:creator>
  <dc:description/>
  <dc:language>en-US</dc:language>
  <cp:lastModifiedBy>Admin</cp:lastModifiedBy>
  <dcterms:modified xsi:type="dcterms:W3CDTF">2012-03-14T13:40:40Z</dcterms:modified>
  <cp:revision>9</cp:revision>
  <dc:subject/>
  <dc:title>Решаем задачи.</dc:title>
</cp:coreProperties>
</file>