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3A91-5FDD-4066-9DBA-C3B7C4B43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9737-FBA6-475E-B530-4A3C610F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E49B-64E3-496E-B8B4-8080E8235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9474-CFF7-4B2E-B7C7-3D81B3D4C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7A0E-CEE7-45EE-9E59-E37579403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717F9-075F-4A6B-A916-3308CF62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ADC6-67D8-4108-97B4-86FB5AB9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0310A-A918-4229-82D6-95CA87EC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211E-C7FE-4979-B652-4DCD5E5C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A591-CB90-47FD-9AC0-D11CF882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4BD8-8E71-4C93-9F0D-030CC98F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07AB-984D-4BC9-9C6C-64282500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DB39-E9F5-4D14-8B56-E5B524FC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23A4-4B52-4BB4-B09F-D99A14BB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C23C-AFAA-4145-8EA8-9B41ADFE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5B7F-82F7-41D2-8CDE-7FA3B4BB3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62F3B-8621-4A2D-8A89-DCCC0DF7D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25D8-7AB4-4BEF-89C3-B36EBA21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8219-1D92-4A16-B80E-558C0E79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3939-742E-457F-9CF5-1B956F14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0BDE-BEEF-4CD4-A5BE-071E3B74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97C5-CCAE-4E53-A21B-CB85AFFB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071E-11CE-4F2B-AB79-71492398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AB13-81AC-45BC-986E-FB13B8C1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E8A1-3D5B-48BA-9B67-D80B86725BD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A8EC-22EA-48C8-8BEB-54C286128E2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Garamond"/>
              </a:rPr>
              <a:t>Умножение чисел,полученных при измерении длины, массы, стоимости на круглые десятки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равило умножения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м 45см  х  30 =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) выразить число, полученное при измерении, в более мелких мерах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) умножить это число на количество десятков и приписать на конце числа нуль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) число, полученное в ответе, выразить в более крупных мерах (где это требуется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efee"/>
                </a:solidFill>
                <a:latin typeface="Garamond"/>
              </a:rPr>
              <a:t>хлеб – 3т 127кг</a:t>
            </a:r>
            <a:br>
              <a:rPr sz="2000"/>
            </a:br>
            <a:r>
              <a:rPr b="1" lang="en-US" sz="2000" spc="-1" strike="noStrike">
                <a:solidFill>
                  <a:srgbClr val="b9efee"/>
                </a:solidFill>
                <a:latin typeface="Garamond"/>
              </a:rPr>
              <a:t>рыба – в 20 раз больше, чем</a:t>
            </a:r>
            <a:br>
              <a:rPr sz="2000"/>
            </a:br>
            <a:r>
              <a:rPr b="1" lang="en-US" sz="2000" spc="-1" strike="noStrike">
                <a:solidFill>
                  <a:srgbClr val="b9efee"/>
                </a:solidFill>
                <a:latin typeface="Garamond"/>
              </a:rPr>
              <a:t>мясо – в 40раз больше, чем</a:t>
            </a: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268360" y="1700280"/>
            <a:ext cx="640080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671920" y="809640"/>
            <a:ext cx="3800160" cy="523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                                                                                                                                                </a:t>
            </a: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«Дорогой, дядя Федор!</a:t>
            </a:r>
            <a:br>
              <a:rPr sz="2400"/>
            </a:b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Я сегодня был на рыбалке! Какую рыбу я поймал, если бы только видел! Здоровенную! Длина ее 52, а вес 6200. Мы с шариком сварили уху, целую кастрюлю. Купили даже крупы по 2600(не знаю точно какой шарик покупал), а еще добавили соль, картошку, лавровый лист, перец. Уха получилась славная. Приезжай к нам на уху!</a:t>
            </a:r>
            <a:br>
              <a:rPr sz="2400"/>
            </a:b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Твой друг Кот Матроскин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788000" y="2492280"/>
            <a:ext cx="3047760" cy="4572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n-US" sz="9600" spc="-1" strike="noStrike">
                <a:solidFill>
                  <a:srgbClr val="ff0000"/>
                </a:solidFill>
                <a:latin typeface="Garamond"/>
              </a:rPr>
              <a:t>ОСЕ 3 НА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652760" y="1243080"/>
            <a:ext cx="5838480" cy="4371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орогой, Кот Матроскин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Я очень рад твоему письму. Но уж очень оно какое то странное. Ты, Кот Матроскин, хороший рыбалов, но ученик ты не важный. И поэтому я высылаю тебе таблицу соотношений мер длины, массы, и стоимости. Ты ее обязательно выучи! А на уху я конечно приед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вой Дядя Федор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Соотношение мер массы, длины, стоимости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км =        0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ц = 1      к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м =     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т = 10    к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см = 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кг =  00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дм =   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р = 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27080" y="260280"/>
            <a:ext cx="8889840" cy="63374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9efee"/>
                </a:solidFill>
                <a:latin typeface="Garamond"/>
              </a:rPr>
              <a:t>Удальцы – 2м 45см</a:t>
            </a:r>
            <a:br>
              <a:rPr sz="1800"/>
            </a:br>
            <a:r>
              <a:rPr b="1" lang="en-US" sz="1800" spc="-1" strike="noStrike">
                <a:solidFill>
                  <a:srgbClr val="b9efee"/>
                </a:solidFill>
                <a:latin typeface="Garamond"/>
              </a:rPr>
              <a:t>1 попытка Иванушки – в 3 раза выше, чем</a:t>
            </a:r>
            <a:br>
              <a:rPr sz="1800"/>
            </a:br>
            <a:r>
              <a:rPr b="1" lang="en-US" sz="1800" spc="-1" strike="noStrike">
                <a:solidFill>
                  <a:srgbClr val="b9efee"/>
                </a:solidFill>
                <a:latin typeface="Garamond"/>
              </a:rPr>
              <a:t>2 попытка Иванушки – в 10 раз выше, чем</a:t>
            </a:r>
            <a:br>
              <a:rPr sz="1800"/>
            </a:br>
            <a:r>
              <a:rPr b="1" lang="en-US" sz="1800" spc="-1" strike="noStrike">
                <a:solidFill>
                  <a:srgbClr val="b9efee"/>
                </a:solidFill>
                <a:latin typeface="Garamond"/>
              </a:rPr>
              <a:t>3 попытка Иванушки – в 30 раз выше, чем</a:t>
            </a:r>
            <a:endParaRPr b="1" lang="en-US" sz="1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2340000" y="1413000"/>
            <a:ext cx="4106880" cy="62229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856560" y="4037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072200" y="4253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88200" y="4468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04200" y="4684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77080" y="4508640"/>
            <a:ext cx="18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ю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12:19:35Z</dcterms:created>
  <dc:creator>WORK</dc:creator>
  <dc:description/>
  <dc:language>en-US</dc:language>
  <cp:lastModifiedBy>WORK</cp:lastModifiedBy>
  <dcterms:modified xsi:type="dcterms:W3CDTF">2012-02-18T19:42:47Z</dcterms:modified>
  <cp:revision>12</cp:revision>
  <dc:subject/>
  <dc:title>Умножение чисел,полученных при измерении длины, массы, стоимости на круглые десятки</dc:title>
</cp:coreProperties>
</file>