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click.wav" ContentType="audio/x-wav"/>
  <Override PartName="/ppt/media/image24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3977-848B-473C-86F5-754AAC815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5080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07DC-FCBC-407C-8A28-121D47E8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63960" y="15238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508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63960" y="41508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9956-59BE-4CD1-9B5F-B621E0BAF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42680" y="152388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99200" y="152388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508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42680" y="41508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99200" y="41508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7E1C-0BD8-40C9-BDDE-DD0DD1632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4515-3FAA-46B0-83E3-BEC840A5C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80F0-1B00-454E-9F10-53AA4336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8DCB-1316-4441-A158-1F99F219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63960" y="152388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3444-E21A-49F8-8B05-60A11834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3D78-EF01-480D-9412-3070A81B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4582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9472-63BA-439C-8F54-A2B3E63A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63960" y="152388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508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512F-C279-471D-AB26-E9E8D939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2E25-D957-47F4-A399-42524FAC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960" y="15238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63960" y="41508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7046-0EDB-4723-B302-4BD5AA20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3960" y="15238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5080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6C101-FD9F-43B6-B8B1-A75D9C60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5080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F728-B308-4E79-A99E-DA862B33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63960" y="15238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508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63960" y="41508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56B2-A6F1-4A72-8D16-048E4B74C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42680" y="152388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99200" y="152388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508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42680" y="41508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99200" y="41508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BBDE-1201-4578-AC33-268272300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2A70-37FD-4122-8263-94D8B85F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63960" y="152388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FDF7-A6DC-44A6-873C-3F2A1471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2CD2-776A-4479-9CE7-54533CE9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4582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B3E7-85EB-4B81-B251-A1E4AC08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63960" y="152388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508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F2CD-FA70-4F58-9B49-EDE5F577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63960" y="15238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63960" y="41508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2878-8EE7-4605-8AE8-075FDE9B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63960" y="15238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5080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0DCF-3D56-49BA-96CF-7AD25B92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PPP_SDESI_TXT_Shawshank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610320"/>
            <a:ext cx="1166760" cy="24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166760" y="6610320"/>
            <a:ext cx="7345440" cy="24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48640" y="6610320"/>
            <a:ext cx="495360" cy="24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0201-3D36-4C91-81DD-5878BECCA7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4" descr="PPP_SDESI_TLE_Shawshank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-360" y="6610320"/>
            <a:ext cx="1166760" cy="24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1166760" y="6610320"/>
            <a:ext cx="7413840" cy="24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648640" y="6610320"/>
            <a:ext cx="495360" cy="24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FA07-CE3E-4FE2-90D6-CA316024AB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noreask=1&amp;lr=10664&amp;ed=1&amp;text=&#1082;&#1072;&#1088;&#1090;&#1080;&#1085;&#1082;&#1072;%20%D0" TargetMode="External"/><Relationship Id="rId2" Type="http://schemas.openxmlformats.org/officeDocument/2006/relationships/hyperlink" Target="http://images.yandex.ru/yandsearch?text=&#1082;&#1072;&#1088;&#1090;&#1080;&#1085;&#1082;&#1072;%20&#1089;&#1084;&#1077;&#1088;&#1095;&amp;rpt=simage&amp;p=1&amp;img_url=www.oceanographers.ru/mypict/art/bond20.jpg&amp;noreask=1&amp;lr=10664" TargetMode="External"/><Relationship Id="rId3" Type="http://schemas.openxmlformats.org/officeDocument/2006/relationships/hyperlink" Target="http://images.yandex.ru/yandsearch?noreask=1&amp;lr=10664&amp;ed=1&amp;text=&#1082;&#1072;&#1088;&#1090;&#1080;&#1085;&#1082;&#1080;%20&#1101;&#1082;&#1086;&#1083;&#1086;&#1075;&#1080;&#1095;&#1077;&#1089;&#1082;&#1080;&#1093;%20&#1087;&#1088;&#1086;&#1073;&#1083;&#1077;&#1084;&amp;p=89&amp;img_url=m001.bcm.ru/1151/2a0ed991-6537-4b2e-a645-691285400b3a.jpg&amp;rpt=simage" TargetMode="External"/><Relationship Id="rId4" Type="http://schemas.openxmlformats.org/officeDocument/2006/relationships/hyperlink" Target="http://images.yandex.ru/yandsearch?text=&#1101;&#1084;&#1073;&#1083;&#1077;&#1084;&#1072;%20&#1084;&#1095;&#1089;&amp;rpt=simage&amp;p=3&amp;img_url=www.goldenkorona.ru/pic/emblema_53.gif&amp;noreask=1&amp;lr=10664" TargetMode="External"/><Relationship Id="rId5" Type="http://schemas.openxmlformats.org/officeDocument/2006/relationships/hyperlink" Target="http://images.yandex.ru/yandsearch?noreask=1&amp;lr=10664&amp;ed=1&amp;text=&#1082;&#1072;&#1088;&#1090;&#1080;&#1085;&#1082;&#1072;%20&#1090;&#1077;&#1088;&#1072;&#1082;&#1090;&amp;img_url=cred-fin.ru/_ph/6/219962749.jpg&amp;rpt=simage&amp;p=31" TargetMode="External"/><Relationship Id="rId6" Type="http://schemas.openxmlformats.org/officeDocument/2006/relationships/hyperlink" Target="http://images.yandex.ru/yandsearch?noreask=1&amp;lr=10664&amp;ed=1&amp;text=&#1092;&#1086;&#1090;&#1086;%20&#1052;&#1055;&#1042;&#1054;&amp;p=0&amp;img_url=www.stihi.ru/pics/2002/10/14-443.jpg&amp;rpt=simage" TargetMode="External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noreask=1&amp;lr=10664&amp;ed=1&amp;text=&#1092;&#1086;&#1090;&#1086;%20&#1052;&#1055;&#1042;&#1054;&amp;img_url=i024.radikal.ru/0801/ff/136815b13b61.jpg&amp;rpt=simage&amp;p=13" TargetMode="External"/><Relationship Id="rId2" Type="http://schemas.openxmlformats.org/officeDocument/2006/relationships/hyperlink" Target="http://images.yandex.ru/yandsearch?noreask=1&amp;lr=10664&amp;ed=1&amp;text=&#1092;&#1086;&#1090;&#1086;%20&#1052;&#1055;&#1042;&#1054;&amp;img_url=www.phalara.ru/falera/offer/260-u.jpg&amp;rpt=simage&amp;p=29" TargetMode="External"/><Relationship Id="rId3" Type="http://schemas.openxmlformats.org/officeDocument/2006/relationships/hyperlink" Target="http://images.yandex.ru/yandsearch?text=&#1092;&#1086;&#1090;&#1086;%20&#1096;&#1086;&#1081;&#1075;&#1091;&amp;rpt=simage&amp;img_url=kp.ru/f/12/image/91/22/1752291.jpg&amp;noreask=1&amp;lr=10664&amp;p=8" TargetMode="External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280" y="1214280"/>
            <a:ext cx="7086600" cy="15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Arial"/>
              </a:rPr>
              <a:t>Способы защиты населения в ЧС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55280" y="3929040"/>
            <a:ext cx="70866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р разработк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подаватель-организатор ОБ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БОУ ООШ №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род Ковров Владимирская обла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хова Ирина Юрь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857160" y="3429000"/>
            <a:ext cx="2071800" cy="294012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click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Фотоархи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405080" y="1571760"/>
            <a:ext cx="6333840" cy="4924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click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Фотоархи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rcRect l="0" t="-333" r="0" b="0"/>
          <a:stretch/>
        </p:blipFill>
        <p:spPr>
          <a:xfrm>
            <a:off x="866880" y="1643040"/>
            <a:ext cx="3705120" cy="4789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5000760" y="1714680"/>
            <a:ext cx="3500280" cy="466704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3" name="click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чи в области защиты населения от Ч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СЧ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овещение населения о Ч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ка нормативных актов и законов в области защиты насе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квидация последствий Ч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казание гуманитарной помощ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ение населения способам защиты от оружия массового пора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держание в готовности сил и средств 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оставление СИЗ и КС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ганизация и проведение эваку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1" name="click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ЧС Росс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85840" y="1523880"/>
            <a:ext cx="3929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инистерство РФ по делам ГО, ЧС и ликвидации последствий стихийных бедств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7 декабря 1990 год – дата создания МЧ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17 апреля 1991 года руководит МЧС РФ Сергей Шойг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4572000" y="2214720"/>
            <a:ext cx="4357800" cy="343980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click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ни приходят на помощ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973080" y="1643040"/>
            <a:ext cx="7197840" cy="4191120"/>
          </a:xfrm>
          <a:prstGeom prst="rect">
            <a:avLst/>
          </a:prstGeom>
          <a:ln w="0">
            <a:noFill/>
          </a:ln>
        </p:spPr>
      </p:pic>
      <p:sp>
        <p:nvSpPr>
          <p:cNvPr id="138" name="TextBox 6"/>
          <p:cNvSpPr/>
          <p:nvPr/>
        </p:nvSpPr>
        <p:spPr>
          <a:xfrm>
            <a:off x="3000240" y="6286680"/>
            <a:ext cx="31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Собаки – спасате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2" name="click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ероические люд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785880" y="1571760"/>
            <a:ext cx="3343320" cy="5029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4357800" y="2643120"/>
            <a:ext cx="4573440" cy="300060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3" name="click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пасение на вода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946080" y="1571760"/>
            <a:ext cx="7251840" cy="4830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click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дорожно-транспортных происшествия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1071720" y="1714680"/>
            <a:ext cx="7350120" cy="469080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click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овещение населения о Ч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первые месяцы блокады на улицах Ленинграда было установлено 1500 громкоговорителей. Радиосеть несла информацию для населения о налетах и воздушной тревоге. Знаменитый метроном, вошедший в историю блокады Ленинграда как культурный памятник сопротивлению населения, транслировался во время налетов именно через эту сеть. Быстрый ритм означал воздушную тревогу, медленный ритм — отб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1" name="click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овестить – значит предупреди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988 год – разработаны локальные системы оповещения об опас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нят единый сигнал оповещения о ЧС «Внимание всем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2890800" y="3643200"/>
            <a:ext cx="3362400" cy="304020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click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нятие Ч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С – это опасная обстановка на определенной территории, возникшая в результате стихийного бедствия или производственной аварии, которая может повлечь или повлекла за собой человеческие жертвы, ущерб здоровью людей или окружающей природной сре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1" name="click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427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рядок действий по сигналу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Внимание всем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571680" y="2857680"/>
            <a:ext cx="2435040" cy="2214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"/>
          <p:cNvPicPr/>
          <p:nvPr/>
        </p:nvPicPr>
        <p:blipFill>
          <a:blip r:embed="rId2"/>
          <a:stretch/>
        </p:blipFill>
        <p:spPr>
          <a:xfrm>
            <a:off x="3857760" y="1500120"/>
            <a:ext cx="2357280" cy="235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"/>
          <p:cNvPicPr/>
          <p:nvPr/>
        </p:nvPicPr>
        <p:blipFill>
          <a:blip r:embed="rId3"/>
          <a:stretch/>
        </p:blipFill>
        <p:spPr>
          <a:xfrm>
            <a:off x="4929120" y="4143240"/>
            <a:ext cx="3814920" cy="25401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6"/>
          <p:cNvSpPr/>
          <p:nvPr/>
        </p:nvSpPr>
        <p:spPr>
          <a:xfrm>
            <a:off x="214200" y="2000160"/>
            <a:ext cx="307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Завывание сирен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удков предпри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6652440" y="1928880"/>
            <a:ext cx="238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Включить ради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ли телевиз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857160" y="5572080"/>
            <a:ext cx="3589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Прослушать информа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выполнить предлож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Выгнутая вниз стрелка 9"/>
          <p:cNvSpPr/>
          <p:nvPr/>
        </p:nvSpPr>
        <p:spPr>
          <a:xfrm>
            <a:off x="3000240" y="3929040"/>
            <a:ext cx="1571760" cy="714240"/>
          </a:xfrm>
          <a:custGeom>
            <a:avLst/>
            <a:gdLst>
              <a:gd name="textAreaLeft" fmla="*/ 325800 w 1571760"/>
              <a:gd name="textAreaRight" fmla="*/ 1156680 w 1571760"/>
              <a:gd name="textAreaTop" fmla="*/ 95400 h 714240"/>
              <a:gd name="textAreaBottom" fmla="*/ 61884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59" hR="21600" stAng="10800000" swAng="-5400000"/>
                <a:lnTo>
                  <a:pt x="11414" y="21600"/>
                </a:lnTo>
                <a:arcTo wR="8959" hR="21600" stAng="5400000" swAng="-3485831"/>
                <a:lnTo>
                  <a:pt x="21316" y="5400"/>
                </a:lnTo>
                <a:lnTo>
                  <a:pt x="19146" y="0"/>
                </a:lnTo>
                <a:lnTo>
                  <a:pt x="16407" y="5400"/>
                </a:lnTo>
                <a:lnTo>
                  <a:pt x="17634" y="5400"/>
                </a:lnTo>
                <a:arcTo wR="8959" hR="21600" stAng="1914169" swAng="3288825"/>
                <a:lnTo>
                  <a:pt x="10187" y="21396"/>
                </a:lnTo>
                <a:arcTo wR="8959" hR="21600" stAng="5597007" swAng="5202993"/>
                <a:close/>
              </a:path>
              <a:path fill="darkenLess" w="21600" h="21600">
                <a:moveTo>
                  <a:pt x="0" y="0"/>
                </a:moveTo>
                <a:arcTo wR="8959" hR="21600" stAng="10800000" swAng="-5400000"/>
                <a:lnTo>
                  <a:pt x="11414" y="21600"/>
                </a:lnTo>
                <a:arcTo wR="8959" hR="21600" stAng="5400000" swAng="197007"/>
                <a:lnTo>
                  <a:pt x="10187" y="21396"/>
                </a:lnTo>
                <a:arcTo wR="8959" hR="21600" stAng="5597007" swAng="5202993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Выгнутая вверх стрелка 10"/>
          <p:cNvSpPr/>
          <p:nvPr/>
        </p:nvSpPr>
        <p:spPr>
          <a:xfrm>
            <a:off x="6215040" y="3071880"/>
            <a:ext cx="1643040" cy="785880"/>
          </a:xfrm>
          <a:custGeom>
            <a:avLst/>
            <a:gdLst>
              <a:gd name="textAreaLeft" fmla="*/ 336960 w 1643040"/>
              <a:gd name="textAreaRight" fmla="*/ 1207800 w 1643040"/>
              <a:gd name="textAreaTop" fmla="*/ 105120 h 785880"/>
              <a:gd name="textAreaBottom" fmla="*/ 680760 h 785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63" hR="21600" stAng="10800000" swAng="5400000"/>
                <a:lnTo>
                  <a:pt x="11446" y="0"/>
                </a:lnTo>
                <a:arcTo wR="8863" hR="21600" stAng="-5400000" swAng="3469176"/>
                <a:lnTo>
                  <a:pt x="21319" y="16200"/>
                </a:lnTo>
                <a:lnTo>
                  <a:pt x="19018" y="21600"/>
                </a:lnTo>
                <a:lnTo>
                  <a:pt x="16154" y="16200"/>
                </a:lnTo>
                <a:lnTo>
                  <a:pt x="17445" y="16200"/>
                </a:lnTo>
                <a:arcTo wR="8863" hR="21600" stAng="-1930824" swAng="-3261662"/>
                <a:lnTo>
                  <a:pt x="10155" y="231"/>
                </a:lnTo>
                <a:arcTo wR="8863" hR="21600" stAng="-5607514" swAng="-5192486"/>
                <a:close/>
              </a:path>
              <a:path fill="darkenLess" w="21600" h="21600">
                <a:moveTo>
                  <a:pt x="0" y="21600"/>
                </a:moveTo>
                <a:arcTo wR="8863" hR="21600" stAng="10800000" swAng="5400000"/>
                <a:lnTo>
                  <a:pt x="8863" y="0"/>
                </a:lnTo>
                <a:arcTo wR="8863" hR="21600" stAng="-5400000" swAng="207514"/>
                <a:lnTo>
                  <a:pt x="10155" y="231"/>
                </a:lnTo>
                <a:arcTo wR="8863" hR="21600" stAng="-5607514" swAng="-5192486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4" name="click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пособы защиты населения в Ч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523880"/>
            <a:ext cx="8153280" cy="51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ваку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рассредоточени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едства индивидуальной защи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органов дыхания и кож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едства коллективной защиты (убежища, ПРУ и простейшие укрыт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2" name="Прямая со стрелкой 8"/>
          <p:cNvCxnSpPr/>
          <p:nvPr/>
        </p:nvCxnSpPr>
        <p:spPr>
          <a:xfrm flipH="1">
            <a:off x="5000400" y="1499760"/>
            <a:ext cx="2160" cy="786600"/>
          </a:xfrm>
          <a:prstGeom prst="straightConnector1">
            <a:avLst/>
          </a:prstGeom>
          <a:ln w="5724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163" name="Прямая со стрелкой 10"/>
          <p:cNvCxnSpPr/>
          <p:nvPr/>
        </p:nvCxnSpPr>
        <p:spPr>
          <a:xfrm flipH="1">
            <a:off x="2855160" y="1500120"/>
            <a:ext cx="2520" cy="2502720"/>
          </a:xfrm>
          <a:prstGeom prst="straightConnector1">
            <a:avLst/>
          </a:prstGeom>
          <a:ln w="5724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164" name="Прямая со стрелкой 12"/>
          <p:cNvCxnSpPr/>
          <p:nvPr/>
        </p:nvCxnSpPr>
        <p:spPr>
          <a:xfrm flipH="1">
            <a:off x="1355400" y="1500120"/>
            <a:ext cx="2160" cy="4217040"/>
          </a:xfrm>
          <a:prstGeom prst="straightConnector1">
            <a:avLst/>
          </a:prstGeom>
          <a:ln w="57240">
            <a:solidFill>
              <a:srgbClr val="00cc98"/>
            </a:solidFill>
            <a:miter/>
            <a:tailEnd len="med" type="arrow" w="med"/>
          </a:ln>
        </p:spPr>
      </p:cxnSp>
    </p:spTree>
  </p:cSld>
  <p:transition spd="slow">
    <p:wedge/>
    <p:sndAc>
      <p:stSnd>
        <p:snd r:embed="rId1" name="click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едства индивидуальной защи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рганов дых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ж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295200" y="2720880"/>
            <a:ext cx="4087800" cy="30654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2"/>
          <a:stretch/>
        </p:blipFill>
        <p:spPr>
          <a:xfrm>
            <a:off x="6357960" y="2286000"/>
            <a:ext cx="1560600" cy="42498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10"/>
          <p:cNvSpPr/>
          <p:nvPr/>
        </p:nvSpPr>
        <p:spPr>
          <a:xfrm>
            <a:off x="1785960" y="621504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ГП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1"/>
          <p:cNvSpPr/>
          <p:nvPr/>
        </p:nvSpPr>
        <p:spPr>
          <a:xfrm>
            <a:off x="5433120" y="421488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ОЗ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Прямая со стрелкой 17"/>
          <p:cNvCxnSpPr/>
          <p:nvPr/>
        </p:nvCxnSpPr>
        <p:spPr>
          <a:xfrm flipH="1">
            <a:off x="2069280" y="1356840"/>
            <a:ext cx="2520" cy="429480"/>
          </a:xfrm>
          <a:prstGeom prst="straightConnector1">
            <a:avLst/>
          </a:prstGeom>
          <a:ln w="5724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173" name="Прямая со стрелкой 19"/>
          <p:cNvCxnSpPr/>
          <p:nvPr/>
        </p:nvCxnSpPr>
        <p:spPr>
          <a:xfrm flipH="1">
            <a:off x="7071480" y="1356840"/>
            <a:ext cx="2520" cy="429480"/>
          </a:xfrm>
          <a:prstGeom prst="straightConnector1">
            <a:avLst/>
          </a:prstGeom>
          <a:ln w="57240">
            <a:solidFill>
              <a:srgbClr val="00cc98"/>
            </a:solidFill>
            <a:miter/>
            <a:tailEnd len="med" type="arrow" w="med"/>
          </a:ln>
        </p:spPr>
      </p:cxnSp>
    </p:spTree>
  </p:cSld>
  <p:transition spd="slow">
    <p:wedge/>
    <p:sndAc>
      <p:stSnd>
        <p:snd r:embed="rId3" name="click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ды противогаз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ьтрующ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олирующ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576360" y="2174760"/>
            <a:ext cx="3801960" cy="3951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"/>
          <p:cNvPicPr/>
          <p:nvPr/>
        </p:nvPicPr>
        <p:blipFill>
          <a:blip r:embed="rId2"/>
          <a:stretch/>
        </p:blipFill>
        <p:spPr>
          <a:xfrm>
            <a:off x="4757760" y="2643120"/>
            <a:ext cx="4091040" cy="300060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3" name="click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стройство ГП-5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(Гражданский противогаз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440" y="2143080"/>
            <a:ext cx="38862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ильтрующе-поглощающая короб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лапанная короб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лем-маска с очк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rcRect l="0" t="-1260" r="0" b="0"/>
          <a:stretch/>
        </p:blipFill>
        <p:spPr>
          <a:xfrm>
            <a:off x="5429160" y="1500120"/>
            <a:ext cx="3357720" cy="5100840"/>
          </a:xfrm>
          <a:prstGeom prst="rect">
            <a:avLst/>
          </a:prstGeom>
          <a:ln w="0">
            <a:noFill/>
          </a:ln>
        </p:spPr>
      </p:pic>
      <p:cxnSp>
        <p:nvCxnSpPr>
          <p:cNvPr id="182" name="Прямая со стрелкой 11"/>
          <p:cNvCxnSpPr/>
          <p:nvPr/>
        </p:nvCxnSpPr>
        <p:spPr>
          <a:xfrm>
            <a:off x="3785040" y="2642760"/>
            <a:ext cx="3143880" cy="3358440"/>
          </a:xfrm>
          <a:prstGeom prst="straightConnector1">
            <a:avLst/>
          </a:prstGeom>
          <a:ln w="5724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183" name="Прямая со стрелкой 13"/>
          <p:cNvCxnSpPr/>
          <p:nvPr/>
        </p:nvCxnSpPr>
        <p:spPr>
          <a:xfrm>
            <a:off x="3214440" y="4000320"/>
            <a:ext cx="3786840" cy="1215000"/>
          </a:xfrm>
          <a:prstGeom prst="straightConnector1">
            <a:avLst/>
          </a:prstGeom>
          <a:ln w="57240">
            <a:solidFill>
              <a:srgbClr val="00cc99"/>
            </a:solidFill>
            <a:miter/>
            <a:tailEnd len="med" type="arrow" w="med"/>
          </a:ln>
        </p:spPr>
      </p:cxnSp>
      <p:cxnSp>
        <p:nvCxnSpPr>
          <p:cNvPr id="184" name="Прямая со стрелкой 15"/>
          <p:cNvCxnSpPr/>
          <p:nvPr/>
        </p:nvCxnSpPr>
        <p:spPr>
          <a:xfrm flipV="1">
            <a:off x="3785760" y="3214440"/>
            <a:ext cx="3001320" cy="1715040"/>
          </a:xfrm>
          <a:prstGeom prst="straightConnector1">
            <a:avLst/>
          </a:prstGeom>
          <a:ln w="57240">
            <a:solidFill>
              <a:srgbClr val="00cc98"/>
            </a:solidFill>
            <a:miter/>
            <a:tailEnd len="med" type="arrow" w="med"/>
          </a:ln>
        </p:spPr>
      </p:cxnSp>
    </p:spTree>
  </p:cSld>
  <p:transition spd="slow">
    <p:wedge/>
    <p:sndAc>
      <p:stSnd>
        <p:snd r:embed="rId2" name="click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дбор размера ГП-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214200" y="2286000"/>
            <a:ext cx="1928880" cy="3056040"/>
          </a:xfrm>
          <a:prstGeom prst="rect">
            <a:avLst/>
          </a:prstGeom>
          <a:ln w="0">
            <a:noFill/>
          </a:ln>
        </p:spPr>
      </p:pic>
      <p:sp>
        <p:nvSpPr>
          <p:cNvPr id="187" name="TextBox 7"/>
          <p:cNvSpPr/>
          <p:nvPr/>
        </p:nvSpPr>
        <p:spPr>
          <a:xfrm>
            <a:off x="2143080" y="178596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1. Измерь вертикальный охват голо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8"/>
          <p:cNvSpPr/>
          <p:nvPr/>
        </p:nvSpPr>
        <p:spPr>
          <a:xfrm>
            <a:off x="2214720" y="2786040"/>
            <a:ext cx="63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2. Сравни измерение с данными в табл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571840" y="3429000"/>
          <a:ext cx="6095880" cy="249408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чина измерения (с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18720">
                      <a:solidFill>
                        <a:srgbClr val="c0c0c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буемый размер шлем-мас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18720">
                      <a:solidFill>
                        <a:srgbClr val="c0c0c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6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1872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1872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63,5 до 6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66 до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68,5 до 7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 7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190" name="Выгнутая вправо стрелка 11"/>
          <p:cNvSpPr/>
          <p:nvPr/>
        </p:nvSpPr>
        <p:spPr>
          <a:xfrm>
            <a:off x="8572680" y="2071800"/>
            <a:ext cx="357120" cy="1000080"/>
          </a:xfrm>
          <a:custGeom>
            <a:avLst/>
            <a:gdLst>
              <a:gd name="textAreaLeft" fmla="*/ 47880 w 357120"/>
              <a:gd name="textAreaRight" fmla="*/ 309240 w 357120"/>
              <a:gd name="textAreaTop" fmla="*/ 216360 h 1000080"/>
              <a:gd name="textAreaBottom" fmla="*/ 73908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354" stAng="-5400000" swAng="5400000"/>
                <a:lnTo>
                  <a:pt x="21600" y="11283"/>
                </a:lnTo>
                <a:arcTo wR="21600" hR="9354" stAng="0" swAng="3551650"/>
                <a:lnTo>
                  <a:pt x="5400" y="21303"/>
                </a:lnTo>
                <a:lnTo>
                  <a:pt x="0" y="19672"/>
                </a:lnTo>
                <a:lnTo>
                  <a:pt x="5400" y="17446"/>
                </a:lnTo>
                <a:lnTo>
                  <a:pt x="5400" y="18410"/>
                </a:lnTo>
                <a:arcTo wR="21600" hR="9354" stAng="3551650" swAng="-3397426"/>
                <a:lnTo>
                  <a:pt x="21485" y="10318"/>
                </a:lnTo>
                <a:arcTo wR="21600" hR="9354" stAng="-154224" swAng="-5245776"/>
                <a:close/>
              </a:path>
              <a:path fill="darkenLess" w="21600" h="21600">
                <a:moveTo>
                  <a:pt x="0" y="0"/>
                </a:moveTo>
                <a:arcTo wR="21600" hR="9354" stAng="-5400000" swAng="5400000"/>
                <a:lnTo>
                  <a:pt x="21600" y="11283"/>
                </a:lnTo>
                <a:arcTo wR="21600" hR="9354" stAng="0" swAng="-154224"/>
                <a:lnTo>
                  <a:pt x="21485" y="10318"/>
                </a:lnTo>
                <a:arcTo wR="21600" hR="9354" stAng="-154224" swAng="-5245776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2" name="click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спользуемые ресурс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images.yandex.ru/yandsearch?noreask=1&amp;lr=10664&amp;ed=1&amp;text=%D0%BA%D0%B0%D1%80%D1%82%D0%B8%D0%BD%D0%BA%D0%B0%20%D0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пожа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images.yandex.ru/yandsearch?text=%D0%BA%D0%B0%D1%80%D1%82%D0%B8%D0%BD%D0%BA%D0%B0%20%D1%81%D0%BC%D0%B5%D1%80%D1%87&amp;rpt=simage&amp;p=1&amp;img_url=www.oceanographers.ru%2Fmypict%2Fart%2Fbond20.jpg&amp;noreask=1&amp;lr=10664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смерч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images.yandex.ru/yandsearch?noreask=1&amp;lr=10664&amp;ed=1&amp;text=%D0%BA%D0%B0%D1%80%D1%82%D0%B8%D0%BD%D0%BA%D0%B8%20%D1%8D%D0%BA%D0%BE%D0%BB%D0%BE%D0%B3%D0%B8%D1%87%D0%B5%D1%81%D0%BA%D0%B8%D1%85%20%D0%BF%D1%80%D0%BE%D0%B1%D0%BB%D0%B5%D0%BC&amp;p=89&amp;img_url=m001.bcm.ru%2F1151%2F2a0ed991-6537-4b2e-a645-691285400b3a.jpg&amp;rpt=simage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эколог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images.yandex.ru/yandsearch?text=%D1%8D%D0%BC%D0%B1%D0%BB%D0%B5%D0%BC%D0%B0%20%D0%BC%D1%87%D1%81&amp;rpt=simage&amp;p=3&amp;img_url=www.goldenkorona.ru%2Fpic%2Femblema_53.gif&amp;noreask=1&amp;lr=10664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эмблема МЧ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images.yandex.ru/yandsearch?noreask=1&amp;lr=10664&amp;ed=1&amp;text=%D0%BA%D0%B0%D1%80%D1%82%D0%B8%D0%BD%D0%BA%D0%B0%20%D1%82%D0%B5%D1%80%D0%B0%D0%BA%D1%82&amp;img_url=cred-fin.ru%2F_ph%2F6%2F219962749.jpg&amp;rpt=simage&amp;p=3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терак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http://images.yandex.ru/yandsearch?noreask=1&amp;lr=10664&amp;ed=1&amp;text=%D1%84%D0%BE%D1%82%D0%BE%20%D0%9C%D0%9F%D0%92%D0%9E&amp;p=0&amp;img_url=www.stihi.ru%2Fpics%2F2002%2F10%2F14-443.jpg&amp;rpt=simage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бойцы МПВ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7" name="click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спользуемые ресурс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images.yandex.ru/yandsearch?noreask=1&amp;lr=10664&amp;ed=1&amp;text=%D1%84%D0%BE%D1%82%D0%BE%20%D0%9C%D0%9F%D0%92%D0%9E&amp;img_url=i024.radikal.ru%2F0801%2Fff%2F136815b13b61.jpg&amp;rpt=simage&amp;p=1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пропус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images.yandex.ru/yandsearch?noreask=1&amp;lr=10664&amp;ed=1&amp;text=%D1%84%D0%BE%D1%82%D0%BE%20%D0%9C%D0%9F%D0%92%D0%9E&amp;img_url=www.phalara.ru%2Ffalera%2Foffer%2F260-u.jpg&amp;rpt=simage&amp;p=29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зна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images.yandex.ru/yandsearch?text=%D1%84%D0%BE%D1%82%D0%BE%20%D1%88%D0%BE%D0%B9%D0%B3%D1%83&amp;rpt=simage&amp;img_url=kp.ru%2Ff%2F12%2Fimage%2F91%2F22%2F1752291.jpg&amp;noreask=1&amp;lr=10664&amp;p=8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Шойг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http://images.yandex.ru/yandsearch?noreask=1&amp;lr=10664&amp;ed=1&amp;text=%D1%84%D0%BE%D1%82%D0%BE%20%D1%81%D0%BF%D0%B0%D1%81%D0%B0%D1%82%D0%B5%D0%BB%D0%B5%D0%B9&amp;img_url=s61.radikal.ru%2Fi173%2F1001%2F0b%2F9f9304bccc00.jpg&amp;rpt=simage&amp;p=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спасател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http://images.yandex.ru/yandsearch?rpt=simage&amp;img_url=3.static.slando.com%2Fphotos%2Flive%2F37%2Fkostyumy_kzs_ozk_l_1_24953337_2_F.jpg&amp;ed=1&amp;text=%D0%BA%D0%B0%D1%80%D1%82%D0%B8%D0%BD%D0%BA%D0%B0%20%D0%9E%D0%97%D0%9A&amp;p=4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СИЗ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http://images.yandex.ru/yandsearch?p=15&amp;text=%D0%BA%D0%B0%D1%80%D1%82%D0%B8%D0%BD%D0%BA%D0%B0%20%D0%A1%D0%B8%D1%80%D0%B5%D0%BD%D0%B0%20%D0%BF%D1%80%D0%B5%D0%B4%D0%BF%D1%80%D0%B8%D1%8F%D1%82%D0%B8%D1%8F&amp;noreask=1&amp;img_url=www.bezformata.ru%2Fcontent%2FImages%2F000%2F003%2F902%2Fimage3902784.jpg&amp;rpt=simage&amp;lr=192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сире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4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Характер Ч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С мирного време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С военного време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оветский Союз потерял во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Мировой войне убитыми 20,6 млн. человек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 в том числе (в млн.)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гибшими и пропавшими без вести — 8,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ершими от ран — 2,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гибшими в плену — 2,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ажданского населения – 7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1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лассификация ЧС мирного време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4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С природного происхожд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285840" y="62866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Причина: опасные природные я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714680" y="228600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click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лассификация ЧС мирного време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С техногенного характ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1143000" y="6286680"/>
            <a:ext cx="70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Причина: производственные катастроф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928880" y="2357280"/>
            <a:ext cx="5048280" cy="3786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click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лассификация ЧС мирного време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1071720" y="1571760"/>
            <a:ext cx="623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Arial"/>
              </a:rPr>
              <a:t>ЧС экологического харак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357200" y="6357960"/>
            <a:ext cx="721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Причина: нарушение экологического балан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987560" y="2143080"/>
            <a:ext cx="5168880" cy="4133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click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лассификация ЧС мирного време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С социального характ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28840" y="6357960"/>
            <a:ext cx="63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Межэтнические конфликты, тера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577880" y="2286000"/>
            <a:ext cx="5988240" cy="392904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click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з истор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оугольник 3"/>
          <p:cNvSpPr/>
          <p:nvPr/>
        </p:nvSpPr>
        <p:spPr>
          <a:xfrm>
            <a:off x="714240" y="1571760"/>
            <a:ext cx="3143520" cy="22860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ПВО (1918-19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Противовоздушная обо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5286240" y="1571760"/>
            <a:ext cx="3571920" cy="22860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МПВО (1932-196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Местная противовоздушная обо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5"/>
          <p:cNvSpPr/>
          <p:nvPr/>
        </p:nvSpPr>
        <p:spPr>
          <a:xfrm>
            <a:off x="5286240" y="4286160"/>
            <a:ext cx="3557880" cy="22860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ГО (196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Гражданская обо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6"/>
          <p:cNvSpPr/>
          <p:nvPr/>
        </p:nvSpPr>
        <p:spPr>
          <a:xfrm>
            <a:off x="714240" y="4286160"/>
            <a:ext cx="3143520" cy="22860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РСЧС (199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Единая государственная система предупреждения и ликвидации Ч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Прямая со стрелкой 8"/>
          <p:cNvCxnSpPr>
            <a:stCxn id="109" idx="3"/>
            <a:endCxn id="110" idx="1"/>
          </p:cNvCxnSpPr>
          <p:nvPr/>
        </p:nvCxnSpPr>
        <p:spPr>
          <a:xfrm>
            <a:off x="3857760" y="2714760"/>
            <a:ext cx="1429200" cy="2160"/>
          </a:xfrm>
          <a:prstGeom prst="straightConnector1">
            <a:avLst/>
          </a:prstGeom>
          <a:ln w="5724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114" name="Прямая со стрелкой 12"/>
          <p:cNvCxnSpPr>
            <a:stCxn id="110" idx="2"/>
            <a:endCxn id="111" idx="0"/>
          </p:cNvCxnSpPr>
          <p:nvPr/>
        </p:nvCxnSpPr>
        <p:spPr>
          <a:xfrm flipH="1">
            <a:off x="7065360" y="3857760"/>
            <a:ext cx="6840" cy="429120"/>
          </a:xfrm>
          <a:prstGeom prst="straightConnector1">
            <a:avLst/>
          </a:prstGeom>
          <a:ln w="5724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115" name="Прямая со стрелкой 14"/>
          <p:cNvCxnSpPr>
            <a:stCxn id="111" idx="1"/>
            <a:endCxn id="112" idx="3"/>
          </p:cNvCxnSpPr>
          <p:nvPr/>
        </p:nvCxnSpPr>
        <p:spPr>
          <a:xfrm flipH="1" flipV="1">
            <a:off x="3857400" y="5428440"/>
            <a:ext cx="1429200" cy="2520"/>
          </a:xfrm>
          <a:prstGeom prst="straightConnector1">
            <a:avLst/>
          </a:prstGeom>
          <a:ln w="57240">
            <a:solidFill>
              <a:srgbClr val="00cc98"/>
            </a:solidFill>
            <a:miter/>
            <a:tailEnd len="med" type="arrow" w="med"/>
          </a:ln>
        </p:spPr>
      </p:cxnSp>
    </p:spTree>
  </p:cSld>
  <p:transition spd="slow">
    <p:wedge/>
    <p:sndAc>
      <p:stSnd>
        <p:snd r:embed="rId1" name="click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Фотоархи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714240" y="1500120"/>
            <a:ext cx="4429440" cy="31482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4"/>
          <p:cNvSpPr/>
          <p:nvPr/>
        </p:nvSpPr>
        <p:spPr>
          <a:xfrm>
            <a:off x="714240" y="528624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Бойцы МП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3786120" y="3354480"/>
            <a:ext cx="5095800" cy="3152520"/>
          </a:xfrm>
          <a:prstGeom prst="rect">
            <a:avLst/>
          </a:prstGeom>
          <a:ln w="0">
            <a:noFill/>
          </a:ln>
        </p:spPr>
      </p:pic>
      <p:sp>
        <p:nvSpPr>
          <p:cNvPr id="121" name="TextBox 6"/>
          <p:cNvSpPr/>
          <p:nvPr/>
        </p:nvSpPr>
        <p:spPr>
          <a:xfrm>
            <a:off x="6500880" y="278604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1943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3" name="click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5:37:36Z</dcterms:created>
  <dc:creator>DNA7 X86</dc:creator>
  <dc:description/>
  <dc:language>en-US</dc:language>
  <cp:lastModifiedBy>DNA7 X86</cp:lastModifiedBy>
  <dcterms:modified xsi:type="dcterms:W3CDTF">2012-03-14T11:46:45Z</dcterms:modified>
  <cp:revision>32</cp:revision>
  <dc:subject/>
  <dc:title>Способы защиты населения в ЧС</dc:title>
</cp:coreProperties>
</file>