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2224-1AF5-4832-BBFB-AB37E09E1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EC0A-E9E2-4239-9A3D-F9B78252B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A489-D920-4C22-AE0E-E81EAFE50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BB8F-BECB-4949-B772-625EB5E83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180FC-1751-4132-BA47-36082C0A8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69EA8-3525-4164-AC4D-02E5EC39A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24181-93B7-4C07-BCF7-559263F27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4C81B-875A-4019-ADB7-C3C293F43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C5752-0343-4822-A9D2-A89F75809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8C221-8D2C-4EA6-A1C6-D9028A5FF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6CA15-D200-42D0-9D03-A7C38A257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E89E-4A47-4D81-A8E8-0C0630A80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52BA8-47BF-4088-93E7-A79EC76AF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895FF-C56E-4761-B747-622CFE62F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DBF77-9E5A-4267-AAB0-6A80E7D71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2E00C-2A9E-487F-9289-D0C5303D4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87EC2-B189-4BE7-84E6-3744260BA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C03D-94C2-48DB-A530-AB3C72DC4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F5F9-08EC-4C10-B6E2-AE9CCA823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886C-8422-4CE2-8421-7F04EDC7B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8DCB-F539-40BC-BC67-3153176BB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F5D3-FF28-4527-B886-C3A6F531C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6A47-9FA6-4B7A-B0D0-916BC19FE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E8E1-A25E-4122-ABFD-72C2FF11E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9E786-6646-4D7F-B5A7-2FA0CDAC182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11767-05AF-4E03-A2F6-E76D95306C3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11280" y="765000"/>
            <a:ext cx="806436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ffffff"/>
                </a:solidFill>
                <a:latin typeface="Times New Roman"/>
              </a:rPr>
              <a:t>Структура теоремы. Виды теорем.</a:t>
            </a:r>
            <a:endParaRPr b="0" lang="en-US" sz="10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11280" y="404640"/>
            <a:ext cx="799308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А: «углы вертикальные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В: «углы равны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А 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Arial"/>
              </a:rPr>
              <a:t>═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Arial"/>
              </a:rPr>
              <a:t>&gt;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Arial"/>
              </a:rPr>
              <a:t> В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Arial"/>
              </a:rPr>
              <a:t>В 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═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 А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А ═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 В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В ═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 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635280" y="4581360"/>
            <a:ext cx="505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003640" y="4508640"/>
            <a:ext cx="505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635280" y="5516640"/>
            <a:ext cx="505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076720" y="5589720"/>
            <a:ext cx="505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341360"/>
            <a:ext cx="89647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Теорема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– высказывание о том, что свойства А следует свойство В. Истинность этого высказывания устанавливается путем доказательства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468360" y="333360"/>
            <a:ext cx="8351640" cy="64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Виды теорем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1. </a:t>
            </a: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А ═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 В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  теорем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В ═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 А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  обратная теорем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3. </a:t>
            </a: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А ═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 В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 противоположная                                      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теорем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4. </a:t>
            </a: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В ═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 А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  обратная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противоположная теорем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403280" y="249228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843280" y="249228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403280" y="378936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843280" y="386064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84360" y="1916280"/>
            <a:ext cx="76327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Закон контрапозици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А ═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&gt;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 В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&lt;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═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&gt;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В ═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&gt;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 А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76720" y="2997360"/>
            <a:ext cx="432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516720" y="2997360"/>
            <a:ext cx="431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50920" y="765000"/>
            <a:ext cx="867564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Сформулировать все виды теорем для теоремы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4400" spc="-1" strike="noStrike">
                <a:solidFill>
                  <a:srgbClr val="ffffff"/>
                </a:solidFill>
                <a:latin typeface="Times New Roman"/>
              </a:rPr>
              <a:t>«Если число оканчивается чётной цифрой, то оно делится на 2»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Times New Roman"/>
              </a:rPr>
              <a:t>«Если углы смежные, то они в сумме составляют 180</a:t>
            </a: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Arial"/>
              </a:rPr>
              <a:t>°</a:t>
            </a:r>
            <a:r>
              <a:rPr b="0" i="1" lang="ru-RU" sz="4400" spc="-1" strike="noStrike">
                <a:solidFill>
                  <a:srgbClr val="ffffff"/>
                </a:solidFill>
                <a:latin typeface="Times New Roman"/>
                <a:ea typeface="Arial"/>
              </a:rPr>
              <a:t>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2T12:07:38Z</dcterms:created>
  <dc:creator>Admin</dc:creator>
  <dc:description/>
  <dc:language>en-US</dc:language>
  <cp:lastModifiedBy>Admin</cp:lastModifiedBy>
  <dcterms:modified xsi:type="dcterms:W3CDTF">2012-03-13T05:52:05Z</dcterms:modified>
  <cp:revision>3</cp:revision>
  <dc:subject/>
  <dc:title>Слайд 1</dc:title>
</cp:coreProperties>
</file>