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F68-7DE9-4569-8AFC-22141A9C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7E8-F85A-4AB7-865C-AFD06436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26D-3903-4BAF-A47D-06CEAFD7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494-B3C7-49B7-BD40-E63C71A4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C34-92CA-40D8-8D47-84184334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75B-F6A1-4E27-9043-B6F918AF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018-638B-4D4D-A850-FE0CD456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8A6-44DE-4C35-86DF-4A6BB4BF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738-B8BF-4635-945A-38C6C4F7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3AA-EE51-48CD-915C-0A8F87D0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DFE-75C1-4B8D-B923-B03274C4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CA0-0A4A-4358-8C21-A209D1AD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d9f1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4DBA-5A7A-413A-8534-DAD3DD9CB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d9f1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ограмма летнего отдыха и оздоровления детей 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«СЕ</a:t>
            </a: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М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6600" spc="-1" strike="noStrike">
                <a:solidFill>
                  <a:srgbClr val="33cc33"/>
                </a:solidFill>
                <a:latin typeface="Arial"/>
              </a:rPr>
              <a:t>ЦВ</a:t>
            </a:r>
            <a:r>
              <a:rPr b="0" lang="en-US" sz="6600" spc="-1" strike="noStrike">
                <a:solidFill>
                  <a:srgbClr val="33ccff"/>
                </a:solidFill>
                <a:latin typeface="Arial"/>
              </a:rPr>
              <a:t>Е</a:t>
            </a:r>
            <a:r>
              <a:rPr b="0" lang="en-US" sz="6600" spc="-1" strike="noStrike">
                <a:solidFill>
                  <a:srgbClr val="0000cc"/>
                </a:solidFill>
                <a:latin typeface="Arial"/>
              </a:rPr>
              <a:t>Т</a:t>
            </a:r>
            <a:r>
              <a:rPr b="0" lang="en-US" sz="6600" spc="-1" strike="noStrike">
                <a:solidFill>
                  <a:srgbClr val="9933ff"/>
                </a:solidFill>
                <a:latin typeface="Arial"/>
              </a:rPr>
              <a:t>ИК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автор програм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руководитель структур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подразделения «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МОУ «Рождественская средня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d9f1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Цель: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800080"/>
                </a:solidFill>
                <a:latin typeface="Calibri"/>
              </a:rPr>
              <a:t>Создание условий для летнего отдыха и оздоровления детей приоритетных категорий, не посещающих детский сад, развития партнерских отношений между детским садом, родителями и социум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d9f1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1. Изучить социальную ситуацию на территории села, выявить семьи, нуждающиеся  квалифицированной помощи специалис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2. Организовать услуги дошкольного образования для детей, не посещающих детский сад,  для максимальной реализации их способностей, укрепления физического и психического здоровья, формирования адекватных возрасту способов и средств общения с взрослыми и сверстни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3. Установить соответствие уровня развития детей возрастной норме (диагностирование детей и анкетирование родител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4. Разработать систему развивающих занятий с детьми и рекомендации для родителей и педаг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5. Скоординировать деятельность  детского сада с организациями села по  привлечению  родителей и их детей к участию в мероприятиях програм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d9f1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alibri"/>
              </a:rPr>
              <a:t>Целевая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alibri"/>
              </a:rPr>
              <a:t>Разновозрастная группа детей дошкольного возраста, не посещающих детский сад от 2 до 5 лет. Предпочтение отдается детям приоритетных категор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d9f1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здоровление и развитие детей приоритетных направлений, не посещающих детский сад в летнюю оздоровительную компанию; 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 Выравнивание стартовых возможностей детей из разных социальных слое , предупреждение педагогической запущенности;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 Психолого-педагогическое обеспечение ранней социализации детей;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 Оказание помощи семье в выполнении функции воспитания и развития ребёнка;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- Апробация инновационной модели сопровождения детей, не посещающих детский сад, в условиях социокультурного пространства сельского детского са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0:46:48Z</dcterms:created>
  <dc:creator>Семья</dc:creator>
  <dc:description/>
  <dc:language>en-US</dc:language>
  <cp:lastModifiedBy>Пегушина Е В</cp:lastModifiedBy>
  <dcterms:modified xsi:type="dcterms:W3CDTF">2011-03-15T20:43:21Z</dcterms:modified>
  <cp:revision>9</cp:revision>
  <dc:subject/>
  <dc:title>Слайд 1</dc:title>
</cp:coreProperties>
</file>