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20.gif" ContentType="image/gif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447-4535-4EA9-AA0C-F1EB6D22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688-B276-4A88-B0EF-D79AC455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59D-BC83-4298-85AE-6C0AADC9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7DE-E64A-4469-A12E-DAF76D74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B6CA-2986-4627-A4FF-7C9A60B1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DEC8-8F32-45DD-B827-815AF631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CF14-8C41-4A56-861F-4A9C234E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44EB-8DFD-4236-927F-F50F421D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9D34-C05C-457D-9828-04529EC0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D608-B75B-4D10-A2EB-0F4F2B81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D2A2-6F1B-4843-9553-E1DE5D95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D7F-C72D-4AE1-9926-A360A427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07D2-FC92-400A-AEB2-EA91CA86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D1C6-F507-47E9-B353-B5EF2939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16A6-FA8B-4D5A-A5A5-C5C15E87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0DA8-445E-4286-93EF-92314496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56F8-79DC-42EC-AA78-EEE58496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9F0-8A0A-469B-840C-51EDE32F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E0D-3E7D-43D2-9624-4DDE579B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BEF-5652-4522-BE7D-D6804E6F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8B2-F020-4AED-ADC4-42A4E56E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04F-16A4-4C92-BAF9-8FFA09D5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951-618E-4202-8D43-AE254588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805-BA90-47D9-A1CB-D6BC4A2F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173C-85BA-4A2D-9297-B2E5CDF489F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31A4-EAB3-4FD6-A15D-FB10876440A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Конкурс-разминка               по сказкам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Г.Х. АНДЕРСЕНА</a:t>
            </a:r>
            <a:br>
              <a:rPr sz="4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780000" y="3860640"/>
            <a:ext cx="1944360" cy="2565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588000" y="3860640"/>
            <a:ext cx="1844640" cy="2479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9640" y="3860640"/>
            <a:ext cx="2016360" cy="2592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61488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к звал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естру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диннадца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инцев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з сказки                                       «Дики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лебеди»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4" descr="bafe91fca7a2"/>
          <p:cNvPicPr/>
          <p:nvPr/>
        </p:nvPicPr>
        <p:blipFill>
          <a:blip r:embed="rId1"/>
          <a:stretch/>
        </p:blipFill>
        <p:spPr>
          <a:xfrm>
            <a:off x="4211640" y="1916280"/>
            <a:ext cx="4475160" cy="37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80000" y="1412640"/>
            <a:ext cx="49068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ЭЛИ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408746"/>
          <p:cNvPicPr/>
          <p:nvPr/>
        </p:nvPicPr>
        <p:blipFill>
          <a:blip r:embed="rId1"/>
          <a:stretch/>
        </p:blipFill>
        <p:spPr>
          <a:xfrm>
            <a:off x="539640" y="620640"/>
            <a:ext cx="378468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Вопрос 6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Picture 4" descr="1c88ef7ea624"/>
          <p:cNvPicPr/>
          <p:nvPr/>
        </p:nvPicPr>
        <p:blipFill>
          <a:blip r:embed="rId1"/>
          <a:stretch/>
        </p:blipFill>
        <p:spPr>
          <a:xfrm>
            <a:off x="395280" y="1125360"/>
            <a:ext cx="3797280" cy="4964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43280" y="1844640"/>
            <a:ext cx="396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Какое имя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дал принц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эльфов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Дюймовочке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7280" y="1125360"/>
            <a:ext cx="42591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МАЙ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Picture 3" descr="big4"/>
          <p:cNvPicPr/>
          <p:nvPr/>
        </p:nvPicPr>
        <p:blipFill>
          <a:blip r:embed="rId1"/>
          <a:stretch/>
        </p:blipFill>
        <p:spPr>
          <a:xfrm>
            <a:off x="684360" y="620640"/>
            <a:ext cx="4032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ВОПРОС  7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17672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ем на самом деле был человек, который пас свиней в сказке “Свинопас”?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Содержимое 3" descr="сканирование0009"/>
          <p:cNvPicPr/>
          <p:nvPr/>
        </p:nvPicPr>
        <p:blipFill>
          <a:blip r:embed="rId1"/>
          <a:stretch/>
        </p:blipFill>
        <p:spPr>
          <a:xfrm>
            <a:off x="5160960" y="1484280"/>
            <a:ext cx="380376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326CB466EF2C"/>
          <p:cNvPicPr/>
          <p:nvPr/>
        </p:nvPicPr>
        <p:blipFill>
          <a:blip r:embed="rId2"/>
          <a:stretch/>
        </p:blipFill>
        <p:spPr>
          <a:xfrm>
            <a:off x="5219640" y="4005360"/>
            <a:ext cx="37450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720" y="1699920"/>
            <a:ext cx="4402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ПРИНЦ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Picture 4" descr="8734dab7575808a6634b8a67e8326762"/>
          <p:cNvPicPr/>
          <p:nvPr/>
        </p:nvPicPr>
        <p:blipFill>
          <a:blip r:embed="rId1"/>
          <a:stretch/>
        </p:blipFill>
        <p:spPr>
          <a:xfrm>
            <a:off x="395280" y="620640"/>
            <a:ext cx="43210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4" descr="C:\Users\СтартМастер\Desktop\анимашки во флеш\Бабочки\29.gif"/>
          <p:cNvPicPr/>
          <p:nvPr/>
        </p:nvPicPr>
        <p:blipFill>
          <a:blip r:embed="rId1"/>
          <a:stretch/>
        </p:blipFill>
        <p:spPr>
          <a:xfrm>
            <a:off x="6948360" y="4437000"/>
            <a:ext cx="1400400" cy="1582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116000" y="1052640"/>
            <a:ext cx="6912000" cy="28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Молодцы!</a:t>
            </a:r>
            <a:endParaRPr b="0" lang="en-US" sz="60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Andalus"/>
              </a:rPr>
              <a:t>Как звали смелую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Andalus"/>
              </a:rPr>
              <a:t>девочку из сказки  «Снежная королева»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6" descr="083404fbbdb1170f573fce84b291838c"/>
          <p:cNvPicPr/>
          <p:nvPr/>
        </p:nvPicPr>
        <p:blipFill>
          <a:blip r:embed="rId1"/>
          <a:stretch/>
        </p:blipFill>
        <p:spPr>
          <a:xfrm>
            <a:off x="4643280" y="2205000"/>
            <a:ext cx="40388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43280" y="1628280"/>
            <a:ext cx="40435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Гер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4" descr="9785753301857"/>
          <p:cNvPicPr/>
          <p:nvPr/>
        </p:nvPicPr>
        <p:blipFill>
          <a:blip r:embed="rId1"/>
          <a:stretch/>
        </p:blipFill>
        <p:spPr>
          <a:xfrm>
            <a:off x="826920" y="620640"/>
            <a:ext cx="3961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ВОПРОС 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к называетс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казка о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рабром солдате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ognivo"/>
          <p:cNvPicPr/>
          <p:nvPr/>
        </p:nvPicPr>
        <p:blipFill>
          <a:blip r:embed="rId1"/>
          <a:stretch/>
        </p:blipFill>
        <p:spPr>
          <a:xfrm>
            <a:off x="5081760" y="1600200"/>
            <a:ext cx="3171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88000" y="1628280"/>
            <a:ext cx="3898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ОГНИВ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3" descr="1229700358_e38944d84cb3"/>
          <p:cNvPicPr/>
          <p:nvPr/>
        </p:nvPicPr>
        <p:blipFill>
          <a:blip r:embed="rId1"/>
          <a:stretch/>
        </p:blipFill>
        <p:spPr>
          <a:xfrm>
            <a:off x="468360" y="549360"/>
            <a:ext cx="40068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ВОПРОС 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4" descr="f7"/>
          <p:cNvPicPr/>
          <p:nvPr/>
        </p:nvPicPr>
        <p:blipFill>
          <a:blip r:embed="rId1"/>
          <a:stretch/>
        </p:blipFill>
        <p:spPr>
          <a:xfrm>
            <a:off x="250920" y="1700280"/>
            <a:ext cx="4248000" cy="3801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076720" y="1989000"/>
            <a:ext cx="3382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В кого превратился утёнок?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00720" y="2204640"/>
            <a:ext cx="4186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ЛЕБЕД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3" descr="62686"/>
          <p:cNvPicPr/>
          <p:nvPr/>
        </p:nvPicPr>
        <p:blipFill>
          <a:blip r:embed="rId1"/>
          <a:stretch/>
        </p:blipFill>
        <p:spPr>
          <a:xfrm>
            <a:off x="395280" y="692280"/>
            <a:ext cx="4516560" cy="52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Какой предме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помог королеве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выяснить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настоящая ли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перед не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принцесса?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4" descr="f_4a006c45d5bbb"/>
          <p:cNvPicPr/>
          <p:nvPr/>
        </p:nvPicPr>
        <p:blipFill>
          <a:blip r:embed="rId1"/>
          <a:stretch/>
        </p:blipFill>
        <p:spPr>
          <a:xfrm>
            <a:off x="5292720" y="1484280"/>
            <a:ext cx="3263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ГОРОШИН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4" descr="1819"/>
          <p:cNvPicPr/>
          <p:nvPr/>
        </p:nvPicPr>
        <p:blipFill>
          <a:blip r:embed="rId1"/>
          <a:stretch/>
        </p:blipFill>
        <p:spPr>
          <a:xfrm>
            <a:off x="2867040" y="1600200"/>
            <a:ext cx="3409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8:23:37Z</dcterms:created>
  <dc:creator>User</dc:creator>
  <dc:description/>
  <dc:language>en-US</dc:language>
  <cp:lastModifiedBy>User</cp:lastModifiedBy>
  <dcterms:modified xsi:type="dcterms:W3CDTF">2012-03-22T17:45:22Z</dcterms:modified>
  <cp:revision>5</cp:revision>
  <dc:subject/>
  <dc:title>Конкурс-разминка               по сказкам Г.Х. АНДЕРСЕНА </dc:title>
</cp:coreProperties>
</file>