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82A-A598-4463-B07E-42E876FA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107-B9A1-4B65-8670-37C18EB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83C-7506-4423-9A49-EE73C76C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FFD-6F54-46CF-BB61-8A0940ED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9AC-836A-47CB-B497-E04CA7B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18C-01B1-464B-A55A-E6BB66A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41A-3602-4BA0-970C-C01CA5D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02B-4189-4375-B68D-278E899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927-18E8-46C4-AA7B-8FA2CDD2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D34-0EDC-43CB-BAD4-32A24A6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3CE-E4A3-4708-9112-37B9BA8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9B1-73F0-4E52-84D9-4D07521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A933-E5AA-4021-98A3-6A4C1EA4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рисунки\анимашки\танцы спорт\sporta-1097.gif"/>
          <p:cNvPicPr/>
          <p:nvPr/>
        </p:nvPicPr>
        <p:blipFill>
          <a:blip r:embed="rId2"/>
          <a:stretch/>
        </p:blipFill>
        <p:spPr>
          <a:xfrm>
            <a:off x="2928960" y="1000080"/>
            <a:ext cx="3433680" cy="4591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Здоровьесберегающая па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7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623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7:05:18Z</dcterms:created>
  <dc:creator>User</dc:creator>
  <dc:description/>
  <dc:language>en-US</dc:language>
  <cp:lastModifiedBy>User</cp:lastModifiedBy>
  <dcterms:modified xsi:type="dcterms:W3CDTF">2012-03-14T14:44:41Z</dcterms:modified>
  <cp:revision>5</cp:revision>
  <dc:subject/>
  <dc:title>Слайд 1</dc:title>
</cp:coreProperties>
</file>