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FAF5-4A6C-4BD5-990D-799536B3F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E813-5132-43A3-9B04-B102F0453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F85E-249C-44E9-977D-78403A6A0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F73E-2569-4408-B12F-E6A7E3569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97F6-C1E9-4699-A8E0-4DD9A2D37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ADF1-D25B-40B0-989E-C54204547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567F-28E7-47CA-8DDD-D9C34D52C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7836-96F3-42DB-AA77-E2464D6D8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62ED-9F87-4126-8A83-451832791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46E2-1303-4214-8A1B-054B0366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2B00-A494-4648-9C8B-B316B9E66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25C7-3712-485C-845B-86DBBFB7A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31447-A21F-4029-8E75-9AC4B3124D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6553440" cy="8839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71320" y="1015920"/>
            <a:ext cx="571500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Что такое капризы? Почему они возникают, каковы их причины? Как с ними боротьс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2667240" cy="2946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352680" y="7086600"/>
            <a:ext cx="2743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19520" y="7086600"/>
            <a:ext cx="327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Составила воспитатель ГБОУ№235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Галкина Т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6438960" cy="86104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5486400" cy="76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Каприз – это слабость, которую ребенок хочет превратить в силу, это форма   проявления слабости, с помощью которой в семье растет сила маленького деспота. Каприз – это неверный способ утверждения своего «Я», способ привлечь к себе внимани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Благоприятными условиями для возникновения капризов являются переутомление детей, слабость нервной системы, повышенная эмоциональная возбудимость. Капризы могут возникнуть в ответ на слишком потакающие действия взрослых, на их противоречивые требования, на чрезмерно строгие ме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Бороться надо не с капризами, а с их причинами,   устранять обстоятельства, порождающие и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Конечно, есть капризы «оправданные»: от болезни ( и тут нужны терпение, любовь и подход). Но это явление временное, оно пройдет вместе с болезнь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057400" y="3886200"/>
            <a:ext cx="25146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6553440" cy="88394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09480" y="456840"/>
            <a:ext cx="5639040" cy="792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Бывают капризы и от обиды, вызванной черствостью, несправедливостью, нежеланием выслушать ребенка, - и он неосознанно «мстит» капризными выходк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Даже само по себе постоянное вмешательство родителей в дела детей, беспрерывное «дерганье» - поучение, окрики, нотации и даже излишние ласки, делают малышей раздражительными, нервозными – капризны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А есть капризы – подражания старшим. «Весь в отца – такой же капризный характер». – говорит мать. Нет, капризы, как и характер, не бывают врожденными. Тут действует другое – пример взрослого. А дурные приметы, как известно, особенно заразитель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Важнейшим средством профилактики капризов является  правильное общение с детьми. Если малыш в семье с первых дней жизни «не божок, не принц, не королевич», а маленький Человечек, где уважение и любовь к нему сочетаются с требовательностью, то он получает практический жизненный опыт, закаляется и успешно развивает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Воспитывать у ребёнка веру в свои силы, возможности – значит предотвращать капризы. Нужда в них как в средстве самоутверждения отпада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А если уж ребёнок раскапризничался, не нужно выходить из себя – это лишь подогреет его и распалит. Да и вообще не нужно постоянно обращать внимание на капризные выходки – в этом наше оружие. Спокойное, ровное обращение – вот лучшее средств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6172200" cy="868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6553440" cy="88394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85800" y="838080"/>
            <a:ext cx="5410080" cy="65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Не распаляться, не злоупотреблять окриками, одёргиваниями, упрёк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Жизнь семьи должна быть спокойной и упорядоченной, отношения ровные, тон приподнятый, радостный. Хорошим средством против капризов является принцип естественных последствий: Не собираешь игрушки, не получишь их больше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Справедливость без захваливания и унижения, благожелательность и расположение, отсутствие вспышек гнева, нервозности, постоянных нравоучений, причитаний, упрёков и попрёков – всё это такой психологический климат семьи, который исключает капризы, то есть не даёт оснований для выработки вредных привычек у дет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В народной мудрости бытует такое изречение:- « Три бедствия есть у людей – смерть, старость и плохие дети. Старость неотвратима, смерть неумолима, а вот от плохих детей дом можно уберечь». И уберечь можем только мы – отцы и матери, дедушки и бабушки, так самозабвенно любящие своих малышей – детей и внуков. Будем любить всем сердцем, но и разумом тож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2T07:50:58Z</dcterms:created>
  <dc:creator>Георгий</dc:creator>
  <dc:description/>
  <dc:language>en-US</dc:language>
  <cp:lastModifiedBy>Георгий</cp:lastModifiedBy>
  <dcterms:modified xsi:type="dcterms:W3CDTF">2012-03-04T18:08:40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