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2AE-E789-402C-BFFD-B5EEFA3A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793-C5EA-4DB5-81D1-9F3755DF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69A-56C0-48C1-BA43-BB54F8AA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16E-5902-4415-8164-DA9C6877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6F6-802C-4A7E-9244-314A034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51E-5AA8-492D-8163-A8E3F186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C26-F164-4652-BFF5-8829434B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446-7CD3-4B5E-BF14-2562DFE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4E6-46D9-4B81-902A-44FA7D17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726-13C1-4F7E-B31A-A8DD8405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BA7-FD71-4A3E-8B4C-29C149E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528-7861-4868-9ED9-37281B5E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3A9-3ED1-4142-8D2D-B82D09CF1C3C}" type="slidenum"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 Всероссийский конкурс работников общего образования «Воспитать человека»</a:t>
            </a:r>
            <a:br>
              <a:rPr sz="2000"/>
            </a:b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Владикавказ, 14-19 февраля 2011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ЕГО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ВЕЛИЧЕСТВО –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КЛАССНЫЙ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ЧАС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887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КЛАССНЫЙ ЧАС: ДИАЛОГ ИЛИ…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3400560" cy="42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7600" y="580536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. МУНК «КРИК» 18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808360" cy="309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7080" y="4797360"/>
            <a:ext cx="32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ГРАФИЯ. КРИК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87280" y="1413000"/>
            <a:ext cx="69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ТО ДЕЛАТЬ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anklin Gothic Heavy"/>
              </a:rPr>
              <a:t>КОГ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ХОЧЕТСЯ КРИЧ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Century Gothic"/>
              </a:rPr>
              <a:t>ЧЕЛОВЕК – ПАМЯТНИК…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2367000"/>
            <a:ext cx="61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177336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О, как прекрасен Человек Земли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Нет во Вселенной лучшего Творенья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74040" y="4255920"/>
            <a:ext cx="54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</a:rPr>
              <a:t>КАКИМ </a:t>
            </a:r>
            <a:r>
              <a:rPr b="1" lang="en-US" sz="2400" spc="-1" strike="noStrike">
                <a:solidFill>
                  <a:srgbClr val="000000"/>
                </a:solidFill>
                <a:latin typeface="Castellar"/>
              </a:rPr>
              <a:t>ДОЛЖЕН БЫТЬ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stellar"/>
              </a:rPr>
              <a:t>ЧТОБЫ ЕМУ ВОЗДВИГ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stellar"/>
              </a:rPr>
              <a:t>ПАМЯТ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809880" cy="507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11440" y="5823000"/>
            <a:ext cx="59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МАРК КУИНН. БЕРЕМЕННАЯ АЛИСОН ЛАППЕР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Century Gothic"/>
              </a:rPr>
              <a:t>ДИАЛОГ С САМИМ СОБОЙ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2392200" y="1125360"/>
            <a:ext cx="4432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"Прости"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а асфальте надпись, как загадк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е перешагнуть, не обойти –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очью кто-то написал украдкой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Слово наболевшее «Прости»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Боль вины так в ком-то накипела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Жить с ней больше не хватает си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У обиженного, словом или делом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Человек прощенья попросил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аписал в надежде, чтоб замети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Слово стороной не обходил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И пускай словами не ответи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Только бы поверил и простил!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На асфальте броско, ярко светит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Слово-покаяние «Прости»,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Чтобы всем обиженным на свете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entury Gothic"/>
              </a:rPr>
              <a:t>Груз обиды в сердце не нести.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95520" y="765000"/>
            <a:ext cx="3743280" cy="480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26000" y="568008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РЕМБРАНДТ. ВОЗВРАЩЕНИЕ БЛУДНОГО СЫНА. 1666-16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6:06:18Z</dcterms:created>
  <dc:creator>1</dc:creator>
  <dc:description/>
  <dc:language>en-US</dc:language>
  <cp:lastModifiedBy>1</cp:lastModifiedBy>
  <dcterms:modified xsi:type="dcterms:W3CDTF">2012-03-31T04:08:09Z</dcterms:modified>
  <cp:revision>3</cp:revision>
  <dc:subject/>
  <dc:title>Слайд 1</dc:title>
</cp:coreProperties>
</file>