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131-1F64-45BF-9E9D-5936AFD6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335-8BA1-4536-8151-4829BABE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C3E-D122-4B96-91C9-4E049AC0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C7B-0702-45D6-838D-8811E35B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98F-2E6A-4BF9-9064-CEFE738B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142-B578-42D7-94E4-60310B34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CE9-97F6-408B-A670-98943FF9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400-1923-4229-8357-59F42FE2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32F-F56B-4029-B7B1-EF8AF13D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652-A5E3-4D77-90F2-7D2C02D9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ED3-B8D4-488A-8A17-289FAFE0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AD4-AB14-4AE1-9D32-0C116A20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23DF-80C3-4F2B-B118-998B66DF26E7}" type="slidenum">
              <a:rPr b="0" lang="en-US" sz="1000" spc="-1" strike="noStrike">
                <a:solidFill>
                  <a:srgbClr val="80808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II</a:t>
            </a: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 Всероссийский конкурс работников общего образования «Воспитать человека»</a:t>
            </a:r>
            <a:br>
              <a:rPr sz="2000"/>
            </a:b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Владикавказ, 14-19 февраля 2011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ЕГО 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ВЕЛИЧЕСТВО –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КЛАССНЫЙ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ЧАС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887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КЛАССНЫЙ ЧАС: ДИАЛОГ ИЛИ…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11640" y="1484280"/>
            <a:ext cx="3400560" cy="429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07600" y="580536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. МУНК «КРИК» 18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2808360" cy="3097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7080" y="4797360"/>
            <a:ext cx="32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ТОГРАФИЯ. КРИК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87280" y="1413000"/>
            <a:ext cx="69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ЧТО ДЕЛАТЬ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Heavy"/>
              </a:rPr>
              <a:t>КОГ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ХОЧЕТСЯ КРИЧАТЬ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Century Gothic"/>
              </a:rPr>
              <a:t>ЧЕЛОВЕК – ПАМЯТНИК…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2367000"/>
            <a:ext cx="61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177336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О, как прекрасен Человек Земли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Нет во Вселенной лучшего Творенья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74040" y="4255920"/>
            <a:ext cx="542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Heavy"/>
              </a:rPr>
              <a:t>КАКИМ </a:t>
            </a:r>
            <a:r>
              <a:rPr b="1" lang="en-US" sz="2400" spc="-1" strike="noStrike">
                <a:solidFill>
                  <a:srgbClr val="000000"/>
                </a:solidFill>
                <a:latin typeface="Castellar"/>
              </a:rPr>
              <a:t>ДОЛЖЕН БЫТЬ ЧЕЛОВ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stellar"/>
              </a:rPr>
              <a:t>ЧТОБЫ ЕМУ ВОЗДВИГ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stellar"/>
              </a:rPr>
              <a:t>ПАМЯТ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3809880" cy="5076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11440" y="5823000"/>
            <a:ext cx="59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МАРК КУИНН. БЕРЕМЕННАЯ АЛИСОН ЛАППЕР.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Century Gothic"/>
              </a:rPr>
              <a:t>ДИАЛОГ С САМИМ СОБОЙ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3" name=""/>
          <p:cNvSpPr/>
          <p:nvPr/>
        </p:nvSpPr>
        <p:spPr>
          <a:xfrm>
            <a:off x="2392200" y="1125360"/>
            <a:ext cx="4432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"Прости"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На асфальте надпись, как загадка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Не перешагнуть, не обойти –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Ночью кто-то написал украдкой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Слово наболевшее «Прости»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Боль вины так в ком-то накипела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Жить с ней больше не хватает сил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У обиженного, словом или делом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Человек прощенья попросил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Написал в надежде, чтоб заметил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Слово стороной не обходил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И пускай словами не ответил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Только бы поверил и простил!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На асфальте броско, ярко светит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Слово-покаяние «Прости»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Чтобы всем обиженным на свете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Груз обиды в сердце не нести.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95520" y="765000"/>
            <a:ext cx="3743280" cy="4802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26000" y="568008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РЕМБРАНДТ. ВОЗВРАЩЕНИЕ БЛУДНОГО СЫНА. 1666-16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6:06:18Z</dcterms:created>
  <dc:creator>1</dc:creator>
  <dc:description/>
  <dc:language>en-US</dc:language>
  <cp:lastModifiedBy>1</cp:lastModifiedBy>
  <dcterms:modified xsi:type="dcterms:W3CDTF">2012-03-31T04:08:09Z</dcterms:modified>
  <cp:revision>3</cp:revision>
  <dc:subject/>
  <dc:title>Слайд 1</dc:title>
</cp:coreProperties>
</file>