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D6C-EE77-4E6E-892A-29F4C5CE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FB8-0034-4213-9E62-3AC1F55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1BD-F70D-4E07-B930-7E62A343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DF7-413E-457B-A4EB-1FC5416A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7144-1BD0-49B6-A487-138A87DF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D9AA-2D71-4399-8764-4B678AE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2241-13E1-4304-B4C0-5692D524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EDE-F8D9-466F-887E-646151B8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E9B-511C-4CD4-9066-51100CBC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F05-684D-4C5C-A2D0-D28855C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EA7-2E29-4A86-8A65-2E060CA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DC2-83B6-4A34-ACCD-B6901A2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B7A-0811-4093-9675-C2FFE25A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311F-3688-476B-A81A-BCEAB99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8146-79F6-4990-A4C6-D92D6A6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385C-D69F-4245-BB47-5CA885D9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6215-BCBE-4BBE-8643-8356F11A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3A2-CD25-4702-93DB-EE0AE7C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F85-B4C0-49C5-91A0-5542F0E1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2C4-5CE7-4795-8934-7716E03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378-DD22-471D-AF38-7589B04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FD6-FA69-4B87-9A25-FEF67D7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72B-C829-49FA-BBA9-E275847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5F2-00DB-444D-8917-9C64120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20D-C125-494C-A69A-0B82E1A3D3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DEB-BEA0-4F29-86A5-595DBE5FEB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-roditel.ru/safecity/" TargetMode="External"/><Relationship Id="rId3" Type="http://schemas.openxmlformats.org/officeDocument/2006/relationships/hyperlink" Target="http://www.ya-roditel.ru/join/" TargetMode="External"/><Relationship Id="rId4" Type="http://schemas.openxmlformats.org/officeDocument/2006/relationships/hyperlink" Target="http://www.ya-roditel.ru/safecity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-roditel.ru/safecity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86;&#1075;&#1080;%20&#1078;&#1080;&#1079;&#1085;&#1080;.doc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3480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717560" y="2349360"/>
          <a:ext cx="6238800" cy="3671640"/>
        </p:xfrm>
        <a:graphic>
          <a:graphicData uri="http://schemas.openxmlformats.org/drawingml/2006/table">
            <a:tbl>
              <a:tblPr/>
              <a:tblGrid>
                <a:gridCol w="3116160"/>
                <a:gridCol w="312264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1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3"/>
                        </a:rPr>
                        <a:t>Вместе с нами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6 обучающихс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1 педагог основног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дополнительного    образова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3 мам и па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 бабушки и дедушк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азета «Планета-35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2781360"/>
            <a:ext cx="3243240" cy="259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7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568440"/>
            <a:ext cx="51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униципальное общеобразователь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реждение средняя общеобразовательна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школа №3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города Рыбинс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58444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циокультурный про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ЖИВАЯ ШКОЛ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2400" y="797040"/>
            <a:ext cx="7289280" cy="14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7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 ПОЗНАНИЯ – К ТВОРЧЕСКОМУ СОВЕРШЕНСТВУ</a:t>
            </a:r>
            <a:br>
              <a:rPr sz="32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емы исследований в рамках Всероссийских конференций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еория вероятности в демографии города Рыбинск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математика», Абрамов Артур, 2007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искретность имён существительных, обозначающих продукты пита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лингвистика», Коряков Александр, 2007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тив плахи в романе Ч.Айтматова «Плаха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философия», Некрасова Мария, 2008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кульптура Рыбинс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культурология», Тощакова Анна, 2008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чные проблемы в творчестве Чингиза Айтмато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философия», Некрасова Мария, 2009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Женский образ в рекламной фотограф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культурология», Тощакова Анна, 2009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Сказка – анахронизм или вечность в современном мире? Некрасова Мария. 2010 г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оть на минуточку мне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ать бы радуго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Я поднимаюсь всё выше и выше и, наконец, оказываюсь на вершине мира. Подумать только, да, я – радуга! Такая весёлая и ... свободная. Всегда мечтала стать радугой! Необыкновенная высота, ошеломляющая атмосфера, а какой кругозор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т и думаешь, а есть ли вторая Я? Может, сейчас она на меня смотрит и тоже хочет стать радугой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 стать радугой очень даже просто. Достаточно только уйти далеко-далеко, никуда не уходя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 вот интересно, что обо мне думают другие люди? Им весело, когда я на небе или нет? А, может, меня любят даже давно выросшие из детей люди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стя Яковлева, 6 кла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318960"/>
            <a:ext cx="22035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взаимодействуя с Институтами семьи и воспитания Москвы и Санкт-Петербурга создать территорию социальной комфортности и защищённости обучающихся школ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используя активные формы и методы воздействия, вовлечь школьников в деятельность кружков, объединений, сек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гламентировать всю работу с детьми в соответствии и правовыми документ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04640"/>
            <a:ext cx="1871640" cy="149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9640" y="63972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Я В ЭТОТ МИР ПРИШЁ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ТОБ ВИДЕТЬ СОЛНЦЕ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одуль взаимодействия семьи и школ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4176720" cy="284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2421000"/>
            <a:ext cx="4000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искуссионный клуб «Скрижали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Акция «Добро не исчезает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дительский всеобу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ультурно-досуговые программ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циальные проект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ятельность НОУ «Поиск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бота пресс-центра «Планета-35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1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Жизнь без права на бесправ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251520" cy="251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35480" y="2419200"/>
            <a:ext cx="40528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 течение трёх последних лет осуществляетс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артнерские отношения с Федеральны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Государственным научным учреждение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«Центр исследования проблем воспитания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я здорового образа жизн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филактики наркомании, социально-педагогической поддержки детей и молодёжи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фера взаимодейств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Обучающие семинары для родителе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Творческие конкурсы для детей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«Я рисую мир» - 2009 год (участвовали 12 детей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Конференции для педагогов (последняя – октябрь 2010 год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66760" y="4960800"/>
            <a:ext cx="304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Москва. 17-18 октября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2 Воспитание «хорошего» родител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2565000"/>
            <a:ext cx="403056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здание и распространение буклетов по профилактике насилия в отношении детей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Памятка для родителей»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Жестокое обращение с детьми»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Родители – прекрасная роль!»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Остановим домашнее насилие»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3 На планете Сем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356000" y="2781000"/>
            <a:ext cx="417528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 2005 года осуществляет свою деятельность дискуссионный клуб «Скрижал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» (занятие «Пороги жизни»),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который объединил и детей, и родителе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пыт работы клуба был представлен во Владикавказе в ноябре 2008 год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териалы занятий опубликованы в ж. «Классный руководитель», «Этическое воспитание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84200" y="532116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занят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клубе «Скрижал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4 Территория доб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858920" y="2421000"/>
            <a:ext cx="381636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 «Необижайка» - игровые програм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детей младшего возрас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  Реализация проек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Павлик Морозов: ХХI век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организация услов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актуализации вопрос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 недопустимости примен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силия и жестокости к детям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пуск газе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Планета-35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336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5  От сердца – к сердцу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диалоги на трудные темы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иклы классных часов «Открыть в себе Я»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быть принятым и признанн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иметь друг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актуализа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определённы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циальных рол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03640" y="3679920"/>
            <a:ext cx="3672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6 Маршрут от Я к 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СТУЛАТЫ ГАРМОНИЧНОЙ ЛИЧ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позн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воспит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27640" y="3068640"/>
            <a:ext cx="4340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45:47Z</dcterms:created>
  <dc:creator>1</dc:creator>
  <dc:description/>
  <dc:language>en-US</dc:language>
  <cp:lastModifiedBy>1</cp:lastModifiedBy>
  <dcterms:modified xsi:type="dcterms:W3CDTF">2012-03-31T04:08:31Z</dcterms:modified>
  <cp:revision>6</cp:revision>
  <dc:subject/>
  <dc:title>Слайд 1</dc:title>
</cp:coreProperties>
</file>