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B875-3C6C-4584-B640-6A68185E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0838-1CB2-4AFE-9553-1BB50FE9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9E8-FB1A-40D6-9408-AA22918C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66B-4513-4435-8246-639A0137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80DE-5C93-4B96-81D5-C214719E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C485-911D-44DB-98F7-7E6B0BE3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370D-BE5B-4D71-8167-EE06926E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1221-C741-43AF-9357-E4687E20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F3FC-E7A7-4F76-854F-E0C0821D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11D5-4938-4821-A6AC-EAB366C6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9BD0-651B-4A68-A91C-1E971979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EF7C-644A-48B5-8BDD-952D4E4E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E702-B7B5-4FBD-9A8B-064175E7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A5CF-D58C-4D5B-BB65-81615781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D8A6-BFD5-4EED-AC34-30B11499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D435-D891-4CB7-8D9B-3957155E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3336-0E45-45E3-B4F8-67EF79EF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A574-A886-43DE-873D-35883531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6E7-FD36-49EC-B616-56E391C7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B14-201B-4209-A983-0C97F82B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983-078A-4CA6-8A16-F10834C7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DC66-F3F1-4710-9F80-430BA128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7E9-1B62-4D11-A12A-54EA00F6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1D2B-AD51-4C88-8955-34F89D1A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A8E4-4DC9-4042-B819-250498237ED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9AA8-8A01-465A-970D-F609EDA7E2E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a-roditel.ru/safecity/" TargetMode="External"/><Relationship Id="rId3" Type="http://schemas.openxmlformats.org/officeDocument/2006/relationships/hyperlink" Target="http://www.ya-roditel.ru/join/" TargetMode="External"/><Relationship Id="rId4" Type="http://schemas.openxmlformats.org/officeDocument/2006/relationships/hyperlink" Target="http://www.ya-roditel.ru/safecity/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a-roditel.ru/safecity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5;&#1086;&#1088;&#1086;&#1075;&#1080;%20&#1078;&#1080;&#1079;&#1085;&#1080;.doc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348000" cy="14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1717560" y="2349360"/>
          <a:ext cx="6238800" cy="3671640"/>
        </p:xfrm>
        <a:graphic>
          <a:graphicData uri="http://schemas.openxmlformats.org/drawingml/2006/table">
            <a:tbl>
              <a:tblPr/>
              <a:tblGrid>
                <a:gridCol w="3116160"/>
                <a:gridCol w="3122640"/>
              </a:tblGrid>
              <a:tr h="367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r>
                        <a:rPr b="0" lang="en-US" sz="1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3"/>
                        </a:rPr>
                        <a:t>Вместе с нами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6 обучающихс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1 педагог основного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 дополнительного    образовани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13 мам и пап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3 бабушки и дедушк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азета «Планета-35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03280" y="2781360"/>
            <a:ext cx="3243240" cy="2597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7984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5640" y="568440"/>
            <a:ext cx="51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униципальное общеобразовательно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учреждение средняя общеобразовательна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школа №35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города Рыбинс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2584440"/>
            <a:ext cx="33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циокультурный про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«ЖИВАЯ ШКОЛА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292400" y="797040"/>
            <a:ext cx="7289280" cy="14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Модуль 7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Т ПОЗНАНИЯ – К ТВОРЧЕСКОМУ СОВЕРШЕНСТВУ</a:t>
            </a:r>
            <a:br>
              <a:rPr sz="3200"/>
            </a:b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Темы исследований в рамках Всероссийских конференций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Теория вероятности в демографии города Рыбинск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(Москва, секция «математика», Абрамов Артур, 2007)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искретность имён существительных, обозначающих продукты питани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(Москва, секция «лингвистика», Коряков Александр, 2007)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отив плахи в романе Ч.Айтматова «Плаха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(Москва, секция «философия», Некрасова Мария, 2008)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кульптура Рыбинск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(Москва, секция «культурология», Тощакова Анна, 2008)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ечные проблемы в творчестве Чингиза Айтматов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(Москва, секция «философия», Некрасова Мария, 2009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Женский образ в рекламной фотографи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(Москва, секция «культурология», Тощакова Анна, 2009)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Сказка – анахронизм или вечность в современном мире? Некрасова Мария. 2010 г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оть на минуточку мне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ать бы радуго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Я поднимаюсь всё выше и выше и, наконец, оказываюсь на вершине мира. Подумать только, да, я – радуга! Такая весёлая и ... свободная. Всегда мечтала стать радугой! Необыкновенная высота, ошеломляющая атмосфера, а какой кругозор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от и думаешь, а есть ли вторая Я? Может, сейчас она на меня смотрит и тоже хочет стать радугой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А стать радугой очень даже просто. Достаточно только уйти далеко-далеко, никуда не уходя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А вот интересно, что обо мне думают другие люди? Им весело, когда я на небе или нет? А, может, меня любят даже давно выросшие из детей люди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астя Яковлева, 6 клас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588000" y="318960"/>
            <a:ext cx="22035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 ПРОЕКТ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взаимодействуя с Институтами семьи и воспитания Москвы и Санкт-Петербурга создать территорию социальной комфортности и защищённости обучающихся школ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используя активные формы и методы воздействия, вовлечь школьников в деятельность кружков, объединений, сек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гламентировать всю работу с детьми в соответствии и правовыми документам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404640"/>
            <a:ext cx="1871640" cy="1498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489640" y="639720"/>
            <a:ext cx="29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Я В ЭТОТ МИР ПРИШЁЛ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ЧТОБ ВИДЕТЬ СОЛНЦЕ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822960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Модуль взаимодействия семьи и школ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4176720" cy="2844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643280" y="2421000"/>
            <a:ext cx="40006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искуссионный клуб «Скрижали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Акция «Добро не исчезает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одительский всеобуч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ультурно-досуговые программ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циальные проект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еятельность НОУ «Поиск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бота пресс-центра «Планета-35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Модуль 1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Жизнь без права на бесправ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276280"/>
            <a:ext cx="7693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3251520" cy="2511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335480" y="2419200"/>
            <a:ext cx="405288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 течение трёх последних лет осуществляетс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артнерские отношения с Федеральным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Государственным научным учреждением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«Центр исследования проблем воспитания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формирования здорового образа жизн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рофилактики наркомании, социально-педагогической поддержки детей и молодёжи»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Сфера взаимодействия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- Обучающие семинары для родителей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- Творческие конкурсы для детей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«Я рисую мир» - 2009 год (участвовали 12 детей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- Конференции для педагогов (последняя – октябрь 2010 год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66760" y="4960800"/>
            <a:ext cx="304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Москва. 17-18 октября 201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Модуль 2 Воспитание «хорошего» родител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00720" y="2565000"/>
            <a:ext cx="4030560" cy="35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здание и распространение буклетов по профилактике насилия в отношении детей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«Памятка для родителей»,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«Жестокое обращение с детьми»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«Родители – прекрасная роль!»,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«Остановим домашнее насилие»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876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одуль 3 На планете Семь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356000" y="2781000"/>
            <a:ext cx="417528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 2005 года осуществляет свою деятельность дискуссионный клуб «Скрижал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» (занятие «Пороги жизни»),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который объединил и детей, и родителей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пыт работы клуба был представлен во Владикавказе в ноябре 2008 год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атериалы занятий опубликованы в ж. «Классный руководитель», «Этическое воспитание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71640" y="2781360"/>
            <a:ext cx="3384360" cy="2538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384200" y="5321160"/>
            <a:ext cx="24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занят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 клубе «Скрижал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одуль 4 Территория доб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858920" y="2421000"/>
            <a:ext cx="381636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-  «Необижайка» - игровые программ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ля детей младшего возраста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-   Реализация проек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«Павлик Морозов: ХХI век»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(организация услов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ля актуализации вопрос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 недопустимости примене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силия и жестокости к детям)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ыпуск газет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«Планета-35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383364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Модуль 5  От сердца – к сердцу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диалоги на трудные темы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Циклы классных часов «Открыть в себе Я»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потребность быть принятым и признанны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потребность иметь друг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потребность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амоактуализац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определённых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циальных роля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03640" y="3679920"/>
            <a:ext cx="36720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одуль 6 Маршрут от Я к М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АСТУЛАТЫ ГАРМОНИЧНОЙ ЛИЧ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амопозн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амовоспита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ворчеств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27640" y="3068640"/>
            <a:ext cx="4340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4:45:47Z</dcterms:created>
  <dc:creator>1</dc:creator>
  <dc:description/>
  <dc:language>en-US</dc:language>
  <cp:lastModifiedBy>1</cp:lastModifiedBy>
  <dcterms:modified xsi:type="dcterms:W3CDTF">2012-03-31T04:08:31Z</dcterms:modified>
  <cp:revision>6</cp:revision>
  <dc:subject/>
  <dc:title>Слайд 1</dc:title>
</cp:coreProperties>
</file>