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5CC-38DD-440D-8ADC-CE7E2384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CB4-56FB-40AD-83D1-D04BD66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66A-E1CF-4CDF-A85B-83CD0BC1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2B9-3F06-4115-8E4E-82D79305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665-24D5-4DB5-A846-272653D3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A03-BD9D-4A83-9EF0-4EF956B3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702-E254-4488-8D75-CA53E1D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1DF-CD71-4A2B-90FF-08AE8AF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B2D-2E07-4C3F-B6D8-12AB2F5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B80-DD45-46A0-8D12-A56D5DD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C07-7526-4182-B8E6-D8C2575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55C-E50F-4143-92E9-1973EA0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5717-2713-4520-8E71-AAB643FDB99C}" type="slidenum">
              <a:rPr b="0" lang="en-US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867b"/>
                </a:solidFill>
                <a:latin typeface="Tahoma"/>
              </a:rPr>
              <a:t>Роль классного руководителя</a:t>
            </a:r>
            <a:br>
              <a:rPr sz="3600"/>
            </a:br>
            <a:r>
              <a:rPr b="1" lang="ru-RU" sz="3600" spc="-1" strike="noStrike">
                <a:solidFill>
                  <a:srgbClr val="5a867b"/>
                </a:solidFill>
                <a:latin typeface="Tahoma"/>
              </a:rPr>
              <a:t>в призме ФГОС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Белякова Л.М.,</a:t>
            </a:r>
            <a:br>
              <a:rPr sz="2400"/>
            </a:b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                               учитель МОУ СОШ №35 г. Рыбинск,</a:t>
            </a:r>
            <a:br>
              <a:rPr sz="2400"/>
            </a:b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               кандидат культурологии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468360" y="714240"/>
            <a:ext cx="828036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539640" y="1001880"/>
            <a:ext cx="8136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395280" y="401760"/>
            <a:ext cx="84978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2011680"/>
            <a:ext cx="54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867b"/>
                </a:solidFill>
                <a:latin typeface="Arial"/>
              </a:rPr>
              <a:t>Воспитание – это такая на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867b"/>
                </a:solidFill>
                <a:latin typeface="Arial"/>
              </a:rPr>
              <a:t>которая обучает наших детей обходиться без на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800" spc="-1" strike="noStrike">
                <a:solidFill>
                  <a:srgbClr val="5a867b"/>
                </a:solidFill>
                <a:latin typeface="Arial"/>
              </a:rPr>
              <a:t>Лев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3184560"/>
            <a:ext cx="30243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1772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Arial"/>
              </a:rPr>
              <a:t>Традиционные позиции в педагог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763640" y="2276640"/>
            <a:ext cx="936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2349360"/>
            <a:ext cx="503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9840" y="36655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168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7600" y="364500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та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2920" y="1863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67b"/>
                </a:solidFill>
                <a:latin typeface="Arial"/>
              </a:rPr>
              <a:t>Новые роли классного руковод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349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47280" y="2421000"/>
            <a:ext cx="1295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2421000"/>
            <a:ext cx="1944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1120" y="356724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есе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409716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юз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663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198440" y="-898560"/>
            <a:ext cx="11540880" cy="86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198440" y="-898560"/>
            <a:ext cx="11540880" cy="86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53:39Z</dcterms:created>
  <dc:creator>1</dc:creator>
  <dc:description/>
  <dc:language>en-US</dc:language>
  <cp:lastModifiedBy>1</cp:lastModifiedBy>
  <dcterms:modified xsi:type="dcterms:W3CDTF">2012-03-31T04:07:41Z</dcterms:modified>
  <cp:revision>3</cp:revision>
  <dc:subject/>
  <dc:title>Роль классного руководителя в призме ФГОС  Белякова Л.М.,                                учитель МОУ СОШ №35 г. Рыбинск,                кандидат культурологии</dc:title>
</cp:coreProperties>
</file>