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0864-7524-4D8D-A25C-A34922ED4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73A4-C625-4C88-9414-01E6E009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F047-DECF-4F07-AAAE-5BF36F731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7AAA-87AA-476E-8ED5-C4EC9AFAB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98AE-A221-4239-9EA0-AE46377A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42C6-E19B-45B4-A075-930A62B2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643B-D921-413B-985B-38C5105C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65C3-7AB3-44A3-9EF3-FEC1BEED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2868-4298-47E7-8524-2C12C468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AF86-94BB-4843-83EF-92FE19C6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E7DF-B2B8-4C2A-957A-46C1AEF6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0BB3-25A0-4695-90DB-48C8B31B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5a86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a86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AB59-BDC0-46D8-9DDA-330E0EF43D18}" type="slidenum">
              <a:rPr b="0" lang="en-US" sz="1200" spc="-1" strike="noStrike">
                <a:solidFill>
                  <a:srgbClr val="5a86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a867b"/>
                </a:solidFill>
                <a:latin typeface="Tahoma"/>
              </a:rPr>
              <a:t>Роль классного руководителя</a:t>
            </a:r>
            <a:br>
              <a:rPr sz="3600"/>
            </a:br>
            <a:r>
              <a:rPr b="1" lang="ru-RU" sz="3600" spc="-1" strike="noStrike">
                <a:solidFill>
                  <a:srgbClr val="5a867b"/>
                </a:solidFill>
                <a:latin typeface="Tahoma"/>
              </a:rPr>
              <a:t>в призме ФГОС</a:t>
            </a:r>
            <a:br>
              <a:rPr sz="3600"/>
            </a:br>
            <a:br>
              <a:rPr sz="3600"/>
            </a:br>
            <a:r>
              <a:rPr b="0" lang="ru-RU" sz="2400" spc="-1" strike="noStrike">
                <a:solidFill>
                  <a:srgbClr val="5a867b"/>
                </a:solidFill>
                <a:latin typeface="Tahoma"/>
              </a:rPr>
              <a:t>Белякова Л.М.,</a:t>
            </a:r>
            <a:br>
              <a:rPr sz="2400"/>
            </a:br>
            <a:r>
              <a:rPr b="0" lang="ru-RU" sz="2400" spc="-1" strike="noStrike">
                <a:solidFill>
                  <a:srgbClr val="5a867b"/>
                </a:solidFill>
                <a:latin typeface="Tahoma"/>
              </a:rPr>
              <a:t>                               учитель МОУ СОШ №35 г. Рыбинск,</a:t>
            </a:r>
            <a:br>
              <a:rPr sz="2400"/>
            </a:br>
            <a:r>
              <a:rPr b="0" lang="ru-RU" sz="2400" spc="-1" strike="noStrike">
                <a:solidFill>
                  <a:srgbClr val="5a867b"/>
                </a:solidFill>
                <a:latin typeface="Tahoma"/>
              </a:rPr>
              <a:t>               кандидат культурологии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72" name="Rectangle 3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28036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74" name="Rectangle 3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828036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76" name="Rectangle 3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84836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1"/>
          <a:stretch/>
        </p:blipFill>
        <p:spPr>
          <a:xfrm>
            <a:off x="468360" y="714240"/>
            <a:ext cx="8280360" cy="537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80" name="Rectangle 3" descr=""/>
          <p:cNvPicPr/>
          <p:nvPr/>
        </p:nvPicPr>
        <p:blipFill>
          <a:blip r:embed="rId1"/>
          <a:stretch/>
        </p:blipFill>
        <p:spPr>
          <a:xfrm>
            <a:off x="539640" y="1001880"/>
            <a:ext cx="813600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82" name="Rectangle 3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13600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84" name="Rectangle 3" descr=""/>
          <p:cNvPicPr/>
          <p:nvPr/>
        </p:nvPicPr>
        <p:blipFill>
          <a:blip r:embed="rId1"/>
          <a:stretch/>
        </p:blipFill>
        <p:spPr>
          <a:xfrm>
            <a:off x="395280" y="401760"/>
            <a:ext cx="849780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86" name="Rectangle 3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42472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11280" y="2011680"/>
            <a:ext cx="547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867b"/>
                </a:solidFill>
                <a:latin typeface="Arial"/>
              </a:rPr>
              <a:t>Воспитание – это такая нау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867b"/>
                </a:solidFill>
                <a:latin typeface="Arial"/>
              </a:rPr>
              <a:t>которая обучает наших детей обходиться без нас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ru-RU" sz="1800" spc="-1" strike="noStrike">
                <a:solidFill>
                  <a:srgbClr val="5a867b"/>
                </a:solidFill>
                <a:latin typeface="Arial"/>
              </a:rPr>
              <a:t>Лев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63640" y="3184560"/>
            <a:ext cx="302436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32000" y="177264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867b"/>
                </a:solidFill>
                <a:latin typeface="Arial"/>
              </a:rPr>
              <a:t>Традиционные позиции в педагоги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763640" y="2276640"/>
            <a:ext cx="93672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27640" y="249228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77080" y="2349360"/>
            <a:ext cx="5032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39840" y="366552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1688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07600" y="3645000"/>
            <a:ext cx="13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став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672920" y="1863720"/>
            <a:ext cx="58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867b"/>
                </a:solidFill>
                <a:latin typeface="Arial"/>
              </a:rPr>
              <a:t>Новые роли классного руковод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00720" y="234936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547280" y="2421000"/>
            <a:ext cx="129564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2421000"/>
            <a:ext cx="194472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11120" y="3567240"/>
            <a:ext cx="16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бесед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95640" y="409716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юз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508720" y="2349360"/>
            <a:ext cx="2663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1198440" y="-898560"/>
            <a:ext cx="11540880" cy="86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1198440" y="-898560"/>
            <a:ext cx="11540880" cy="86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66" name="Rectangle 3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8036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68" name="Rectangle 3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848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70" name="Rectangle 3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84872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53:39Z</dcterms:created>
  <dc:creator>1</dc:creator>
  <dc:description/>
  <dc:language>en-US</dc:language>
  <cp:lastModifiedBy>1</cp:lastModifiedBy>
  <dcterms:modified xsi:type="dcterms:W3CDTF">2012-03-31T04:07:41Z</dcterms:modified>
  <cp:revision>3</cp:revision>
  <dc:subject/>
  <dc:title>Роль классного руководителя в призме ФГОС  Белякова Л.М.,                                учитель МОУ СОШ №35 г. Рыбинск,                кандидат культурологии</dc:title>
</cp:coreProperties>
</file>