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D5F-C925-453D-987D-DC6A92EF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098-499C-4F20-B54B-97F9BFD6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A72-05F0-4F22-8A78-91F5FA46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3166-D0E1-4508-A472-5C38A228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CDC-C184-4F8F-BA12-2308F4A2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6BF-C9EF-45E4-A2A6-66B20325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AC7-53F4-43A5-AD60-93E40316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154-613C-4BA5-8F37-203C6BCD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372-F8D6-43AA-ADE3-104FF9E0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7AA-DAE4-4121-94CB-92516788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66C-0421-4461-99EF-FD9A43BE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4AE-0294-46ED-938B-C4CD5640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2473-5D36-4B5D-925B-202178C7D237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80000" y="333360"/>
            <a:ext cx="3240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61e"/>
                </a:solidFill>
                <a:latin typeface="Arial"/>
              </a:rPr>
              <a:t>УЧИТЕЛЬ, </a:t>
            </a:r>
            <a:br>
              <a:rPr sz="3200"/>
            </a:br>
            <a:r>
              <a:rPr b="1" lang="en-US" sz="3200" spc="-1" strike="noStrike">
                <a:solidFill>
                  <a:srgbClr val="4f261e"/>
                </a:solidFill>
                <a:latin typeface="Arial"/>
              </a:rPr>
              <a:t>НАУЧИ МЕНЯ ХОДИТЬ – ПОЛЕЧУ Я САМ!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43416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21255000">
            <a:off x="250920" y="2707920"/>
            <a:ext cx="3875040" cy="2897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211640" y="401040"/>
            <a:ext cx="453564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чинение-миниатюра на основе любимого поэтического текст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веты… Цветы! Какие они? Может быть, ответить на этот вопрос мне помогут эпитеты и метафоры? Попроб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веток… Хрупкий корешок приютился в тёплой, согретой солнцем матери-земле. Нежный стебелёк тянется к светлым лучикам солнца и греется, греется, гре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чка… Мягкий пушок с семенем, одетый в твёрдую, крепкую одёжку. А вот и листочки, которыми мы так рады после долгой зи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мое интересное, что цветы, как маленькие дети, радуются солнцу. Любят тепло и тюльпан, и хризантема, и полевая рома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веты – это радость человека? Нет, слишком обыденно. Тогда, может быть, земляные солнышки, незабываемое чудо? И пусть он хрупок, нежен, но какой силой воздействия обладает на челове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20797800">
            <a:off x="338040" y="2904840"/>
            <a:ext cx="3816360" cy="286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84720" y="699840"/>
            <a:ext cx="439092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БЛОЧНЫЙ С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сочинение-миниатюра на основе фотограф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ежие, спелые яблоки снимают с яблони и кладут в корзину. Их опьяняющих аромат заполнил весь сад. Их дурманящий запах и восхитительный вид так и просят взять их в рот. Надкусить и насладиться причудливым плодом ос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блоки сладкие-пресладкие, нежные-пренеж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нисимова Арина, 5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0813400">
            <a:off x="394920" y="2923920"/>
            <a:ext cx="3672000" cy="275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40360" y="639720"/>
            <a:ext cx="424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ГУ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очинение-миниатюра на основе поэтического текс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ив и степенен Август. Как хочется проникнуть и понять теплоту твоей души. Ты согреваешь мир. И всем хочется совершать только благие поступки. А зло ты сталкиваешь в пропасть. В бездну, из которой нет вы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согреваешь своими лучами. Смотришь в небо, в голубую бездну, однотонную, светлую, с белоснежными обла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Август, ты приветлив и свете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есова Алина, 6 класс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40360" y="112716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 – доб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ква Д (добро) была придумана древним и очень добрыми людьми. Они считали, что буква Д, как медальон, их оберегала и приносила счастье. Но эту букву было очень много хороших слов, например: добро, добродушие, дружелюб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бы предложил букву Д назвать «дар», потому что дар получает только тот человек, который трудолюбивый, способный учить людей письму, 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г посылает добро людям. Вот почему букву Д (добро) назвали т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каченко Лёня. 5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789400">
            <a:off x="293760" y="3114360"/>
            <a:ext cx="37684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43280" y="1323720"/>
            <a:ext cx="388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сенняя г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й. У всех хорошее настроение, и никто не замечает туч. Но вдруг грянул гром, сверкнула молния. Хлынул ливень, задрожали  листья. Тут и там раскрываются разноцветные зо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тучи всё дерутся, гремят, дождь хлещет, бьёт по зелени деревьев, а под этим всем пестреют зонты. Вот какой весенний пейзаж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ровая Лиза. 5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20901000">
            <a:off x="323640" y="2060640"/>
            <a:ext cx="43923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5280" y="740160"/>
            <a:ext cx="6481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ОЕДИМ, И ПОПЛЯШЕМ, И ПАШНЮ ВСПАШ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очинение-миниатюра на основе послов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маю, что эта пословица учит человека быть чутким и трудолюбивым. Смысл её я понимаю так: человек наметил выполнить какое-то дело, значит, надо приложить все силы, чтобы достичь результ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 пословица мудрая, потому что в ней говорится о человеке, который радуется. Веселится, но не забывает о своих обязанн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инаю такой случай. У моего друга приближалось день рождения. Все радовались вместе с ним. Но он забыл о всех делах по дому, и ему пришлось ответить за свою оплош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много пословиц, которые учат человека, но эта самая важная – она учит ответств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уздов Иван, 5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20532000">
            <a:off x="250920" y="2565360"/>
            <a:ext cx="3346200" cy="2500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67280" y="919800"/>
            <a:ext cx="4752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Б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сочинение-миниатюра на основе летних впечатле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что я люблю лето? За спелые яблоки? Сладкую клубнику? Изумрудную зелень травы? А ещё лето – это тепло, солнце и ощущение неизбывного счастья. Именно летом со мной происходят самые различные истории, даже волшеб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ажды я встала так рано, что в квартире было ещё темно. Но я не побоялась темноты и вышла на улицу. Стою, любуюсь сонной ещё природой и вдруг вижу: в паутине запуталась бабочка. Она уже была без сил. Я её освободила и положила на руку. Бабочка вспорхнула, облетела вокруг меня и села мне на плечо. Я расценила это, как желание бабочки дружить со мной. А потом она улетела в небо, как август, как уходящее ле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встречи, бабочка-подруг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пенёва Влада, 6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726000" cy="2792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48000" y="614160"/>
            <a:ext cx="55674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 НА ВЫБ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ошка сын к отцу пришё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спросила крох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Выборы – это хорош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ли это плохо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па кроху посад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сказал он крох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Я – российский граждан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ы, сыночек, то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втра вот наступит д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пойдут все лю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заполнят бюллет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округах повсю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путатов выбир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чень-очень тру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ужно честно избир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лать выбор мудр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каченко Леонид, 5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4310280" cy="3235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27640" y="931320"/>
            <a:ext cx="4248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сочинение-миниатюра с грамматическим заданием: описать дождь в художественном стил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днажды мне приснился сон. К нам на Землю прилетели инопланетяне. А в это время шёл дожд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А что это такое падает с неба? - спросили у меня удивлённые инопланетя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 Это дожд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 Дождь? А что такое дожд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Дождь – это чудо природы. Струи дождя, как серебряные нити, спускаются на деревья, травы. Умывают землю, задерживаясь на листочках, алмазными россыпями. Часто дождь завершается радугой. А кстати, вот она – смотри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нопланетяне впервые увидели радугу. Как они были рады, а я в этот момент проснула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удрявцева Алёна, 6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21018000">
            <a:off x="394920" y="2636640"/>
            <a:ext cx="4248000" cy="3184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356000" y="682560"/>
            <a:ext cx="4248360" cy="57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ень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е очень нравится эта пора. Как красива осень, одетая в нарядные, яркие и такие праздничные одежды. Жёлтые, оранжевые, красные, словно разноцветные бабочки, срываются листья с деревьев, чтобы совершить почётный круг и лечь ровным ковром под ноги прохож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ень! Сколько у неё запахов! Она пахнет недавно собранным урожаем, прелыми листьями и поздними цве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ак много звуков издаёт осенняя пора! Мы можем услышать крик-прощание с родным краем улетающих птиц. И шум листвы на деревьях, немного прощальный и потому грустный. И шуршание рыжего листопада под но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ая она, моя осен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брякова Мария, 6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95640" y="1360080"/>
            <a:ext cx="662436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ЕРЕД ВАМИ ГРОМАДА – РУССКИЙ ЯЗЫ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очинение-миниатюра на основе цитаты лингвистического характе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носторонен и интересен русский язык. Его необъятная величина поражает, в глубине мысли его можно утону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ский язык – большая страна, в которой есть города: Фонетика, Морфемика, Графика, Синтаксис и Пункту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исчислимы и непроходимы леса – правила. Чтобы в них не затеряться, нужно иметь особый компас – тягу к знан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ый элемент нашего родного языка – изучение его в других странах. Наш язык интересен моим сверстникам во Франции и  Англии, Японии и Германии. Это ли не доказывает его силу и величи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овлева Настя, 5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16:02:02Z</dcterms:created>
  <dc:creator>1</dc:creator>
  <dc:description/>
  <dc:language>en-US</dc:language>
  <cp:lastModifiedBy>1</cp:lastModifiedBy>
  <dcterms:modified xsi:type="dcterms:W3CDTF">2012-03-31T04:06:55Z</dcterms:modified>
  <cp:revision>4</cp:revision>
  <dc:subject/>
  <dc:title>УЧИТЕЛЬ,  НАУЧИ МЕНЯ ХОДИТЬ – ПОЛЕЧУ Я САМ</dc:title>
</cp:coreProperties>
</file>