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7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51B5-52F6-448F-9564-2AD2DCA24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449B-E6E0-4A39-8048-B68F3705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40E3-E46D-4454-AA74-F2926A0BB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94A1-6BF4-4319-8704-08BB38D34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7D54-CFAB-49B6-8E41-B3B5C3F92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207B-2D02-4E40-88FE-214845B7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7F85-AD04-4746-8864-636CB49D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F0FB-BA13-4C96-8B40-D00FEAAF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9477-D2C4-4451-ABE6-F80CBC33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8E5F-7C18-4D82-9762-9E2681D8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72B7-5359-477B-8E5F-7FE3F56B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62FB-F87A-4CFF-8B08-37FD4B23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B3A8-57B3-4E7F-800A-56DDEBDF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1B91-2172-4B46-B6B2-6942118C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FCC4-BD42-481D-BE14-F3827C40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610C-4ABA-4161-934F-B63FC1041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5BF8C-9789-4403-A29A-C5B70092A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01A97-FEB5-4057-9F17-E3C17864A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54948-5C8E-45B1-85E5-03C8CE2E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8B79E-DA2F-49F8-9D87-6EBCE36A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16F2F-7B9C-440C-AC25-110463D1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9B75D-2FF6-41DA-BFA9-2F54B1B2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6CCB-202A-40DE-A9DE-E1376466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F8076-1995-41D1-A6CD-3B4EC333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62072-E619-4C8E-8294-0494EC3B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50935-82DA-4F02-9F4E-6B53AAE8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25DE8-9C6C-4A35-BD3C-CD2B295B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40CCA-1403-41FA-A56E-4C5C22B1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B6ADF-F1D5-4FBF-9904-0ADCB6649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2ED5B-CAE0-494E-B3C6-B54637C08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6DBE9-B561-4BBD-834B-E2172907D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B42EC-0214-442D-BEE5-13CD8272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9FC9F-18C8-4760-B70C-79A53162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73FA-A4E8-4A94-832E-9DCDF371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CDC41-A9A8-4B7F-85BF-8BB3763D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77E52-D891-4634-8638-8572EE70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BEDB7-F937-4DC5-A183-4CCC1B4D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42F14-E453-454C-BED7-6FD9C9AC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31BAC-F5D0-4DB9-8C84-0BF3F6EF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223A0-880E-4462-AA5C-E74C259C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99A79-6BB7-4698-AFC1-84C6FE48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9845A-BC3A-474D-B877-54DC93B20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C9D19-9189-48EA-B697-74D1A2C8E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B23E-5F35-43B3-99D3-6A6B6850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1D93-DC99-418F-BC31-34FD4D4E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B268-4EA3-4DEE-91ED-F516D50B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3F7B-E0BD-4C0D-8D50-F56E08F6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3ED5-4784-4F1E-AD75-24452B22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d457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64E0-981B-4BAA-81D3-63C215D1BC60}" type="slidenum">
              <a:rPr b="0" lang="en-US" sz="1200" spc="-1" strike="noStrike">
                <a:solidFill>
                  <a:srgbClr val="1d457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e1d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D4E8-CB6B-4F56-AE7E-A5EE9AABA5CF}" type="slidenum">
              <a:rPr b="0" lang="en-US" sz="1200" spc="-1" strike="noStrike">
                <a:solidFill>
                  <a:srgbClr val="e3e1d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e1d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DE7B-9FA2-4357-9C31-C170221C38E1}" type="slidenum">
              <a:rPr b="0" lang="en-US" sz="1200" spc="-1" strike="noStrike">
                <a:solidFill>
                  <a:srgbClr val="e3e1d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d457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CF57-0041-4998-89C3-7C68D934C173}" type="slidenum">
              <a:rPr b="0" lang="en-US" sz="1200" spc="-1" strike="noStrike">
                <a:solidFill>
                  <a:srgbClr val="1d457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Детский сад №26 « Лейсан»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57160" y="1855800"/>
            <a:ext cx="228600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643280" y="2514240"/>
            <a:ext cx="404352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1" lang="en-US" sz="3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ект –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e46c0a"/>
                </a:solidFill>
                <a:latin typeface="Constantia"/>
              </a:rPr>
              <a:t>Город будущего</a:t>
            </a:r>
            <a:endParaRPr b="0" lang="en-US" sz="5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2"/>
          <a:stretch/>
        </p:blipFill>
        <p:spPr>
          <a:xfrm>
            <a:off x="457200" y="2357280"/>
            <a:ext cx="4040280" cy="36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85600" y="704520"/>
            <a:ext cx="7072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ы решили сделать папье маше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 Идею мне подала Азалия и её мама)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2"/>
          <a:stretch/>
        </p:blipFill>
        <p:spPr>
          <a:xfrm>
            <a:off x="2500200" y="2357280"/>
            <a:ext cx="4929480" cy="3429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"/>
          <p:cNvPicPr/>
          <p:nvPr/>
        </p:nvPicPr>
        <p:blipFill>
          <a:blip r:embed="rId3"/>
          <a:stretch/>
        </p:blipFill>
        <p:spPr>
          <a:xfrm>
            <a:off x="428760" y="1214280"/>
            <a:ext cx="11332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57280" y="7045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апье -маше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2"/>
          <a:stretch/>
        </p:blipFill>
        <p:spPr>
          <a:xfrm>
            <a:off x="2428920" y="2357280"/>
            <a:ext cx="5214960" cy="31435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"/>
          <p:cNvPicPr/>
          <p:nvPr/>
        </p:nvPicPr>
        <p:blipFill>
          <a:blip r:embed="rId3"/>
          <a:stretch/>
        </p:blipFill>
        <p:spPr>
          <a:xfrm>
            <a:off x="428760" y="1214280"/>
            <a:ext cx="1071360" cy="16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428560" y="642600"/>
            <a:ext cx="6186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Очень стараемся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2"/>
          <a:stretch/>
        </p:blipFill>
        <p:spPr>
          <a:xfrm>
            <a:off x="2214720" y="2357280"/>
            <a:ext cx="5357520" cy="35006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"/>
          <p:cNvPicPr/>
          <p:nvPr/>
        </p:nvPicPr>
        <p:blipFill>
          <a:blip r:embed="rId3"/>
          <a:stretch/>
        </p:blipFill>
        <p:spPr>
          <a:xfrm>
            <a:off x="428760" y="1143000"/>
            <a:ext cx="11332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643120" y="704520"/>
            <a:ext cx="6043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Идея понравилась всем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2"/>
          <a:stretch/>
        </p:blipFill>
        <p:spPr>
          <a:xfrm>
            <a:off x="2928960" y="2276640"/>
            <a:ext cx="4164120" cy="3889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"/>
          <p:cNvPicPr/>
          <p:nvPr/>
        </p:nvPicPr>
        <p:blipFill>
          <a:blip r:embed="rId3"/>
          <a:stretch/>
        </p:blipFill>
        <p:spPr>
          <a:xfrm>
            <a:off x="428760" y="1214280"/>
            <a:ext cx="1071360" cy="16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857680" y="704520"/>
            <a:ext cx="5829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аши старания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2"/>
          <a:stretch/>
        </p:blipFill>
        <p:spPr>
          <a:xfrm>
            <a:off x="3419640" y="2133720"/>
            <a:ext cx="4105080" cy="4103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3"/>
          <a:stretch/>
        </p:blipFill>
        <p:spPr>
          <a:xfrm>
            <a:off x="500040" y="1000080"/>
            <a:ext cx="11336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357280" y="7045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сле высыхания необходимо покрасить наши поделки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2"/>
          <a:stretch/>
        </p:blipFill>
        <p:spPr>
          <a:xfrm>
            <a:off x="2286000" y="2060640"/>
            <a:ext cx="4714920" cy="4154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"/>
          <p:cNvPicPr/>
          <p:nvPr/>
        </p:nvPicPr>
        <p:blipFill>
          <a:blip r:embed="rId3"/>
          <a:stretch/>
        </p:blipFill>
        <p:spPr>
          <a:xfrm>
            <a:off x="428760" y="1214280"/>
            <a:ext cx="1071360" cy="16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428560" y="7045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Мы очень стараемся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2"/>
          <a:stretch/>
        </p:blipFill>
        <p:spPr>
          <a:xfrm>
            <a:off x="2268360" y="2205000"/>
            <a:ext cx="5289840" cy="42483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"/>
          <p:cNvPicPr/>
          <p:nvPr/>
        </p:nvPicPr>
        <p:blipFill>
          <a:blip r:embed="rId3"/>
          <a:stretch/>
        </p:blipFill>
        <p:spPr>
          <a:xfrm>
            <a:off x="642960" y="1143000"/>
            <a:ext cx="11332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357280" y="7045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аш город </a:t>
            </a:r>
            <a:r>
              <a:rPr b="1" lang="en-US" sz="4400" spc="-1" strike="noStrike">
                <a:solidFill>
                  <a:srgbClr val="f79646"/>
                </a:solidFill>
                <a:latin typeface="Times New Roman"/>
                <a:ea typeface="Times New Roman"/>
              </a:rPr>
              <a:t>Будущего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2"/>
          <a:stretch/>
        </p:blipFill>
        <p:spPr>
          <a:xfrm>
            <a:off x="2268360" y="2428920"/>
            <a:ext cx="5518440" cy="38084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3"/>
          <a:stretch/>
        </p:blipFill>
        <p:spPr>
          <a:xfrm>
            <a:off x="428760" y="1214280"/>
            <a:ext cx="1071360" cy="16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42720" y="7045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Надо все правильно разместить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2268360" y="1989000"/>
            <a:ext cx="5183280" cy="4248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" descr=""/>
          <p:cNvPicPr/>
          <p:nvPr/>
        </p:nvPicPr>
        <p:blipFill>
          <a:blip r:embed="rId3"/>
          <a:stretch/>
        </p:blipFill>
        <p:spPr>
          <a:xfrm>
            <a:off x="642960" y="1143000"/>
            <a:ext cx="14288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643120" y="704520"/>
            <a:ext cx="6043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</a:t>
            </a:r>
            <a:r>
              <a:rPr b="1" lang="en-US" sz="5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оветуемся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2556000" y="1989000"/>
            <a:ext cx="4876560" cy="4311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"/>
          <p:cNvPicPr/>
          <p:nvPr/>
        </p:nvPicPr>
        <p:blipFill>
          <a:blip r:embed="rId3"/>
          <a:stretch/>
        </p:blipFill>
        <p:spPr>
          <a:xfrm>
            <a:off x="428760" y="1214280"/>
            <a:ext cx="1071360" cy="16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Изучаем свойства бумаги</a:t>
            </a: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2"/>
          <a:stretch/>
        </p:blipFill>
        <p:spPr>
          <a:xfrm>
            <a:off x="2500200" y="2286000"/>
            <a:ext cx="5286600" cy="4143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"/>
          <p:cNvPicPr/>
          <p:nvPr/>
        </p:nvPicPr>
        <p:blipFill>
          <a:blip r:embed="rId3"/>
          <a:stretch/>
        </p:blipFill>
        <p:spPr>
          <a:xfrm>
            <a:off x="285840" y="928800"/>
            <a:ext cx="14288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9840" y="704520"/>
            <a:ext cx="6186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буем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5446800" cy="44654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"/>
          <p:cNvPicPr/>
          <p:nvPr/>
        </p:nvPicPr>
        <p:blipFill>
          <a:blip r:embed="rId3"/>
          <a:stretch/>
        </p:blipFill>
        <p:spPr>
          <a:xfrm>
            <a:off x="857160" y="1285920"/>
            <a:ext cx="11336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000160" y="70452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Радуемся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2"/>
          <a:stretch/>
        </p:blipFill>
        <p:spPr>
          <a:xfrm>
            <a:off x="2214720" y="2133720"/>
            <a:ext cx="5572080" cy="41749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"/>
          <p:cNvPicPr/>
          <p:nvPr/>
        </p:nvPicPr>
        <p:blipFill>
          <a:blip r:embed="rId3"/>
          <a:stretch/>
        </p:blipFill>
        <p:spPr>
          <a:xfrm>
            <a:off x="428760" y="1214280"/>
            <a:ext cx="1071360" cy="16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42720" y="7045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аем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2"/>
          <a:stretch/>
        </p:blipFill>
        <p:spPr>
          <a:xfrm>
            <a:off x="2195640" y="2133720"/>
            <a:ext cx="5905440" cy="41036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"/>
          <p:cNvPicPr/>
          <p:nvPr/>
        </p:nvPicPr>
        <p:blipFill>
          <a:blip r:embed="rId3"/>
          <a:stretch/>
        </p:blipFill>
        <p:spPr>
          <a:xfrm>
            <a:off x="214200" y="857160"/>
            <a:ext cx="20005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856880" y="713880"/>
            <a:ext cx="66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</a:t>
            </a:r>
            <a:r>
              <a:rPr b="1" lang="en-US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идумываем сказку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2286000" y="2133720"/>
            <a:ext cx="6102360" cy="4248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28760" y="1214280"/>
            <a:ext cx="12859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071440" y="7045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аша сказка получилась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2"/>
          <a:stretch/>
        </p:blipFill>
        <p:spPr>
          <a:xfrm>
            <a:off x="2340000" y="2060640"/>
            <a:ext cx="6192720" cy="42480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" descr=""/>
          <p:cNvPicPr/>
          <p:nvPr/>
        </p:nvPicPr>
        <p:blipFill>
          <a:blip r:embed="rId3"/>
          <a:stretch/>
        </p:blipFill>
        <p:spPr>
          <a:xfrm>
            <a:off x="357120" y="1285920"/>
            <a:ext cx="16336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714400" y="704520"/>
            <a:ext cx="597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ы очень довольны!!!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2"/>
          <a:stretch/>
        </p:blipFill>
        <p:spPr>
          <a:xfrm>
            <a:off x="2627280" y="1989000"/>
            <a:ext cx="5832360" cy="43927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"/>
          <p:cNvPicPr/>
          <p:nvPr/>
        </p:nvPicPr>
        <p:blipFill>
          <a:blip r:embed="rId3"/>
          <a:stretch/>
        </p:blipFill>
        <p:spPr>
          <a:xfrm>
            <a:off x="428760" y="1214280"/>
            <a:ext cx="164304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714400" y="704520"/>
            <a:ext cx="597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аш город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удущего</a:t>
            </a:r>
            <a:r>
              <a:rPr b="1" lang="en-US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-готов!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2"/>
          <a:stretch/>
        </p:blipFill>
        <p:spPr>
          <a:xfrm>
            <a:off x="2700360" y="1916280"/>
            <a:ext cx="5543640" cy="43923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" descr=""/>
          <p:cNvPicPr/>
          <p:nvPr/>
        </p:nvPicPr>
        <p:blipFill>
          <a:blip r:embed="rId3"/>
          <a:stretch/>
        </p:blipFill>
        <p:spPr>
          <a:xfrm>
            <a:off x="857160" y="642960"/>
            <a:ext cx="17859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Бумагу можно мять.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2"/>
          <a:stretch/>
        </p:blipFill>
        <p:spPr>
          <a:xfrm>
            <a:off x="2286000" y="2286000"/>
            <a:ext cx="5429160" cy="4000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3"/>
          <a:stretch/>
        </p:blipFill>
        <p:spPr>
          <a:xfrm>
            <a:off x="428760" y="1214280"/>
            <a:ext cx="1071360" cy="16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28560" y="7045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Бумага может быть мягкой и твердой</a:t>
            </a:r>
            <a:endParaRPr b="0" lang="en-US" sz="45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2"/>
          <a:stretch/>
        </p:blipFill>
        <p:spPr>
          <a:xfrm>
            <a:off x="2500200" y="2428920"/>
            <a:ext cx="5143680" cy="37148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"/>
          <p:cNvPicPr/>
          <p:nvPr/>
        </p:nvPicPr>
        <p:blipFill>
          <a:blip r:embed="rId3"/>
          <a:stretch/>
        </p:blipFill>
        <p:spPr>
          <a:xfrm>
            <a:off x="285840" y="928800"/>
            <a:ext cx="17143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57200" y="7045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Бумагу можно порвать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2428920" y="2428920"/>
            <a:ext cx="4786200" cy="32148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3"/>
          <a:stretch/>
        </p:blipFill>
        <p:spPr>
          <a:xfrm>
            <a:off x="428760" y="1214280"/>
            <a:ext cx="1071360" cy="16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714400" y="704520"/>
            <a:ext cx="597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А бумага  оказывается не тонет –ВОТ здорово!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2500200" y="2571840"/>
            <a:ext cx="5072040" cy="3500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"/>
          <p:cNvPicPr/>
          <p:nvPr/>
        </p:nvPicPr>
        <p:blipFill>
          <a:blip r:embed="rId3"/>
          <a:stretch/>
        </p:blipFill>
        <p:spPr>
          <a:xfrm>
            <a:off x="285840" y="928800"/>
            <a:ext cx="14288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85680" y="704520"/>
            <a:ext cx="5900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А под грузом  бумага быстро тонет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2"/>
          <a:stretch/>
        </p:blipFill>
        <p:spPr>
          <a:xfrm>
            <a:off x="2286000" y="2428920"/>
            <a:ext cx="5357880" cy="3857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3"/>
          <a:stretch/>
        </p:blipFill>
        <p:spPr>
          <a:xfrm>
            <a:off x="428760" y="1214280"/>
            <a:ext cx="12859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6000" y="7045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А теперь ,что мы вспомнили и увидели мы зарисуем схемами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2"/>
          <a:stretch/>
        </p:blipFill>
        <p:spPr>
          <a:xfrm>
            <a:off x="2786040" y="2571840"/>
            <a:ext cx="5429160" cy="3214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"/>
          <p:cNvPicPr/>
          <p:nvPr/>
        </p:nvPicPr>
        <p:blipFill>
          <a:blip r:embed="rId3"/>
          <a:stretch/>
        </p:blipFill>
        <p:spPr>
          <a:xfrm>
            <a:off x="571680" y="1214280"/>
            <a:ext cx="11332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28560" y="7045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А Марат ещё и запишет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2"/>
          <a:stretch/>
        </p:blipFill>
        <p:spPr>
          <a:xfrm>
            <a:off x="2500200" y="2357280"/>
            <a:ext cx="5429520" cy="32864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"/>
          <p:cNvPicPr/>
          <p:nvPr/>
        </p:nvPicPr>
        <p:blipFill>
          <a:blip r:embed="rId3"/>
          <a:stretch/>
        </p:blipFill>
        <p:spPr>
          <a:xfrm>
            <a:off x="428760" y="1214280"/>
            <a:ext cx="1071360" cy="16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5T17:58:39Z</dcterms:created>
  <dc:creator>Admin</dc:creator>
  <dc:description/>
  <dc:language>en-US</dc:language>
  <cp:lastModifiedBy>Boss</cp:lastModifiedBy>
  <dcterms:modified xsi:type="dcterms:W3CDTF">2012-02-27T05:11:13Z</dcterms:modified>
  <cp:revision>30</cp:revision>
  <dc:subject/>
  <dc:title>Слайд 1</dc:title>
</cp:coreProperties>
</file>