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D3F5-0B8D-4450-9C28-CDC34BCF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9A6E-AE05-484B-9EBB-F0DA6FC1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50F-EB61-466F-80DC-8A029FF5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1E6-FB2B-4A85-B068-2E8C78D6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C16C-585A-4BFD-9F65-DF715916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C509-2DD5-422A-9F89-FCCAFF03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EA16-0F0F-4095-A7CD-8E3C146A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1A88-4C95-4E1E-845A-42AE1B18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EABF-72F2-477B-A1F1-253E58BD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968B-ED22-4A57-A7A8-5C6576BE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4B3E-6975-429D-BCEA-6F1ACA1E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056-C492-47E3-83BA-0B543DC7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1637-D9F2-4F8A-A299-1C5A88D0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9096-1EC6-4E66-A6E8-FFDB9B8A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93D1-D2EE-4F10-AFEC-3914C092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DA01-425B-41CD-90D3-FBD88C56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9534-0AA4-43DF-9901-D61DD41D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E588A-64B8-4543-9DCF-EBD838BE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25D41-749B-45F8-BEBE-31CF0BDB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550DC-FB3A-4FCE-B12A-B1825774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E731C-F99E-4D8D-8C11-53E3992A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5BA9B-52D5-4C26-85B1-DAD9239F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765-9292-4221-9433-3F63CBE5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205CA-E78E-42A3-BCB1-001F244E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98F2D-525E-4B73-BF87-11C6C61F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27E0C-ECD4-4BF6-800D-FEA7B017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02FB0-6513-4A1D-BC57-3B4B1397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82187-19AD-4EB7-8584-585DD301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434E9-3BEB-4F4C-BA02-9FC0DCE0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CABBB-8C75-4654-BE08-0172B350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83767-F476-4354-AEE7-78BA6176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1E66D-D611-434D-A256-2E8C394F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84E02-53E2-4C59-B7DF-9FAB67AA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DFE2-D666-4A7B-BFCD-8EBF65B6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11FE5-5455-41CC-8A96-CCD9067E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FEC5E-F9F1-4C49-A134-9F1695CD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7E6CB-83EE-4CBD-976D-CD4E3BE1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AEF8E-276B-4149-B0AC-FDA9CB57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4F618-3821-4002-A333-8A7E23A8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0A673-BD54-4BF8-94A3-B766E568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D74DB-2DBB-41CC-B2AA-2C03E6C4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3D9A7-0924-43E4-BF8F-E894D0FF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9EDEF-816D-49B2-8EA4-6DBCA7E6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1808-A7BA-408C-A540-60C51183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1B30-86E7-4009-A2F9-E31C125A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981A-897A-4233-8BA3-3F908628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3A57-793D-43DC-BE2E-99B209B7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451B-8086-49EF-9328-CE682EE2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3E35-4540-49FC-8035-6D1152411537}" type="slidenum"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E728-C735-4DA8-93F9-F4294053CBEF}" type="slidenum">
              <a:rPr b="0" lang="en-US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FAF6-BA4C-4D02-AB37-1400F5816FC7}" type="slidenum">
              <a:rPr b="0" lang="en-US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0C19-C92F-48F2-87D9-0C97D03FCBC8}" type="slidenum"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Детский сад №26 « Лейсан»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57160" y="1855800"/>
            <a:ext cx="228600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3280" y="2514240"/>
            <a:ext cx="404352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en-US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ект –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46c0a"/>
                </a:solidFill>
                <a:latin typeface="Constantia"/>
              </a:rPr>
              <a:t>Город будущего</a:t>
            </a:r>
            <a:endParaRPr b="0" lang="en-US" sz="5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457200" y="2357280"/>
            <a:ext cx="4040280" cy="36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85600" y="704520"/>
            <a:ext cx="7072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ы решили сделать папье маше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 Идею мне подала Азалия и её мама)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2500200" y="2357280"/>
            <a:ext cx="4929480" cy="3429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133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57280" y="7045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апье -маше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2428920" y="2357280"/>
            <a:ext cx="5214960" cy="3143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28560" y="64260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чень стараемся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2214720" y="2357280"/>
            <a:ext cx="5357520" cy="3500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3"/>
          <a:stretch/>
        </p:blipFill>
        <p:spPr>
          <a:xfrm>
            <a:off x="428760" y="1143000"/>
            <a:ext cx="1133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643120" y="704520"/>
            <a:ext cx="6043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Идея понравилась всем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2928960" y="2276640"/>
            <a:ext cx="4164120" cy="3889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57680" y="7045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ши старания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4105080" cy="4103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3"/>
          <a:stretch/>
        </p:blipFill>
        <p:spPr>
          <a:xfrm>
            <a:off x="500040" y="1000080"/>
            <a:ext cx="1133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57280" y="7045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сле высыхания необходимо покрасить наши поделки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2286000" y="2060640"/>
            <a:ext cx="4714920" cy="4154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28560" y="7045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ы очень стараемся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>
            <a:off x="2268360" y="2205000"/>
            <a:ext cx="5289840" cy="4248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3"/>
          <a:stretch/>
        </p:blipFill>
        <p:spPr>
          <a:xfrm>
            <a:off x="642960" y="1143000"/>
            <a:ext cx="1133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57280" y="7045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ш город </a:t>
            </a:r>
            <a:r>
              <a:rPr b="1" lang="en-US" sz="44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Будущего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2268360" y="2428920"/>
            <a:ext cx="5518440" cy="3808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42720" y="7045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адо все правильно разместить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2268360" y="1989000"/>
            <a:ext cx="5183280" cy="4248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"/>
          <p:cNvPicPr/>
          <p:nvPr/>
        </p:nvPicPr>
        <p:blipFill>
          <a:blip r:embed="rId3"/>
          <a:stretch/>
        </p:blipFill>
        <p:spPr>
          <a:xfrm>
            <a:off x="642960" y="1143000"/>
            <a:ext cx="1428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643120" y="704520"/>
            <a:ext cx="6043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</a:t>
            </a:r>
            <a:r>
              <a:rPr b="1" lang="en-US" sz="5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ветуемся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4876560" cy="4311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зучаем свойства бумаги</a:t>
            </a: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2"/>
          <a:stretch/>
        </p:blipFill>
        <p:spPr>
          <a:xfrm>
            <a:off x="2500200" y="2286000"/>
            <a:ext cx="5286600" cy="4143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3"/>
          <a:stretch/>
        </p:blipFill>
        <p:spPr>
          <a:xfrm>
            <a:off x="285840" y="92880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9840" y="7045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буем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5446800" cy="4465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857160" y="1285920"/>
            <a:ext cx="11336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000160" y="7045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дуемся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2214720" y="2133720"/>
            <a:ext cx="5572080" cy="4174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42720" y="7045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ем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5905440" cy="4103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214200" y="857160"/>
            <a:ext cx="2000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56880" y="713880"/>
            <a:ext cx="66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идумываем сказку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6102360" cy="424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2859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071440" y="7045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ша сказка получилась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2340000" y="2060640"/>
            <a:ext cx="6192720" cy="424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3"/>
          <a:stretch/>
        </p:blipFill>
        <p:spPr>
          <a:xfrm>
            <a:off x="357120" y="1285920"/>
            <a:ext cx="16336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714400" y="704520"/>
            <a:ext cx="597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ы очень довольны!!!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5832360" cy="4392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6430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714400" y="704520"/>
            <a:ext cx="597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ш город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ущего</a:t>
            </a: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-готов!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2700360" y="1916280"/>
            <a:ext cx="5543640" cy="4392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3"/>
          <a:stretch/>
        </p:blipFill>
        <p:spPr>
          <a:xfrm>
            <a:off x="857160" y="642960"/>
            <a:ext cx="17859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умагу можно мять.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2286000" y="2286000"/>
            <a:ext cx="5429160" cy="4000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28560" y="7045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Бумага может быть мягкой и твердой</a:t>
            </a:r>
            <a:endParaRPr b="0" lang="en-US" sz="45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2500200" y="2428920"/>
            <a:ext cx="5143680" cy="3714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"/>
          <p:cNvPicPr/>
          <p:nvPr/>
        </p:nvPicPr>
        <p:blipFill>
          <a:blip r:embed="rId3"/>
          <a:stretch/>
        </p:blipFill>
        <p:spPr>
          <a:xfrm>
            <a:off x="285840" y="928800"/>
            <a:ext cx="17143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57200" y="7045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умагу можно порвать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2428920" y="2428920"/>
            <a:ext cx="4786200" cy="3214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714400" y="704520"/>
            <a:ext cx="597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 бумага  оказывается не тонет –ВОТ здорово!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2500200" y="2571840"/>
            <a:ext cx="5072040" cy="3500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3"/>
          <a:stretch/>
        </p:blipFill>
        <p:spPr>
          <a:xfrm>
            <a:off x="285840" y="928800"/>
            <a:ext cx="14288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85680" y="70452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 под грузом  бумага быстро тонет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2286000" y="2428920"/>
            <a:ext cx="5357880" cy="3857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2859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0" y="704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 теперь ,что мы вспомнили и увидели мы зарисуем схемами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2786040" y="2571840"/>
            <a:ext cx="5429160" cy="3214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3"/>
          <a:stretch/>
        </p:blipFill>
        <p:spPr>
          <a:xfrm>
            <a:off x="571680" y="1214280"/>
            <a:ext cx="1133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28560" y="7045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 Марат ещё и запишет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2500200" y="2357280"/>
            <a:ext cx="5429520" cy="3286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17:58:39Z</dcterms:created>
  <dc:creator>Admin</dc:creator>
  <dc:description/>
  <dc:language>en-US</dc:language>
  <cp:lastModifiedBy>Boss</cp:lastModifiedBy>
  <dcterms:modified xsi:type="dcterms:W3CDTF">2012-02-27T05:11:13Z</dcterms:modified>
  <cp:revision>30</cp:revision>
  <dc:subject/>
  <dc:title>Слайд 1</dc:title>
</cp:coreProperties>
</file>