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487-E476-4239-B32B-BF588740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56C-81A1-4702-AC59-728F3FE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D5D-588C-4083-A792-E978AE32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B78-B486-46F6-8961-74322762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7D5-0F42-416B-806F-A914440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CD6-5BB5-44BE-85B5-FA1E9A47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37E5-8CCA-4AC2-98A0-BEBD1B2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56B7-D5BF-4F77-B652-213E585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984-1518-4355-A733-ACD3B79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D36-4EE5-4C6C-8F87-18AB0FA8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CF7D-89E0-42FA-9400-D04DCF4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8CD-7AB6-4379-B5AF-EC69F17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E2DB-64E0-41B9-82ED-4BC6DEA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23C5-2084-42CF-9F95-3485EEF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F71-4420-4DD5-BEE3-545F08E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05D3-20A8-46F0-8617-79954C33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64B-D98D-4414-B41C-B25246FA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47F-292C-45D9-9FE0-E69822B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4E9-21FC-4C52-881E-B60AB3D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B06-2074-40CA-B791-1A637EF9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A20-8054-488F-B020-1832AAAC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68C-6EB6-4749-ABEF-53B3179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E84-0EA1-499D-BF5A-C099487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DD7-30B2-4E78-A32E-AA47F95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E240-1347-49E6-8A4D-12ECD3446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C85-151F-4745-A0EE-C238B98F5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Использование активных методов обучения на урока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технолог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БОУ ЦО 142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занова Маргарит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ъяснение нового материал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и этап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ить моделирование прямой ю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867280" y="46530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1728720" cy="2303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227640" y="1413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3635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7280" y="380880"/>
            <a:ext cx="46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крепление  материа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2540160" cy="3384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443640" y="3429000"/>
            <a:ext cx="2428920" cy="3240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4284720" y="458136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3492360" y="170028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ение и проверка пройденног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 rot="20816400">
            <a:off x="899640" y="4292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20963400">
            <a:off x="539280" y="1773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513000">
            <a:off x="6479640" y="3644640"/>
            <a:ext cx="2160720" cy="2881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924360" y="3573360"/>
            <a:ext cx="2050920" cy="2735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419640" y="1844640"/>
            <a:ext cx="1439640" cy="1370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 rot="795600">
            <a:off x="5940360" y="162828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8515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флекс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ветофор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ждый метод делает активным тот, кто его применяет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8000" y="1557360"/>
            <a:ext cx="5531040" cy="360684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0033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692280"/>
            <a:ext cx="5791320" cy="574560"/>
          </a:xfrm>
          <a:prstGeom prst="roundRect">
            <a:avLst>
              <a:gd name="adj" fmla="val 50000"/>
            </a:avLst>
          </a:prstGeom>
          <a:solidFill>
            <a:srgbClr val="99ccff">
              <a:alpha val="99000"/>
            </a:srgbClr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99cd"/>
                </a:solidFill>
                <a:latin typeface="Verdana"/>
              </a:rPr>
              <a:t>активные методы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лог учителя и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4360" y="4221000"/>
            <a:ext cx="3886920" cy="2070360"/>
            <a:chOff x="684360" y="4221000"/>
            <a:chExt cx="3886920" cy="2070360"/>
          </a:xfrm>
        </p:grpSpPr>
        <p:grpSp>
          <p:nvGrpSpPr>
            <p:cNvPr id="88" name=""/>
            <p:cNvGrpSpPr/>
            <p:nvPr/>
          </p:nvGrpSpPr>
          <p:grpSpPr>
            <a:xfrm>
              <a:off x="684360" y="4221000"/>
              <a:ext cx="3655800" cy="1514520"/>
              <a:chOff x="684360" y="4221000"/>
              <a:chExt cx="3655800" cy="151452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684360" y="4221000"/>
                <a:ext cx="3655800" cy="1514520"/>
                <a:chOff x="684360" y="4221000"/>
                <a:chExt cx="3655800" cy="15145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84360" y="4221000"/>
                  <a:ext cx="365580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204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02320" y="4245840"/>
                  <a:ext cx="2820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1450800" y="4944240"/>
                <a:ext cx="236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развивающе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4360" y="5853240"/>
              <a:ext cx="3886920" cy="4381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003640" y="4292640"/>
            <a:ext cx="3888720" cy="2114640"/>
            <a:chOff x="5003640" y="4292640"/>
            <a:chExt cx="3888720" cy="2114640"/>
          </a:xfrm>
        </p:grpSpPr>
        <p:grpSp>
          <p:nvGrpSpPr>
            <p:cNvPr id="95" name=""/>
            <p:cNvGrpSpPr/>
            <p:nvPr/>
          </p:nvGrpSpPr>
          <p:grpSpPr>
            <a:xfrm>
              <a:off x="5003640" y="4292640"/>
              <a:ext cx="3751200" cy="1531800"/>
              <a:chOff x="5003640" y="4292640"/>
              <a:chExt cx="3751200" cy="15318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03640" y="4292640"/>
                <a:ext cx="3751200" cy="1531800"/>
                <a:chOff x="5003640" y="4292640"/>
                <a:chExt cx="3751200" cy="15318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003640" y="4292640"/>
                  <a:ext cx="375120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3d3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32400" y="4317840"/>
                  <a:ext cx="289404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5808960" y="4958640"/>
                <a:ext cx="20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облемно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003640" y="5969160"/>
              <a:ext cx="3888720" cy="4381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68360" y="333360"/>
            <a:ext cx="7919640" cy="6066720"/>
            <a:chOff x="468360" y="333360"/>
            <a:chExt cx="7919640" cy="6066720"/>
          </a:xfrm>
        </p:grpSpPr>
        <p:sp>
          <p:nvSpPr>
            <p:cNvPr id="102" name=""/>
            <p:cNvSpPr/>
            <p:nvPr/>
          </p:nvSpPr>
          <p:spPr>
            <a:xfrm>
              <a:off x="5826240" y="1361160"/>
              <a:ext cx="1017000" cy="246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6200" y="3375360"/>
              <a:ext cx="1720800" cy="416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91400" y="5795640"/>
              <a:ext cx="2496600" cy="604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1200" y="4166640"/>
              <a:ext cx="2026800" cy="491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3770000">
              <a:off x="5294520" y="3233160"/>
              <a:ext cx="1147320" cy="26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856000">
              <a:off x="2488680" y="2709720"/>
              <a:ext cx="1381320" cy="206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73160" y="1142640"/>
              <a:ext cx="2303640" cy="2200320"/>
              <a:chOff x="3773160" y="1142640"/>
              <a:chExt cx="2303640" cy="2200320"/>
            </a:xfrm>
          </p:grpSpPr>
          <p:sp>
            <p:nvSpPr>
              <p:cNvPr id="109" name=""/>
              <p:cNvSpPr/>
              <p:nvPr/>
            </p:nvSpPr>
            <p:spPr>
              <a:xfrm rot="18394200">
                <a:off x="5435640" y="1392120"/>
                <a:ext cx="712800" cy="18000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3773160" y="1442520"/>
                <a:ext cx="2202480" cy="1900440"/>
                <a:chOff x="3773160" y="1442520"/>
                <a:chExt cx="2202480" cy="19004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773160" y="1442520"/>
                  <a:ext cx="2202480" cy="190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3d3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24800" y="1473840"/>
                  <a:ext cx="1698840" cy="717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231080" y="2269440"/>
                <a:ext cx="122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задач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702760" y="333360"/>
              <a:ext cx="1246680" cy="1029240"/>
              <a:chOff x="5702760" y="333360"/>
              <a:chExt cx="1246680" cy="1029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702760" y="333360"/>
                <a:ext cx="1192680" cy="1029240"/>
                <a:chOff x="5702760" y="333360"/>
                <a:chExt cx="1192680" cy="1029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02760" y="333360"/>
                  <a:ext cx="1192680" cy="102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5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350280"/>
                  <a:ext cx="920160" cy="388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5704560" y="729360"/>
                <a:ext cx="124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Verdana"/>
                  </a:rPr>
                  <a:t>контроль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68360" y="1917000"/>
              <a:ext cx="2387160" cy="2138760"/>
              <a:chOff x="468360" y="1917000"/>
              <a:chExt cx="2387160" cy="213876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468360" y="1917000"/>
                <a:ext cx="2387160" cy="2138760"/>
                <a:chOff x="468360" y="1917000"/>
                <a:chExt cx="2387160" cy="2138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68360" y="1917000"/>
                  <a:ext cx="2387160" cy="213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2449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41240" y="1952280"/>
                  <a:ext cx="1841400" cy="807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674640" y="2867040"/>
                <a:ext cx="195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управле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2b5481"/>
                    </a:solidFill>
                    <a:latin typeface="Arial"/>
                  </a:rPr>
                  <a:t>процессом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608800" y="3422880"/>
              <a:ext cx="2754360" cy="2376000"/>
              <a:chOff x="5608800" y="3422880"/>
              <a:chExt cx="2754360" cy="23760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608800" y="3422880"/>
                <a:ext cx="2754360" cy="2376000"/>
                <a:chOff x="5608800" y="3422880"/>
                <a:chExt cx="2754360" cy="2376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608800" y="3422880"/>
                  <a:ext cx="2754360" cy="23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923440" y="3462120"/>
                  <a:ext cx="2125080" cy="896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128640" y="4600440"/>
                <a:ext cx="1951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активное участие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</a:rPr>
                  <a:t>всех участнико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5840" y="-5067000"/>
            <a:ext cx="66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этапы учебного процес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42920" y="1773360"/>
            <a:ext cx="2098440" cy="4681080"/>
            <a:chOff x="1042920" y="1773360"/>
            <a:chExt cx="2098440" cy="4681080"/>
          </a:xfrm>
        </p:grpSpPr>
        <p:sp>
          <p:nvSpPr>
            <p:cNvPr id="132" name=""/>
            <p:cNvSpPr/>
            <p:nvPr/>
          </p:nvSpPr>
          <p:spPr>
            <a:xfrm>
              <a:off x="1042920" y="2130120"/>
              <a:ext cx="2092320" cy="3314880"/>
            </a:xfrm>
            <a:custGeom>
              <a:avLst/>
              <a:gdLst>
                <a:gd name="textAreaLeft" fmla="*/ 107280 w 2092320"/>
                <a:gd name="textAreaRight" fmla="*/ 1985040 w 2092320"/>
                <a:gd name="textAreaTop" fmla="*/ 107280 h 3314880"/>
                <a:gd name="textAreaBottom" fmla="*/ 3207600 h 3314880"/>
              </a:gdLst>
              <a:ahLst/>
              <a:rect l="textAreaLeft" t="textAreaTop" r="textAreaRight" b="textAreaBottom"/>
              <a:pathLst>
                <a:path w="21600" h="34219">
                  <a:moveTo>
                    <a:pt x="3782" y="0"/>
                  </a:moveTo>
                  <a:arcTo wR="3782" hR="3782" stAng="16200000" swAng="-5400000"/>
                  <a:lnTo>
                    <a:pt x="0" y="30437"/>
                  </a:lnTo>
                  <a:arcTo wR="3782" hR="3782" stAng="10800000" swAng="-5400000"/>
                  <a:lnTo>
                    <a:pt x="17818" y="342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4960" y="2139840"/>
              <a:ext cx="2029320" cy="3251880"/>
            </a:xfrm>
            <a:custGeom>
              <a:avLst/>
              <a:gdLst>
                <a:gd name="textAreaLeft" fmla="*/ 99000 w 2029320"/>
                <a:gd name="textAreaRight" fmla="*/ 1930320 w 2029320"/>
                <a:gd name="textAreaTop" fmla="*/ 99000 h 3251880"/>
                <a:gd name="textAreaBottom" fmla="*/ 3152880 h 3251880"/>
              </a:gdLst>
              <a:ahLst/>
              <a:rect l="textAreaLeft" t="textAreaTop" r="textAreaRight" b="textAreaBottom"/>
              <a:pathLst>
                <a:path w="21600" h="34611">
                  <a:moveTo>
                    <a:pt x="3600" y="0"/>
                  </a:moveTo>
                  <a:arcTo wR="3600" hR="3600" stAng="16200000" swAng="-5400000"/>
                  <a:lnTo>
                    <a:pt x="0" y="31011"/>
                  </a:lnTo>
                  <a:arcTo wR="3600" hR="3600" stAng="10800000" swAng="-5400000"/>
                  <a:lnTo>
                    <a:pt x="18000" y="346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1880" y="4533480"/>
              <a:ext cx="2001960" cy="82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91880" y="2165400"/>
              <a:ext cx="2001960" cy="82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9040" y="5445360"/>
              <a:ext cx="2092320" cy="1009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2b5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91880" y="5472720"/>
              <a:ext cx="200196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2b5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облемные лекци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искусс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762920" y="1773360"/>
              <a:ext cx="621720" cy="745560"/>
              <a:chOff x="1762920" y="1773360"/>
              <a:chExt cx="621720" cy="745560"/>
            </a:xfrm>
          </p:grpSpPr>
          <p:sp>
            <p:nvSpPr>
              <p:cNvPr id="139" name=""/>
              <p:cNvSpPr/>
              <p:nvPr/>
            </p:nvSpPr>
            <p:spPr>
              <a:xfrm>
                <a:off x="1762920" y="1773360"/>
                <a:ext cx="621720" cy="74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69400" y="1779120"/>
                <a:ext cx="601200" cy="721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76600" y="1783440"/>
                <a:ext cx="587160" cy="70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3080" y="1790280"/>
                <a:ext cx="558360" cy="65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15840" y="1807920"/>
                <a:ext cx="496080" cy="534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892520" y="18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16720" y="2657160"/>
              <a:ext cx="198972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ервичное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владен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наниями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92360" y="1773360"/>
            <a:ext cx="2022120" cy="4608000"/>
            <a:chOff x="3492360" y="1773360"/>
            <a:chExt cx="2022120" cy="4608000"/>
          </a:xfrm>
        </p:grpSpPr>
        <p:sp>
          <p:nvSpPr>
            <p:cNvPr id="147" name=""/>
            <p:cNvSpPr/>
            <p:nvPr/>
          </p:nvSpPr>
          <p:spPr>
            <a:xfrm>
              <a:off x="3492360" y="2124720"/>
              <a:ext cx="2019240" cy="326304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3263040"/>
                <a:gd name="textAreaBottom" fmla="*/ 3159720 h 3263040"/>
              </a:gdLst>
              <a:ahLst/>
              <a:rect l="textAreaLeft" t="textAreaTop" r="textAreaRight" b="textAreaBottom"/>
              <a:pathLst>
                <a:path w="21600" h="34903">
                  <a:moveTo>
                    <a:pt x="3782" y="0"/>
                  </a:moveTo>
                  <a:arcTo wR="3782" hR="3782" stAng="16200000" swAng="-5400000"/>
                  <a:lnTo>
                    <a:pt x="0" y="31121"/>
                  </a:lnTo>
                  <a:arcTo wR="3782" hR="3782" stAng="10800000" swAng="-5400000"/>
                  <a:lnTo>
                    <a:pt x="17818" y="3490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2960" y="2134080"/>
              <a:ext cx="1958760" cy="3201120"/>
            </a:xfrm>
            <a:custGeom>
              <a:avLst/>
              <a:gdLst>
                <a:gd name="textAreaLeft" fmla="*/ 95400 w 1958760"/>
                <a:gd name="textAreaRight" fmla="*/ 1863360 w 1958760"/>
                <a:gd name="textAreaTop" fmla="*/ 95400 h 3201120"/>
                <a:gd name="textAreaBottom" fmla="*/ 3105720 h 3201120"/>
              </a:gdLst>
              <a:ahLst/>
              <a:rect l="textAreaLeft" t="textAreaTop" r="textAreaRight" b="textAreaBottom"/>
              <a:pathLst>
                <a:path w="21600" h="35297">
                  <a:moveTo>
                    <a:pt x="3600" y="0"/>
                  </a:moveTo>
                  <a:arcTo wR="3600" hR="3600" stAng="16200000" swAng="-5400000"/>
                  <a:lnTo>
                    <a:pt x="0" y="31697"/>
                  </a:lnTo>
                  <a:arcTo wR="3600" hR="3600" stAng="10800000" swAng="-5400000"/>
                  <a:lnTo>
                    <a:pt x="18000" y="35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39520" y="4490640"/>
              <a:ext cx="1931760" cy="81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39520" y="2159280"/>
              <a:ext cx="1931760" cy="80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1773360"/>
              <a:ext cx="600120" cy="73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2920" y="1778400"/>
              <a:ext cx="580680" cy="710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0480" y="1782360"/>
              <a:ext cx="567000" cy="694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6240" y="1789560"/>
              <a:ext cx="539280" cy="646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8640" y="1807560"/>
              <a:ext cx="478800" cy="525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07400" y="187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2920" y="2643480"/>
              <a:ext cx="19202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4880" y="5387760"/>
              <a:ext cx="2019600" cy="993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2b5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36640" y="5415120"/>
              <a:ext cx="1931760" cy="88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2b5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Тестирова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коллективн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мыслительн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96000" y="1773360"/>
            <a:ext cx="2166480" cy="4608000"/>
            <a:chOff x="5796000" y="1773360"/>
            <a:chExt cx="2166480" cy="4608000"/>
          </a:xfrm>
        </p:grpSpPr>
        <p:sp>
          <p:nvSpPr>
            <p:cNvPr id="161" name=""/>
            <p:cNvSpPr/>
            <p:nvPr/>
          </p:nvSpPr>
          <p:spPr>
            <a:xfrm>
              <a:off x="5801760" y="2124720"/>
              <a:ext cx="2160720" cy="3263040"/>
            </a:xfrm>
            <a:custGeom>
              <a:avLst/>
              <a:gdLst>
                <a:gd name="textAreaLeft" fmla="*/ 110520 w 2160720"/>
                <a:gd name="textAreaRight" fmla="*/ 2050200 w 2160720"/>
                <a:gd name="textAreaTop" fmla="*/ 110520 h 3263040"/>
                <a:gd name="textAreaBottom" fmla="*/ 3152520 h 3263040"/>
              </a:gdLst>
              <a:ahLst/>
              <a:rect l="textAreaLeft" t="textAreaTop" r="textAreaRight" b="textAreaBottom"/>
              <a:pathLst>
                <a:path w="21600" h="32618">
                  <a:moveTo>
                    <a:pt x="3782" y="0"/>
                  </a:moveTo>
                  <a:arcTo wR="3782" hR="3782" stAng="16200000" swAng="-5400000"/>
                  <a:lnTo>
                    <a:pt x="0" y="28836"/>
                  </a:lnTo>
                  <a:arcTo wR="3782" hR="3782" stAng="10800000" swAng="-5400000"/>
                  <a:lnTo>
                    <a:pt x="17818" y="3261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5240" y="2134080"/>
              <a:ext cx="2095560" cy="320112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3201120"/>
                <a:gd name="textAreaBottom" fmla="*/ 3098880 h 3201120"/>
              </a:gdLst>
              <a:ahLst/>
              <a:rect l="textAreaLeft" t="textAreaTop" r="textAreaRight" b="textAreaBottom"/>
              <a:pathLst>
                <a:path w="21600" h="32994">
                  <a:moveTo>
                    <a:pt x="3600" y="0"/>
                  </a:moveTo>
                  <a:arcTo wR="3600" hR="3600" stAng="16200000" swAng="-5400000"/>
                  <a:lnTo>
                    <a:pt x="0" y="29394"/>
                  </a:lnTo>
                  <a:arcTo wR="3600" hR="3600" stAng="10800000" swAng="-5400000"/>
                  <a:lnTo>
                    <a:pt x="18000" y="32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52520" y="4490640"/>
              <a:ext cx="2067120" cy="81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52520" y="2159280"/>
              <a:ext cx="2067120" cy="80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545160" y="1773360"/>
              <a:ext cx="641880" cy="734040"/>
              <a:chOff x="6545160" y="1773360"/>
              <a:chExt cx="641880" cy="734040"/>
            </a:xfrm>
          </p:grpSpPr>
          <p:sp>
            <p:nvSpPr>
              <p:cNvPr id="166" name=""/>
              <p:cNvSpPr/>
              <p:nvPr/>
            </p:nvSpPr>
            <p:spPr>
              <a:xfrm>
                <a:off x="6545160" y="1773360"/>
                <a:ext cx="641880" cy="734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51640" y="1778760"/>
                <a:ext cx="620640" cy="710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59200" y="1783080"/>
                <a:ext cx="606240" cy="693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66040" y="1789920"/>
                <a:ext cx="576360" cy="6469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99520" y="1807200"/>
                <a:ext cx="512280" cy="52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685200" y="187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78080" y="2643480"/>
              <a:ext cx="20541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2dd9"/>
                  </a:solidFill>
                  <a:latin typeface="Arial"/>
                </a:rPr>
                <a:t>формирование </a:t>
              </a:r>
              <a:r>
                <a:rPr b="0" lang="ru-RU" sz="1800" spc="-1" strike="noStrike">
                  <a:solidFill>
                    <a:srgbClr val="c02dd9"/>
                  </a:solidFill>
                  <a:latin typeface="Arial"/>
                </a:rPr>
                <a:t>профессиональ-ных умений, навыков на основе знаний и </a:t>
              </a:r>
              <a:r>
                <a:rPr b="1" lang="ru-RU" sz="1800" spc="-1" strike="noStrike">
                  <a:solidFill>
                    <a:srgbClr val="c02dd9"/>
                  </a:solidFill>
                  <a:latin typeface="Arial"/>
                </a:rPr>
                <a:t>развитие </a:t>
              </a:r>
              <a:r>
                <a:rPr b="0" lang="ru-RU" sz="1800" spc="-1" strike="noStrike">
                  <a:solidFill>
                    <a:srgbClr val="c02dd9"/>
                  </a:solidFill>
                  <a:latin typeface="Arial"/>
                </a:rPr>
                <a:t>творческих способнос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6000" y="5387760"/>
              <a:ext cx="2160360" cy="993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2b5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39920" y="5415120"/>
              <a:ext cx="2066760" cy="88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515f1"/>
                  </a:solidFill>
                  <a:latin typeface="Tahoma"/>
                </a:rPr>
                <a:t>Моделированно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515f1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1515f1"/>
                  </a:solidFill>
                  <a:latin typeface="Tahoma"/>
                </a:rPr>
                <a:t>обучение, игровые 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515f1"/>
                  </a:solidFill>
                  <a:latin typeface="Tahoma"/>
                </a:rPr>
                <a:t>неигров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515f1"/>
                  </a:solidFill>
                  <a:latin typeface="Tahoma"/>
                </a:rPr>
                <a:t>метод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35280" y="2924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15f1"/>
                </a:solidFill>
                <a:latin typeface="Arial"/>
              </a:rPr>
              <a:t>контроль </a:t>
            </a:r>
            <a:r>
              <a:rPr b="0" lang="en-US" sz="1800" spc="-1" strike="noStrike">
                <a:solidFill>
                  <a:srgbClr val="1515f1"/>
                </a:solidFill>
                <a:latin typeface="Arial"/>
              </a:rPr>
              <a:t>знаний (закрепле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лючевые процесс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8aa1b8"/>
              </a:gs>
              <a:gs pos="50000">
                <a:srgbClr val="003366"/>
              </a:gs>
              <a:gs pos="100000">
                <a:srgbClr val="8aa1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5400000">
            <a:off x="-2016360" y="206280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00ccff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5251320"/>
            <a:ext cx="15256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флекс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17680" y="4424400"/>
            <a:ext cx="15336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611520"/>
            <a:ext cx="14860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тив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743200"/>
            <a:ext cx="4734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2060640"/>
            <a:ext cx="4465440" cy="504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6360" y="2133720"/>
            <a:ext cx="380880" cy="380880"/>
            <a:chOff x="1476360" y="2133720"/>
            <a:chExt cx="380880" cy="380880"/>
          </a:xfrm>
        </p:grpSpPr>
        <p:sp>
          <p:nvSpPr>
            <p:cNvPr id="186" name=""/>
            <p:cNvSpPr/>
            <p:nvPr/>
          </p:nvSpPr>
          <p:spPr>
            <a:xfrm>
              <a:off x="1476360" y="2133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97960" y="21549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7760" y="21751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7760" y="21751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37200" y="21945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37200" y="2194560"/>
              <a:ext cx="258480" cy="258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93" name="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solidFill>
              <a:srgbClr val="f3f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200" name="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solidFill>
              <a:srgbClr val="2ad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207" name="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solidFill>
              <a:srgbClr val="5fe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214" name="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solidFill>
              <a:srgbClr val="151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26920" y="1484280"/>
            <a:ext cx="381240" cy="380880"/>
            <a:chOff x="826920" y="1484280"/>
            <a:chExt cx="381240" cy="380880"/>
          </a:xfrm>
        </p:grpSpPr>
        <p:sp>
          <p:nvSpPr>
            <p:cNvPr id="221" name=""/>
            <p:cNvSpPr/>
            <p:nvPr/>
          </p:nvSpPr>
          <p:spPr>
            <a:xfrm>
              <a:off x="826920" y="1484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8520" y="1505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320" y="1525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8320" y="1525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8120" y="15451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8120" y="1545120"/>
              <a:ext cx="258840" cy="258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26920" y="6021360"/>
            <a:ext cx="381240" cy="380880"/>
            <a:chOff x="826920" y="6021360"/>
            <a:chExt cx="381240" cy="380880"/>
          </a:xfrm>
        </p:grpSpPr>
        <p:sp>
          <p:nvSpPr>
            <p:cNvPr id="228" name=""/>
            <p:cNvSpPr/>
            <p:nvPr/>
          </p:nvSpPr>
          <p:spPr>
            <a:xfrm>
              <a:off x="826920" y="602136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520" y="604260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20" y="606276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8320" y="606276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8120" y="608220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006d89"/>
                </a:gs>
                <a:gs pos="50000">
                  <a:srgbClr val="00ccff"/>
                </a:gs>
                <a:gs pos="100000">
                  <a:srgbClr val="00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8120" y="6082200"/>
              <a:ext cx="258840" cy="258840"/>
            </a:xfrm>
            <a:prstGeom prst="ellipse">
              <a:avLst/>
            </a:prstGeom>
            <a:solidFill>
              <a:srgbClr val="c02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87280" y="1413000"/>
            <a:ext cx="5113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6021360"/>
            <a:ext cx="4897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 деятельности и оценка результа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0920" y="148356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ффективное взаимодействие (интеракц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21330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мен информацией (коммуникац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640" y="285192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е наглядности(визуализац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273480" cy="245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это «работае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243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246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249" name="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252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255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258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cc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5e75"/>
              </a:gs>
              <a:gs pos="100000">
                <a:srgbClr val="00cc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6d89"/>
              </a:gs>
              <a:gs pos="50000">
                <a:srgbClr val="00ccff"/>
              </a:gs>
              <a:gs pos="100000">
                <a:srgbClr val="006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ccff">
                  <a:alpha val="0"/>
                </a:srgbClr>
              </a:gs>
              <a:gs pos="100000">
                <a:srgbClr val="0081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51280" y="2997360"/>
            <a:ext cx="1522440" cy="1522080"/>
            <a:chOff x="3851280" y="2997360"/>
            <a:chExt cx="1522440" cy="1522080"/>
          </a:xfrm>
        </p:grpSpPr>
        <p:sp>
          <p:nvSpPr>
            <p:cNvPr id="265" name=""/>
            <p:cNvSpPr/>
            <p:nvPr/>
          </p:nvSpPr>
          <p:spPr>
            <a:xfrm>
              <a:off x="3851280" y="2997360"/>
              <a:ext cx="1522440" cy="1522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3600" y="30160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90880" y="3025800"/>
              <a:ext cx="1438200" cy="14346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06720" y="3040200"/>
              <a:ext cx="1366920" cy="1341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87720" y="3076560"/>
              <a:ext cx="1214640" cy="109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846960" y="34704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1120" y="18032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4720" y="18032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35520" y="355608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7760" y="51577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0320" y="355608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25520" y="50846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к(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107400">
            <a:off x="4856400" y="242460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0000" y="3573360"/>
            <a:ext cx="649440" cy="216000"/>
          </a:xfrm>
          <a:prstGeom prst="leftRightArrow">
            <a:avLst>
              <a:gd name="adj1" fmla="val 50000"/>
              <a:gd name="adj2" fmla="val 598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4578200">
            <a:off x="4860000" y="4798080"/>
            <a:ext cx="649440" cy="216000"/>
          </a:xfrm>
          <a:prstGeom prst="leftRightArrow">
            <a:avLst>
              <a:gd name="adj1" fmla="val 50000"/>
              <a:gd name="adj2" fmla="val 598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522000">
            <a:off x="3488760" y="4727880"/>
            <a:ext cx="649080" cy="209520"/>
          </a:xfrm>
          <a:prstGeom prst="leftRightArrow">
            <a:avLst>
              <a:gd name="adj1" fmla="val 50000"/>
              <a:gd name="adj2" fmla="val 6167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1320" y="357840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3502800">
            <a:off x="3631320" y="242460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259800">
            <a:off x="5936040" y="465696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4355600">
            <a:off x="2480040" y="4584960"/>
            <a:ext cx="649080" cy="209520"/>
          </a:xfrm>
          <a:prstGeom prst="leftRightArrow">
            <a:avLst>
              <a:gd name="adj1" fmla="val 50000"/>
              <a:gd name="adj2" fmla="val 6167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4127600">
            <a:off x="5946480" y="2533320"/>
            <a:ext cx="649440" cy="211320"/>
          </a:xfrm>
          <a:prstGeom prst="leftRightArrow">
            <a:avLst>
              <a:gd name="adj1" fmla="val 50000"/>
              <a:gd name="adj2" fmla="val 611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11640" y="155736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465000">
            <a:off x="3995280" y="558936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154800">
            <a:off x="2480040" y="2568960"/>
            <a:ext cx="649440" cy="209520"/>
          </a:xfrm>
          <a:prstGeom prst="leftRightArrow">
            <a:avLst>
              <a:gd name="adj1" fmla="val 50000"/>
              <a:gd name="adj2" fmla="val 617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Моделирование юбок.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7 класс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ение пройденного материал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е понят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д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т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ки для построения чертежа ю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ификация юбок по покр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580000" y="4149720"/>
            <a:ext cx="318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ведение новых понят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49236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дел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ение     основ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кройки черте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79280" y="4149720"/>
            <a:ext cx="4038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268360" y="400536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4:22:36Z</dcterms:created>
  <dc:creator>Андрей</dc:creator>
  <dc:description/>
  <dc:language>en-US</dc:language>
  <cp:lastModifiedBy>Андрей</cp:lastModifiedBy>
  <dcterms:modified xsi:type="dcterms:W3CDTF">2012-04-04T16:53:37Z</dcterms:modified>
  <cp:revision>17</cp:revision>
  <dc:subject/>
  <dc:title>Использование активных методов обучения на уроках.</dc:title>
</cp:coreProperties>
</file>