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26B-3BF4-4E08-AA5C-933E8E28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C27-5B5E-4749-BB1E-0696733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41B-2293-4B68-9A72-3BF9EC4B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C1C-1759-478D-831F-DADCBD27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EF4-4669-42B4-B18C-C54E7A9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752-7BCA-4538-BEA5-41B69F5C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E89F-36C9-4A60-864F-473125C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2911-2B9C-42CB-8EB3-283C0D02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BA3-1D68-484D-8A00-C99BB48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E2EA-5029-4904-940A-ABE3B61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BBC-CEE0-458E-A3C0-FE5D9BAA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987-1035-4741-8F35-43DE5F0D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DB3-EA95-40BA-ADD3-2AD5329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0F9-F301-4D8B-A6F1-78F2B00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895-CEF3-4536-AE3E-BB8AC31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CA40-53A5-4458-853F-63BF855F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F9A-DADF-4FE7-B4F4-6DDE56EE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67B-83FC-4671-9413-B0632A9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7CF-725B-4E79-A723-ED5008F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3D6-F83B-410C-A9CE-0D44EB3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1E4-037A-459F-BF37-EA5E592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020-ADDF-4843-A8C2-6E2426F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537-796C-4BC2-8744-397E0AA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F79-C2CE-406F-B352-0DF5203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B3F-480E-4B58-A9C8-5B919964F4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7B7-0BB2-4884-817B-CF0CD2395C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Блиц – турнир № 4.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3 класс. Программа «Школа-2100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дготовила Михайлова Надежда Юр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1) 12*3=36 (руб.) стоят г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90-36=54 (руб.) стоят к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54:6=9 (ру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e1502"/>
                </a:solidFill>
                <a:latin typeface="Garamond"/>
              </a:rPr>
              <a:t>Продолжаем наш урок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753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Цель: совершенствование математических умени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хнолог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пользование ИК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ова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У паучка 8 лапок. Сколько лапок у 9 пауч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519640" cy="32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158292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школьном спектакле участвовало 26 мальчиков, а девочек – в 2 раза больше. Им помогали 3 учителя. Сколько человек играло в спектак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асечник собрал мед в 2 бидона. В одном бидоне было 72 кг меда, а в другом – в 6 раз меньше. Весь мед он разлил в банки, по 3 кг в каждую. Сколько банок ему понадобилос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Поссорились 2 тучи – грозовая и дождевая – и расплакались. Грозовая наплакала 245 слезинок – дождинок, а дождевая – в 2 раза больше. Сколько всего слез пролилось из двух ту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2743200" cy="24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Крестьянин повез на базар продавать 6 кур и 3 гуся. За каждого гуся он выручил 12 рублей. За сколько он продал каждую курицу, если вся выручка составила 9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2411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3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d068"/>
                </a:solidFill>
                <a:latin typeface="Garamond"/>
              </a:rPr>
              <a:t>Проверка.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8*9=72 (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 1) 26*2=52(ч.) дев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52+26+3=8(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 1) 72:6=12 (кг) во 2 бид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72+12=84 (кг) вс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84:3=28 (б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  1) 245*2=490 (сл.) наплакала дождевая ту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490+245=735 (с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0:46:07Z</dcterms:created>
  <dc:creator>Школа</dc:creator>
  <dc:description/>
  <dc:language>en-US</dc:language>
  <cp:lastModifiedBy>Школа</cp:lastModifiedBy>
  <dcterms:modified xsi:type="dcterms:W3CDTF">2012-04-14T15:31:40Z</dcterms:modified>
  <cp:revision>3</cp:revision>
  <dc:subject/>
  <dc:title>Блиц – турнир № 5. 3 класс. Программа «Школа-2100».</dc:title>
</cp:coreProperties>
</file>