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D3B-3371-4D34-B98D-E4239A9E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705-FFC9-45D6-A832-5CBD9D80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CF6-8A8D-49A6-A73A-842FE26B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CEF-7318-40E8-ABFF-3D364716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1CDE-F4A0-492A-9D24-B439FAB7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2B8C-053C-4026-9477-7F7E9025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662B-C05B-4252-94C6-D8447D5C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BA63-F47A-4BCC-9872-0A234317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28A9-A92E-4E52-B212-7A188811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19CF-E863-4F42-AFAF-97E178E9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F032-E135-4E53-816D-A8ABBB23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A7D-9E98-4B3B-92BB-B1E19EB5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E2C9-0905-4A71-A2CB-60F71571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9A0F-B030-497E-AB21-AF653749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DBEB-F5A1-4E6A-8D92-3E3E6ED3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CCAA-4F88-4D2A-91FB-881E8B0F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995C-0BA3-49BA-BF68-DF5DEA3C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BB9-F58F-47C5-A9D0-44F5E48E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3A0-6D00-4ABA-86A3-4B56B753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F90-43E3-4263-8574-56FFB07C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E7F-67CA-44EE-9FFC-CDB3316A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0E6-D123-464A-94EB-F75BED05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349-3637-471B-BE8B-584DCA75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8FF-6077-4083-AA43-17816A9A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C39A-83DB-4354-B4F3-E5256B75894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E2B9-E4C4-4A1E-9D76-EBB1E6705A3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Блиц – турнир № 4.</a:t>
            </a:r>
            <a:br>
              <a:rPr sz="4600"/>
            </a:b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3 класс. Программа «Школа-2100»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дготовила Михайлова Надежда Юрьев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 1) 12*3=36 (руб.) стоят гу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90-36=54 (руб.) стоят к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54:6=9 (руб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e1502"/>
                </a:solidFill>
                <a:latin typeface="Garamond"/>
              </a:rPr>
              <a:t>Продолжаем наш урок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753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Цель: совершенствование математических умений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ехнолог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спользование ИКТ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ного диало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грова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цени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У паучка 8 лапок. Сколько лапок у 9 пауч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519640" cy="324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1582920" cy="30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школьном спектакле участвовало 26 мальчиков, а девочек – в 2 раза больше. Им помогали 3 учителя. Сколько человек играло в спектак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5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Пасечник собрал мед в 2 бидона. В одном бидоне было 72 кг меда, а в другом – в 6 раз меньше. Весь мед он разлил в банки, по 3 кг в каждую. Сколько банок ему понадобилос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2735280" cy="270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Поссорились 2 тучи – грозовая и дождевая – и расплакались. Грозовая наплакала 245 слезинок – дождинок, а дождевая – в 2 раза больше. Сколько всего слез пролилось из двух туч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4653000"/>
            <a:ext cx="2743200" cy="24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Крестьянин повез на базар продавать 6 кур и 3 гуся. За каждого гуся он выручил 12 рублей. За сколько он продал каждую курицу, если вся выручка составила 90 рубл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32720" y="3789360"/>
            <a:ext cx="2411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3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d068"/>
                </a:solidFill>
                <a:latin typeface="Garamond"/>
              </a:rPr>
              <a:t>Проверка.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8*9=72 (л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 1) 26*2=52(ч.) девоч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52+26+3=8(ч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 1) 72:6=12 (кг) во 2 бидо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72+12=84 (кг) вс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 84:3=28 (б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  1) 245*2=490 (сл.) наплакала дождевая ту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490+245=735 (сл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0:46:07Z</dcterms:created>
  <dc:creator>Школа</dc:creator>
  <dc:description/>
  <dc:language>en-US</dc:language>
  <cp:lastModifiedBy>Школа</cp:lastModifiedBy>
  <dcterms:modified xsi:type="dcterms:W3CDTF">2012-04-14T15:31:40Z</dcterms:modified>
  <cp:revision>3</cp:revision>
  <dc:subject/>
  <dc:title>Блиц – турнир № 5. 3 класс. Программа «Школа-2100».</dc:title>
</cp:coreProperties>
</file>