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D05-CD01-4475-904A-22D899F2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68E-188D-485C-B756-231E0E78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60F-4AAF-4378-95D7-CA0DAEFA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B36-F720-4C69-8709-EDAAF48D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0B39-D7AB-485E-845D-E96B8B1C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7FE3-2299-4333-85A8-141D4DE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3828-B50B-445F-8FE0-3F8143D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6669-2B0A-4908-BAA3-C77C07E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1ECD-4C3C-4B95-8E59-85F2CF67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9B25-60E4-4185-8F37-8EC0DF5F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5F9A-0630-49C9-A735-9CE34C7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D9D-4C6E-4608-B9E5-387D195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4875-408E-4C2E-B4D0-A924B4E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198-53A8-4538-9E93-430F80F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674F-B7A8-429F-B7FE-351D9D9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2829-547D-49C8-9AF2-9BA32795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63FC-CB2F-44F4-AD88-572F9780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977-2EEC-4B2C-84BE-53E9A318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173-E360-4F1D-80D9-0F5989D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205-3079-478F-A9F7-2160FE94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730-C8DF-4E6A-8CFC-C9E10ECD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0BF-9847-46EB-AF5C-5D4793E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DEE-776B-4AB7-8970-984CFF8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235-70A8-4294-8408-F654AFA2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0FF8-3686-4E30-969B-AC35126053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81A9-A8F9-441D-B526-552B4EE9D4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205000"/>
            <a:ext cx="730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Блиц – турнир № 4.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880" y="4508640"/>
            <a:ext cx="77011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 класс. Программа «Школа-2100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Подготовила Михайлова Н.Ю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2879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88000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2951280" cy="30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. В коллекции Леры 67 аудиокассет. Из них со сказками 38 штук, а остальные – с песнями. На сколько больше кассет со сказками, чем с песням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2665440" cy="532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ровер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980640"/>
            <a:ext cx="7313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.  150*6=900 (с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.  1) 10+11=21(б.) согласн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) 10+21=31(б.) согласные и гласн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) 33-31=2(б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.  1) 120:2*1=60(ш.) зелен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)  60:2*1=30(ш.) желт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)  120+60+30=210(ш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404640"/>
            <a:ext cx="7313400" cy="553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4.1)30:2=15(цв.)какту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2) 15-12=3(цв.) герань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3) 30+15+3=48(цв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5. 1)67-38=29(к.)с песням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2)67-29=38(к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Verdana"/>
              </a:rPr>
              <a:t>Продолжаем урок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4321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Цель: совершенствование математических умений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Технологи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использование ИКТ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проблемного диалога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оценивания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333360"/>
            <a:ext cx="731376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. В связи с неурожаем сосулек в Англии Дед Мороз прислал Санта Клаусу 6 ящиков с сосульками, по 150 штук в ящике. Сколько сосулек прислал Дед Мороз английскому коллеге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2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-1767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8353440" cy="72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. В русском языке 33 буквы. Из них 10 букв служат для обозначения гласных звуков, для обозначения согласных – на 11 букв больше. Сколько букв не обозначают звуков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1371600" cy="196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1844640"/>
            <a:ext cx="176832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48360" y="4437000"/>
            <a:ext cx="1501560" cy="185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15303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404640"/>
            <a:ext cx="7313400" cy="553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. К празднику сделали гирлянду из воздушных шариков. Красных шариков было 120, зеленые составляли половину от красных, а желтые – половину от зеленых. Сколько всего было шариков в праздничной гирлянде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5923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24360" y="476280"/>
            <a:ext cx="3743280" cy="3457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-2800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259920"/>
            <a:ext cx="7313400" cy="56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. Нина выращивает комнатные растения. У нее дома растет 30 фиалок, кактусов – в 2 раза меньше, чем фиалок, а кустиков герани – на 12 меньше, чем кактусов. Сколько комнатных растений выращивает Нин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8:27:56Z</dcterms:created>
  <dc:creator>Школа</dc:creator>
  <dc:description/>
  <dc:language>en-US</dc:language>
  <cp:lastModifiedBy>Школа</cp:lastModifiedBy>
  <dcterms:modified xsi:type="dcterms:W3CDTF">2012-02-26T09:49:30Z</dcterms:modified>
  <cp:revision>2</cp:revision>
  <dc:subject/>
  <dc:title>Блиц – турнир № 4.</dc:title>
</cp:coreProperties>
</file>