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BD50-3B0C-4463-9A4A-E50A73EB1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71BB-F3FE-42E5-92AD-FCE5E93AB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78FE-A1F3-48A4-B25F-510973896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D53E-5B47-4411-BCF3-D4F4345AA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46302-5F2F-4D70-B48F-52B6D9E78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C5AC3-F1D7-4580-BB98-2B9679643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F1ECF-08A8-4341-A216-CD0232739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C8ECE-4EF4-4F81-82AC-6ABA08B09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C990B-0355-4070-92F9-36620572C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8755E-5DEE-4524-A58D-CF2752671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278A7-F892-418A-9D2B-36123E30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9EFE-A4C8-4AAD-A3BD-183EC62E1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BFEF3-62FD-4754-9FF0-306607B4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5E3BF-ABE6-4448-9CD4-FFA3A7CD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D4DCA-51DC-4EFD-BF7C-2B29F68D2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AE403-03F1-4AC9-9B02-51F938641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F533D-6F0F-40B3-B9AC-4A7A40073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B66A4-970C-4BFC-A874-C6B9DA052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C3792-AFF2-4E52-9DFE-F4471D3A4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0DDED-7816-459D-A4BA-5DBA95732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9AF0D-ACCF-4010-A7E1-7977A9967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48CD7-B745-4105-B0E7-2500AE4C6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B0B2-CDFD-4F7A-9F4F-B8F480FED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3517F-0051-408B-8A16-6F75DC3E0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7DC94-6193-447D-AED2-897CCD6C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27B88-1AF4-40B6-97BB-7A125D90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B7AC2-CB05-451D-BCF4-98732961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76DFA-057E-476F-AA94-6437778FC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AEDEB-FAAF-4AB2-BFEC-5A01CAAD3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C125C-5B7C-4032-B0CD-BB7BBD173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3528-2490-4627-AF7E-49C69853D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00C0-5FB9-4A39-BD58-A26917027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EF8E-19F3-4B1D-9A57-7876AC23B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8E5F-6B60-41E2-8D30-DFA48C78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2F76-8695-4470-AEAD-9AFD68A2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5208-DAC2-4BEA-B9E1-2732CB04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501A7-5380-4BFB-88F6-8DB65F810235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C9273-52B9-4EAF-A9B0-F4111CE12CAF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FA6FD-BB2D-449D-BB09-D5A6C6A926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1258920" y="692280"/>
            <a:ext cx="6300720" cy="504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0504d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СТАНОВИСЬ, </a:t>
            </a:r>
            <a:endParaRPr b="0" lang="en-US" sz="1800" spc="1" strike="noStrike">
              <a:ln w="9360">
                <a:solidFill>
                  <a:srgbClr val="c0504d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0504d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МГНОВЕНИЕ!</a:t>
            </a:r>
            <a:endParaRPr b="0" lang="en-US" sz="1800" spc="1" strike="noStrike">
              <a:ln w="9360">
                <a:solidFill>
                  <a:srgbClr val="c0504d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403280" y="404640"/>
            <a:ext cx="6769080" cy="55850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895480" y="596916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. Гермашев. Сне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8255160" cy="5523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103480" y="6113520"/>
            <a:ext cx="34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. Левитан. Л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544840" y="404640"/>
            <a:ext cx="3817800" cy="56962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176560" y="6165720"/>
            <a:ext cx="484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. Грабарь. Февральская лазу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290680" y="404640"/>
            <a:ext cx="4102200" cy="58881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124000" y="623736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.Шишкин. На севере ди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433600" y="404640"/>
            <a:ext cx="4057560" cy="57610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527120" y="6237360"/>
            <a:ext cx="556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. Мещерский. Лунная ночь. Тиш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84360" y="461880"/>
            <a:ext cx="7704000" cy="49831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527120" y="5516640"/>
            <a:ext cx="57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. Шишкин. З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826920" y="430200"/>
            <a:ext cx="7274160" cy="50148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455840" y="5681520"/>
            <a:ext cx="49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. Васнецов. Зимний с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24000" y="1268280"/>
            <a:ext cx="8280360" cy="410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ЖЕЛА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ТВОРЧЕСК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ВОБОДЫ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9T14:05:27Z</dcterms:created>
  <dc:creator>1</dc:creator>
  <dc:description/>
  <dc:language>en-US</dc:language>
  <cp:lastModifiedBy>1</cp:lastModifiedBy>
  <dcterms:modified xsi:type="dcterms:W3CDTF">2012-04-21T13:34:34Z</dcterms:modified>
  <cp:revision>6</cp:revision>
  <dc:subject/>
  <dc:title>Слайд 1</dc:title>
</cp:coreProperties>
</file>