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0563-2FDE-4DAC-82BC-BC92FF85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358B-DB7D-4BF6-AAAE-0CA27313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905B-8E86-4038-B60A-0B488A31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B159-5209-449B-8E25-139575C0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CA1D-733E-45BC-8DE6-CC7ED2B6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947E-7840-45C0-962C-E0800409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3EE2-1C6C-40E5-9153-CA4F7E0E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C7F1-4C46-4EF4-9B07-8DA112BD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A352-5249-48E2-960C-07165322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BCE9-16AD-4BD0-B6E8-21E33FCA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451A-2FA3-421E-9C29-45FE61DB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727-5B44-4B42-8DE1-1C1190BE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4B23-5455-42DD-A57A-2CFDBE6A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FA92-F9CB-45AA-8A4A-9E4E3B20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11FE-185E-4F73-9FD5-8C152024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8717-1A8E-498E-8EFC-194CB022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E918-538E-4176-B29C-48A2DB2F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77F7C-3A3F-4A2C-A2CD-F7084848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5EEB9-0D5A-4782-AE12-1A13CD12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03365-570E-4F07-A103-4291EAD5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2B48C-D31A-4036-AA27-4D66A65E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E7AF7-E227-4ACB-833F-14851389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2F45-6F4C-46B0-AB5C-49FED71C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2718C-FB7D-44C7-B808-AC7D3E82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F766E-FBDB-464D-9934-FE3F53AF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1E3BD-7C4A-421D-8123-1F4BC68E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0E439-6275-45BF-B2C6-445DA45F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A0077-FDCF-4140-8BB2-13A8FC01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32D3F-5312-4D57-842E-A33B962A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5036D-CED2-408A-B977-D013DF96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1B8-BB26-4F16-9067-41F0159C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1F81-85BE-4560-85BF-70A21587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1A3-883F-43C9-8858-BCF6B5EB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A12-F09C-4C45-839A-E0B33B4D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987-F291-4E69-A1E4-238F5431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7843-A646-4765-A001-09646BE6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5F87-1497-47E2-9F34-E3CB358440B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DA86-AD25-4FF4-BDCF-087AD8BA054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BBC1-9662-4256-BA72-B9FF3E096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258920" y="692280"/>
            <a:ext cx="6300720" cy="50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ТАНОВИСЬ, </a:t>
            </a:r>
            <a:endParaRPr b="0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ГНОВЕНИЕ!</a:t>
            </a:r>
            <a:endParaRPr b="0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6769080" cy="5585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895480" y="59691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. Гермашев. Сн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55160" cy="552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03480" y="6113520"/>
            <a:ext cx="34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. Левитан.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44840" y="404640"/>
            <a:ext cx="3817800" cy="5696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176560" y="6165720"/>
            <a:ext cx="48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. Грабарь. Февральская лазу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90680" y="404640"/>
            <a:ext cx="4102200" cy="5888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124000" y="6237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.Шишкин. На севере д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433600" y="404640"/>
            <a:ext cx="4057560" cy="5761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7120" y="6237360"/>
            <a:ext cx="55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. Мещерский. Лунная ночь. Ти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4360" y="461880"/>
            <a:ext cx="7704000" cy="4983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27120" y="5516640"/>
            <a:ext cx="57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. Шишкин. З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26920" y="430200"/>
            <a:ext cx="7274160" cy="5014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455840" y="5681520"/>
            <a:ext cx="49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. Васнецов. Зимни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24000" y="1268280"/>
            <a:ext cx="828036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ЖЕЛА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ВОРЧЕС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ВОБОД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4:05:27Z</dcterms:created>
  <dc:creator>1</dc:creator>
  <dc:description/>
  <dc:language>en-US</dc:language>
  <cp:lastModifiedBy>1</cp:lastModifiedBy>
  <dcterms:modified xsi:type="dcterms:W3CDTF">2012-04-21T13:34:34Z</dcterms:modified>
  <cp:revision>6</cp:revision>
  <dc:subject/>
  <dc:title>Слайд 1</dc:title>
</cp:coreProperties>
</file>