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02B-4130-4D60-99B8-687A56C3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6A3-6C34-4080-9851-8BACA44D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392-1CF4-4CEC-B247-FA9803B5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C46-6C57-498D-AEF1-F077EB62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776-BCC7-460D-89A2-5CD2ACB7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B24-B0B2-43F4-B661-338AA9C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394-CDAA-468F-AAEA-A8EB0449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B69-F765-4E36-B675-6EB2AACA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CB8-63EB-4492-BA13-C73EFAE6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EDE-B62B-4237-89B6-699C8B2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B95-7601-4EDF-8C7B-6B1A39B9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E12-D467-43C6-84B5-C134E953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829-5CDE-4270-8220-A0A74865B3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КОНА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3886200"/>
            <a:ext cx="464328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Автор: Мелихова Ю.А., педагог доп. образования МОУ Центра «Истоки» г.Волго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Е ИКОНЫ БОЖИЕЙ МАТЕР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57200"/>
            <a:ext cx="461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Первые иконы Божией Матери еще при Ее жизни были написаны апостолом Лукой. Известно, что их было 21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Пресвятая Богородица, увидев Свое изображение, сказала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«Благодать Родившегося от Меня и Моя милость с сими иконами да будет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F:\иллюстрации для иконовед\5. Ранние предания о воникновении священных изображений в Ц (II - IV вв.)\Богородица\Владимирская икона БМ.jpg"/>
          <p:cNvPicPr/>
          <p:nvPr/>
        </p:nvPicPr>
        <p:blipFill>
          <a:blip r:embed="rId1"/>
          <a:stretch/>
        </p:blipFill>
        <p:spPr>
          <a:xfrm>
            <a:off x="5643720" y="1357200"/>
            <a:ext cx="33573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285840"/>
            <a:ext cx="42148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400"/>
                </a:solidFill>
                <a:latin typeface="Calibri"/>
              </a:rPr>
              <a:t>Так появились первые ико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00"/>
                </a:solidFill>
                <a:latin typeface="Calibri"/>
              </a:rPr>
              <a:t>Но в дальнейшем в течение 3-х столетий Церковь претерпевала почти постоянные гонения. </a:t>
            </a:r>
            <a:r>
              <a:rPr b="1" lang="ru-RU" sz="3200" spc="-1" strike="noStrike">
                <a:solidFill>
                  <a:srgbClr val="00a400"/>
                </a:solidFill>
                <a:latin typeface="Calibri"/>
              </a:rPr>
              <a:t>Язычники мучили христиан за имя Христово, поэтому христиане собирались в </a:t>
            </a:r>
            <a:r>
              <a:rPr b="1" lang="ru-RU" sz="3200" spc="-1" strike="noStrike">
                <a:solidFill>
                  <a:srgbClr val="005426"/>
                </a:solidFill>
                <a:latin typeface="Calibri"/>
              </a:rPr>
              <a:t>катакомбах</a:t>
            </a:r>
            <a:r>
              <a:rPr b="1" lang="ru-RU" sz="3200" spc="-1" strike="noStrike">
                <a:solidFill>
                  <a:srgbClr val="00a4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F:\иллюстрации для иконовед\2. Происхождение и смысл христианского искусства\Святого Каллиста\Катакомбы Св. Каллиста, коридор.jpg"/>
          <p:cNvPicPr/>
          <p:nvPr/>
        </p:nvPicPr>
        <p:blipFill>
          <a:blip r:embed="rId1"/>
          <a:stretch/>
        </p:blipFill>
        <p:spPr>
          <a:xfrm>
            <a:off x="4143240" y="0"/>
            <a:ext cx="2276640" cy="363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F:\иллюстрации для иконовед\2. Происхождение и смысл христианского искусства\Святого Каллиста\Катакомбы Святого Каллиста, кубикуллы 2.jpg"/>
          <p:cNvPicPr/>
          <p:nvPr/>
        </p:nvPicPr>
        <p:blipFill>
          <a:blip r:embed="rId2"/>
          <a:stretch/>
        </p:blipFill>
        <p:spPr>
          <a:xfrm>
            <a:off x="6477120" y="285840"/>
            <a:ext cx="2666880" cy="304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F:\иллюстрации для иконовед\2. Происхождение и смысл христианского искусства\Святого Каллиста\Папа Дзеферин (199-217) поручил это кладбище дьякону Каллисте, который позже сам стал папой (217-222).jpg"/>
          <p:cNvPicPr/>
          <p:nvPr/>
        </p:nvPicPr>
        <p:blipFill>
          <a:blip r:embed="rId3"/>
          <a:stretch/>
        </p:blipFill>
        <p:spPr>
          <a:xfrm>
            <a:off x="4429080" y="3571920"/>
            <a:ext cx="44769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285480"/>
            <a:ext cx="32860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Особенно обширные катакомбы находились под Римом. Там на стенах сохранились иконы Иисуса Христа, Божией Мат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F:\иллюстрации для иконовед\2. Происхождение и смысл христианского искусства\Святого Каллиста\Оранта. Катакомбы святого Каллиста, Рим, начало IV в.jpg"/>
          <p:cNvPicPr/>
          <p:nvPr/>
        </p:nvPicPr>
        <p:blipFill>
          <a:blip r:embed="rId1"/>
          <a:stretch/>
        </p:blipFill>
        <p:spPr>
          <a:xfrm>
            <a:off x="3390840" y="3500280"/>
            <a:ext cx="5753160" cy="321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F:\иллюстрации для иконовед\6. Искусство в ранних формах богослужения (катакомбы) II - IV вв\Прискиллы\Катакомбы Присциллы — христианские подземные захоронения II—IV веков в Риме.jpg"/>
          <p:cNvPicPr/>
          <p:nvPr/>
        </p:nvPicPr>
        <p:blipFill>
          <a:blip r:embed="rId2"/>
          <a:stretch/>
        </p:blipFill>
        <p:spPr>
          <a:xfrm>
            <a:off x="3786120" y="0"/>
            <a:ext cx="49532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F:\иллюстрации для иконовед\6. Искусство в ранних формах богослужения (катакомбы) II - IV вв\Образы\Новый Завет\Добрый Пастырь. Катакомбы Домициллы, кон.II - нач.III в.jpg"/>
          <p:cNvPicPr/>
          <p:nvPr/>
        </p:nvPicPr>
        <p:blipFill>
          <a:blip r:embed="rId1"/>
          <a:stretch/>
        </p:blipFill>
        <p:spPr>
          <a:xfrm>
            <a:off x="2000160" y="3286080"/>
            <a:ext cx="5396040" cy="3376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F:\иллюстрации для иконовед\6. Искусство в ранних формах богослужения (катакомбы) II - IV вв\Образы\Новый Завет\Евхаристия. Катакомбы Прискиллы.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43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F:\иллюстрации для иконовед\6. Искусство в ранних формах богослужения (катакомбы) II - IV вв\Образы\Новый Завет\Оранта. Катакомбы святой Присциллы, Рим, III в..jpg"/>
          <p:cNvPicPr/>
          <p:nvPr/>
        </p:nvPicPr>
        <p:blipFill>
          <a:blip r:embed="rId3"/>
          <a:stretch/>
        </p:blipFill>
        <p:spPr>
          <a:xfrm>
            <a:off x="0" y="0"/>
            <a:ext cx="514368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Calibri"/>
              </a:rPr>
              <a:t>Господь </a:t>
            </a:r>
            <a:r>
              <a:rPr b="1" lang="ru-RU" sz="3600" spc="-1" strike="noStrike">
                <a:solidFill>
                  <a:srgbClr val="990099"/>
                </a:solidFill>
                <a:latin typeface="Calibri"/>
              </a:rPr>
              <a:t>Иисус Христос часто изображался символически, в виде </a:t>
            </a:r>
            <a:r>
              <a:rPr b="1" lang="ru-RU" sz="3600" spc="-1" strike="noStrike">
                <a:solidFill>
                  <a:srgbClr val="700070"/>
                </a:solidFill>
                <a:latin typeface="Calibri"/>
              </a:rPr>
              <a:t>рыбы или агнца (ягненка)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643040"/>
            <a:ext cx="47862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иллюстрации для иконовед\6. Искусство в ранних формах богослужения (катакомбы) II - IV вв\Образы\Новый Завет\Агнец и чудо умножения хлебов. Катакомбы Комодиллы.jpg"/>
          <p:cNvPicPr/>
          <p:nvPr/>
        </p:nvPicPr>
        <p:blipFill>
          <a:blip r:embed="rId1"/>
          <a:stretch/>
        </p:blipFill>
        <p:spPr>
          <a:xfrm>
            <a:off x="3819600" y="1714680"/>
            <a:ext cx="5324400" cy="283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F:\иллюстрации для иконовед\6. Искусство в ранних формах богослужения (катакомбы) II - IV вв\Образы\Символические\Агнец катакомб св. Прискиллы, IV в. gif.gif"/>
          <p:cNvPicPr/>
          <p:nvPr/>
        </p:nvPicPr>
        <p:blipFill>
          <a:blip r:embed="rId2"/>
          <a:stretch/>
        </p:blipFill>
        <p:spPr>
          <a:xfrm>
            <a:off x="0" y="2228760"/>
            <a:ext cx="3571920" cy="4629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F:\иллюстрации для иконовед\6. Искусство в ранних формах богослужения (катакомбы) II - IV вв\Образы\Символические\Агнец.jpg"/>
          <p:cNvPicPr/>
          <p:nvPr/>
        </p:nvPicPr>
        <p:blipFill>
          <a:blip r:embed="rId3"/>
          <a:stretch/>
        </p:blipFill>
        <p:spPr>
          <a:xfrm>
            <a:off x="6872400" y="4643280"/>
            <a:ext cx="227160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:\иллюстрации для иконовед\6. Искусство в ранних формах богослужения (катакомбы) II - IV вв\Образы\Символические\Рыбы и хлеба из церкови Приумножения Хлебов в Табхе.jpg"/>
          <p:cNvPicPr/>
          <p:nvPr/>
        </p:nvPicPr>
        <p:blipFill>
          <a:blip r:embed="rId4"/>
          <a:stretch/>
        </p:blipFill>
        <p:spPr>
          <a:xfrm>
            <a:off x="3571920" y="44290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214200"/>
            <a:ext cx="32860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46c0a"/>
                </a:solidFill>
                <a:latin typeface="Calibri"/>
              </a:rPr>
              <a:t>По гречески «рыба» – </a:t>
            </a:r>
            <a:r>
              <a:rPr b="1" lang="ru-RU" sz="3000" spc="-1" strike="noStrike">
                <a:solidFill>
                  <a:srgbClr val="a04704"/>
                </a:solidFill>
                <a:latin typeface="Calibri"/>
              </a:rPr>
              <a:t>«ИХТИС»</a:t>
            </a:r>
            <a:r>
              <a:rPr b="1" lang="ru-RU" sz="3000" spc="-1" strike="noStrike">
                <a:solidFill>
                  <a:srgbClr val="e46c0a"/>
                </a:solidFill>
                <a:latin typeface="Calibri"/>
              </a:rPr>
              <a:t> – первые буквы словосочетания, которое переводится  так: «</a:t>
            </a:r>
            <a:r>
              <a:rPr b="1" lang="ru-RU" sz="3000" spc="-1" strike="noStrike">
                <a:solidFill>
                  <a:srgbClr val="a04704"/>
                </a:solidFill>
                <a:latin typeface="Calibri"/>
              </a:rPr>
              <a:t>Иисус Христос Божий Сын Спаситель</a:t>
            </a:r>
            <a:r>
              <a:rPr b="1" lang="ru-RU" sz="3000" spc="-1" strike="noStrike">
                <a:solidFill>
                  <a:srgbClr val="e46c0a"/>
                </a:solidFill>
                <a:latin typeface="Calibri"/>
              </a:rPr>
              <a:t>». Поэтому такой символ был очень распростране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F:\иллюстрации для иконовед\6. Искусство в ранних формах богослужения (катакомбы) II - IV вв\Образы\Символические\Рыба и хлеба из катакомб святого Каллиста.jpg"/>
          <p:cNvPicPr/>
          <p:nvPr/>
        </p:nvPicPr>
        <p:blipFill>
          <a:blip r:embed="rId1"/>
          <a:stretch/>
        </p:blipFill>
        <p:spPr>
          <a:xfrm>
            <a:off x="3143160" y="2714760"/>
            <a:ext cx="5753160" cy="39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F:\иллюстрации для иконовед\6. Искусство в ранних формах богослужения (катакомбы) II - IV вв\Образы\Символические\Две рыбы с якорем. Рисунок на надгробной плите катакомбы Домитиллы.jpg"/>
          <p:cNvPicPr/>
          <p:nvPr/>
        </p:nvPicPr>
        <p:blipFill>
          <a:blip r:embed="rId2"/>
          <a:stretch/>
        </p:blipFill>
        <p:spPr>
          <a:xfrm>
            <a:off x="3048120" y="142920"/>
            <a:ext cx="60958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60280"/>
            <a:ext cx="47577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хранились изображения апостолов, мучеников, анге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F:\иллюстрации для иконовед\6. Искусство в ранних формах богослужения (катакомбы) II - IV вв\Образы\Новый Завет\Апостол Павел. Рим, раннехристиаское изображение.jpg"/>
          <p:cNvPicPr/>
          <p:nvPr/>
        </p:nvPicPr>
        <p:blipFill>
          <a:blip r:embed="rId1"/>
          <a:stretch/>
        </p:blipFill>
        <p:spPr>
          <a:xfrm>
            <a:off x="6297480" y="0"/>
            <a:ext cx="2846520" cy="392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F:\иллюстрации для иконовед\6. Искусство в ранних формах богослужения (катакомбы) II - IV вв\Образы\Новый Завет\Агапа. Катакомбы Петра и Марцеллина..jpg"/>
          <p:cNvPicPr/>
          <p:nvPr/>
        </p:nvPicPr>
        <p:blipFill>
          <a:blip r:embed="rId2"/>
          <a:stretch/>
        </p:blipFill>
        <p:spPr>
          <a:xfrm>
            <a:off x="0" y="3857760"/>
            <a:ext cx="3805200" cy="274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иллюстрации для иконовед\6. Искусство в ранних формах богослужения (катакомбы) II - IV вв\Образы\Новый Завет\Пророк и звезда Рождества Христова. Катакомбы Петра и Марцеллина.jpg"/>
          <p:cNvPicPr/>
          <p:nvPr/>
        </p:nvPicPr>
        <p:blipFill>
          <a:blip r:embed="rId3"/>
          <a:stretch/>
        </p:blipFill>
        <p:spPr>
          <a:xfrm>
            <a:off x="3857760" y="3648240"/>
            <a:ext cx="31431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Гонения на Церковь прекратились в 4 веке, при римском императоре Константине, который сам стал христианин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Стали строится храмы, которые украшались не только иконами, но и большими росписями, представляющими истории Ветхого и Нового Завета. Эти росписи были наглядны и понятны всем, доже неграмотны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F:\иллюстрации для иконовед\17. Система росписи храма 9 в\10 апсида Сп Преобр Мирожи.jpg"/>
          <p:cNvPicPr/>
          <p:nvPr/>
        </p:nvPicPr>
        <p:blipFill>
          <a:blip r:embed="rId1"/>
          <a:stretch/>
        </p:blipFill>
        <p:spPr>
          <a:xfrm>
            <a:off x="5076720" y="404640"/>
            <a:ext cx="35784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a452a"/>
                </a:solidFill>
                <a:latin typeface="Calibri"/>
              </a:rPr>
              <a:t>СМЫСЛ ИК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3a00"/>
                </a:solidFill>
                <a:latin typeface="Calibri"/>
              </a:rPr>
              <a:t>Но икона – это не просто иллюстрация к Библии, а одна из форм Богопозн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видимых образах и символах она отображает духовный м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В иконе все наполнено смыслом, каждая деталь имеет свое знач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00"/>
                </a:solidFill>
                <a:latin typeface="Calibri"/>
              </a:rPr>
              <a:t>Например, нимб вокруг головы означает святость, сияние славы Бож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9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800"/>
                            </p:stCondLst>
                            <p:childTnLst>
                              <p:par>
                                <p:cTn id="3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1300"/>
                            </p:stCondLst>
                            <p:childTnLst>
                              <p:par>
                                <p:cTn id="3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КОНА – «ОБРАЗ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857240"/>
            <a:ext cx="6400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кона – не Бог, а образ Бога или святого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Люди молятся не иконе, а Тому, Кто на ней изображ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00"/>
                </a:solidFill>
                <a:latin typeface="Times New Roman"/>
                <a:ea typeface="Times New Roman"/>
              </a:rPr>
              <a:t>ЗАПРЕТ НА ИЗОБРАЖЕНИЯ Б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00"/>
                </a:solidFill>
                <a:latin typeface="Times New Roman"/>
                <a:ea typeface="Times New Roman"/>
              </a:rPr>
              <a:t>В Ветхозаветной церкви существовал запрет на изображение Бо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00"/>
                </a:solidFill>
                <a:latin typeface="Times New Roman"/>
                <a:ea typeface="Times New Roman"/>
              </a:rPr>
              <a:t>Богоизбранный народ жил в окружении жестоких язычников, поклоняющихся идол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00"/>
                </a:solidFill>
                <a:latin typeface="Times New Roman"/>
                <a:ea typeface="Times New Roman"/>
              </a:rPr>
              <a:t>Господь через пророка Моисея повелел не творить себе кумиров, то есть идолов, и не кланяться им как бог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86"/>
                </a:solidFill>
                <a:latin typeface="Times New Roman"/>
                <a:ea typeface="Times New Roman"/>
              </a:rPr>
              <a:t>КОГДА ПОЯВИЛИСЬ ИКО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те времена еще никто не видел Бо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Христос еще не приходил на землю, поэтому любое изображение Бога было бы ложн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Лишь после воплощения Господа такое изображение стало возможн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ПЕРВАЯ ИКО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571400"/>
            <a:ext cx="4286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й иконой был Нерукотворный образ Спасителя – </a:t>
            </a:r>
            <a:r>
              <a:rPr b="1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 Нерукотворенный</a:t>
            </a:r>
            <a:r>
              <a:rPr b="0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в создании которого не участвовали руки человека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F:\иллюстрации для иконовед\5. Ранние предания о воникновении священных изображений в Ц (II - IV вв.)\Спаситель\Спас Нерукотворный, Р., XII в.jpeg"/>
          <p:cNvPicPr/>
          <p:nvPr/>
        </p:nvPicPr>
        <p:blipFill>
          <a:blip r:embed="rId1"/>
          <a:stretch/>
        </p:blipFill>
        <p:spPr>
          <a:xfrm>
            <a:off x="4643280" y="1714680"/>
            <a:ext cx="41338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 нерукотвор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 время земной жизни Христа слава о Его чудесах достигла сирийского города Едессы. По преднию, там в то время правил страдавший проказой князь Авгарь. Он уверовал в Христа как в Сына Божия и послал к Нему своего живописца Ананию с поручением написать портрет Божественного Учи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Все усилия Анании написать образ Христа оставались тщетн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Тогда Спаситель приложил убрус (полотенце) к Своиму лицу, и на нем чудесно запечатлелся Его Божественный л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иллюстрации для иконовед\5. Ранние предания о воникновении священных изображений в Ц (II - IV вв.)\Спаситель\Христос с убрусом, 1694г, Кирилл Уланов.jpeg"/>
          <p:cNvPicPr/>
          <p:nvPr/>
        </p:nvPicPr>
        <p:blipFill>
          <a:blip r:embed="rId1"/>
          <a:stretch/>
        </p:blipFill>
        <p:spPr>
          <a:xfrm>
            <a:off x="5076720" y="692280"/>
            <a:ext cx="36720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Авгарь с благоговением принял Нерукотворный Образ Спасителя, приложился к нему и тотчас же исцелил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F:\иллюстрации для иконовед\5. Ранние предания о воникновении священных изображений в Ц (II - IV вв.)\Спаситель\Авгарь с убрусом, 4-частная икона, Византия, XII в.jpeg"/>
          <p:cNvPicPr/>
          <p:nvPr/>
        </p:nvPicPr>
        <p:blipFill>
          <a:blip r:embed="rId1"/>
          <a:stretch/>
        </p:blipFill>
        <p:spPr>
          <a:xfrm>
            <a:off x="5219640" y="836640"/>
            <a:ext cx="331164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2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84807"/>
                </a:solidFill>
                <a:latin typeface="Calibri"/>
              </a:rPr>
              <a:t>Чудотворный образ был установлен в нише над городскими воротами, где находился до своего перенесения в Константинополь в 10 век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F:\иллюстрации для иконовед\5. Ранние предания о воникновении священных изображений в Ц (II - IV вв.)\Спаситель\Поклонение в Фаросской Ц. К-ля, Кирилл Уланов, 1694 г.jpeg"/>
          <p:cNvPicPr/>
          <p:nvPr/>
        </p:nvPicPr>
        <p:blipFill>
          <a:blip r:embed="rId1"/>
          <a:stretch/>
        </p:blipFill>
        <p:spPr>
          <a:xfrm>
            <a:off x="4716360" y="1557360"/>
            <a:ext cx="4116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26T05:38:08Z</dcterms:modified>
  <cp:revision>33</cp:revision>
  <dc:subject/>
  <dc:title>Слайд 1</dc:title>
</cp:coreProperties>
</file>