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C71-0F97-4579-9002-9F1238D0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711-EF60-4C29-B520-A3739B61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950-3A8B-42BF-9439-7DE70568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2FE-CBBB-4DC9-9870-6C50B7C9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CD8-A359-4C73-8FDF-1C8E480C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410-E727-40C1-96E5-B55D0DC6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975-A831-40E5-88C4-EE1788E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9EE-6DCA-41FD-B594-E29236C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DAF-FE42-42D4-BB55-E7A62F30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54A-BE3A-4862-B6CF-2AB67196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2CC-750D-4081-97E6-84122AB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8F9-179D-41AA-9BB0-017DB4A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4787-296F-4037-8B16-F3635167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МЕТОДИЧЕСКОЕ ОБЪЕДИ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учителей иностранного язы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43964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76201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еминар (ЦПКР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«Ре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требований ФГОС в новых образовательных проектах из-ва «Просвещение» по английскому язы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Кылосова М.М., Крысова Е.А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495288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67280" y="380880"/>
            <a:ext cx="24195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Задачи МО на 2011-29012 уч. 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3. Проводить мониторинг качества знаний уч-ся в формате ЕГЭ с начального звена. Совершенствовать курс подготовки к сдаче ГИА и  ЕГ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. Стабилизировать педсостав кафедры путем оказания методической помощи и поддержки молодым специалист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Задачи МО на 2011-29012 уч. 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5. Продолжить работу по повышению качества знаний учащихся и учебной мотивации, развивать их творческий потенциал, привлекая к участию в разных конкурсах по иностранному языку,  организации проектной деятельности, курсов по выбору и внеклассных меропри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Школьный этап Всероссийской олимпиады школьников по английскому язы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324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228600"/>
          <a:ext cx="8381880" cy="6670800"/>
        </p:xfrm>
        <a:graphic>
          <a:graphicData uri="http://schemas.openxmlformats.org/drawingml/2006/table">
            <a:tbl>
              <a:tblPr/>
              <a:tblGrid>
                <a:gridCol w="1066680"/>
                <a:gridCol w="1371600"/>
                <a:gridCol w="2362320"/>
                <a:gridCol w="1523880"/>
                <a:gridCol w="20574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Салин Алексей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Насиков-ская Е.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аршина А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Филиппов В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дочникова 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Злобина Д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Тимербулатов И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тречко Л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Габдулбариев И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Злобин Вад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ирокова В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злова В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Тихомирова Ка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Трефилов В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еданова Нас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епурных Макс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рысов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Чудиновских Я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авиных Пав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шина 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ономарев Л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лиев Рус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остовцева 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80880" y="304920"/>
          <a:ext cx="8382240" cy="5584680"/>
        </p:xfrm>
        <a:graphic>
          <a:graphicData uri="http://schemas.openxmlformats.org/drawingml/2006/table">
            <a:tbl>
              <a:tblPr/>
              <a:tblGrid>
                <a:gridCol w="1067040"/>
                <a:gridCol w="1371600"/>
                <a:gridCol w="2361960"/>
                <a:gridCol w="1524240"/>
                <a:gridCol w="2057400"/>
              </a:tblGrid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Злобин 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ирокова В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Дудникова 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лаутина 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ислицына Нас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Белик Ка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Насиков-ская Е.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изилов С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рысов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Нечаев С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злова Н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йкова По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Участие  в муниципальном эта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5141880"/>
        </p:xfrm>
        <a:graphic>
          <a:graphicData uri="http://schemas.openxmlformats.org/drawingml/2006/table">
            <a:tbl>
              <a:tblPr/>
              <a:tblGrid>
                <a:gridCol w="1646280"/>
                <a:gridCol w="3290760"/>
                <a:gridCol w="1646280"/>
                <a:gridCol w="164628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х бал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удиновских Яков     (7-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из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из 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епурных Максим    (7-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з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из 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изилов 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из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из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ойкова Полина (11-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з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из 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Международный игровой конк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BRITISH  BULL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1779840" cy="2495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1733400" cy="127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638680" y="4114800"/>
            <a:ext cx="266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380880"/>
          <a:ext cx="8231040" cy="5856480"/>
        </p:xfrm>
        <a:graphic>
          <a:graphicData uri="http://schemas.openxmlformats.org/drawingml/2006/table">
            <a:tbl>
              <a:tblPr/>
              <a:tblGrid>
                <a:gridCol w="1639440"/>
                <a:gridCol w="1639440"/>
                <a:gridCol w="2488680"/>
                <a:gridCol w="2247840"/>
                <a:gridCol w="216000"/>
              </a:tblGrid>
              <a:tr h="11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астников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в реги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ллен Деннис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ллен Йолан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дуардо Кр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алин Алекс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торгуева Я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274680"/>
          <a:ext cx="8231040" cy="6472080"/>
        </p:xfrm>
        <a:graphic>
          <a:graphicData uri="http://schemas.openxmlformats.org/drawingml/2006/table">
            <a:tbl>
              <a:tblPr/>
              <a:tblGrid>
                <a:gridCol w="1639440"/>
                <a:gridCol w="1639440"/>
                <a:gridCol w="2488680"/>
                <a:gridCol w="2247840"/>
                <a:gridCol w="21600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астников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в реги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бдрахманова Ками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агунова Ма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лик Ка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изилов С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щева Нат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20 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69 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04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остав кафедры на конец учебного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Основы проектир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76520"/>
          <a:ext cx="8229600" cy="4138560"/>
        </p:xfrm>
        <a:graphic>
          <a:graphicData uri="http://schemas.openxmlformats.org/drawingml/2006/table">
            <a:tbl>
              <a:tblPr/>
              <a:tblGrid>
                <a:gridCol w="2362320"/>
                <a:gridCol w="487656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щева Наташа 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СМИ Великобрит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Хлобыстова С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Английские худож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вязина Ксения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Английские празд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рзляк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ша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Университеты Великобрит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КУРСЫ ПО ВЫБОРУ 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10 кла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«Совершенствование лексико-грамматических навыков при выполнение заданий в текстах коммуникативной направленности в формате ЕГЭ»  (Крысова Е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11 кла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«Совершенствование лексико-грамматических навыков в чтении, аудировании и письме с разными стратегиями при выполнении заданий в формате ЕГЭ»  (Крысова Е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ПРАЗДНИ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США и   ВЕЛИКОБРИТА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4284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2 клас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осенний праздник, инсценировка сказки «ТЕРЕМОК», праздник алфави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ирокова В.Е., Козлова Н.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3,4,5,6 к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Рождество в Брит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ирокова В.Е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злова Н.Е., Кылосова М.М., Насиковская Е.Ю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71480" cy="1936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2057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7 к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Хэллоуинн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Крысова Е.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8 к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День Благодарения, День Святого Вален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Широкова В.Е., Насиковская Е.Ю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361960" cy="188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2286000" cy="1768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241956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79246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85-летняя королев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                                                       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Елизавета </a:t>
            </a: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II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на престоле 60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( с 1952 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1882800" cy="259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876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8- 9 клас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стреча с виджеем Евгенией Шишкино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Мои впечатления от поездки в СШ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иковская Е.Ю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5867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Задачи на 2012-2013 уч.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Освоение ФГОС 2-го поко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(2 класс – УМК Н.И. Быковой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SPOTLIGHT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(Английский в фоку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2920" y="2362320"/>
            <a:ext cx="1261800" cy="175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2670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2) Совершенствовать освоение УМК М.З. Биболетов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Enjoy English (3-11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к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3) Продолжить работу по совершенствованию педагогического масте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4)Совершенствовать использование пед. технологий на ур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5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должать развивать творческий потенциал уч-ся, повышать мотивацию к изучению англ.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99"/>
                </a:solidFill>
                <a:latin typeface="Arial"/>
              </a:rPr>
              <a:t>Приятного летнего отдых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276720" cy="251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2222640"/>
            <a:ext cx="35812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274680"/>
          <a:ext cx="8229600" cy="5402160"/>
        </p:xfrm>
        <a:graphic>
          <a:graphicData uri="http://schemas.openxmlformats.org/drawingml/2006/table">
            <a:tbl>
              <a:tblPr/>
              <a:tblGrid>
                <a:gridCol w="4267080"/>
                <a:gridCol w="1371600"/>
                <a:gridCol w="121932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. ст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е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юдмила   Никола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акар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ария Александ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ылос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арина Михай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асиков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Екатерина Юр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Широ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алентина Евген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озл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аталья Евген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рыс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Елена Анатолье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 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Задачи МО на 2011-29012 уч. 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. Выполнение государственного  образовательного стандарта  и рабочих программ всеми учителями ин. язы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содержание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часы – 9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66"/>
                </a:solidFill>
                <a:latin typeface="Arial"/>
              </a:rPr>
              <a:t>Итоги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143000"/>
          <a:ext cx="8229600" cy="4048200"/>
        </p:xfrm>
        <a:graphic>
          <a:graphicData uri="http://schemas.openxmlformats.org/drawingml/2006/table">
            <a:tbl>
              <a:tblPr/>
              <a:tblGrid>
                <a:gridCol w="2971800"/>
                <a:gridCol w="1371600"/>
                <a:gridCol w="1523880"/>
                <a:gridCol w="990720"/>
                <a:gridCol w="1371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усп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карова М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5 (62 че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8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ылосова М.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9     (1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2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сиковская Е.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1   (136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99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5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злова Н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1   (1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6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рысов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    (11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5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нова Л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3       (4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ирокова В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     (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2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701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99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6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Годовые аттестационные работы по английскому 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057400"/>
          <a:ext cx="8231040" cy="406872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1066680"/>
                <a:gridCol w="1355760"/>
                <a:gridCol w="1082880"/>
                <a:gridCol w="1066680"/>
                <a:gridCol w="1144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 –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6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56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-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2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 –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25 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Задачи МО на 2011-29012 уч. 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. Продолжить работу по совершенствованию педагогического мастерства учителей иностранного языка пу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) освоения новых УМК под редакцией М.З.Биболетовой  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JOY ENGLISH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»  (2,3, 4,5,6,7,8, 9,10,11  клас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 2011-2012 уч. г. УМК Биболетовой М.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njoy English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2-11 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) освоения современных технологий обучения и воспитания, метода проекта,  межпредметной интеграции,  внедрение информационных технологий  в учебный процес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) работы в едином информационном образовательном пространстве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) использования форм и методов работы, способствующих повышению мотивации к изучению иностранных язы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еминар-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«Продуктивное обучен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(ЦПКРО, шк.№ 28, Л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Крысова Е.А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-  Заседание МО по теме «Продуктивное обу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192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30T07:22:1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