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13.png" ContentType="image/png"/>
  <Override PartName="/ppt/media/image6.jpeg" ContentType="image/jpeg"/>
  <Override PartName="/ppt/media/image22.jpeg" ContentType="image/jpeg"/>
  <Override PartName="/ppt/media/image14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4B6B-9ED7-4918-8F05-0A12D5150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5426-447A-431F-887C-538EA7D7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69AA-FCE2-4A41-8478-471869890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7838-F601-41DF-92CB-1DD213790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99E7-1B13-429F-BC12-024F8362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1B47-690E-4B21-903A-FC2CEDD8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6DC1-BA53-4B5E-B9E8-89E94D57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4048-E162-4245-BAD2-C3AD6EB8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A018-D6C5-4708-88EE-61EE1AD7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40C5-2403-4B1D-86C9-D3CDC285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5120-A717-40AB-8EFB-0086A17B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CC1F-5423-4928-B25E-246DCA9C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96DB-4CEF-4E0D-952A-C8181CA45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6858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33"/>
                </a:solidFill>
                <a:latin typeface="Arial"/>
              </a:rPr>
              <a:t>МЕТОДИЧЕСКОЕ ОБЪЕДИН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"/>
              </a:rPr>
              <a:t>учителей иностранного язы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391520" y="457200"/>
            <a:ext cx="1439640" cy="1981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80880" y="3962520"/>
            <a:ext cx="26672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762120"/>
            <a:ext cx="762012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Семинар (ЦПКРО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«Реализ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требований ФГОС в новых образовательных проектах из-ва «Просвещение» по английскому язык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(Кылосова М.М., Крысова Е.А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8080" y="4952880"/>
            <a:ext cx="905040" cy="1371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867280" y="380880"/>
            <a:ext cx="2419560" cy="18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"/>
              </a:rPr>
              <a:t>Задачи МО на 2011-29012 уч. г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3. Проводить мониторинг качества знаний уч-ся в формате ЕГЭ с начального звена. Совершенствовать курс подготовки к сдаче ГИА и  ЕГЭ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4. Стабилизировать педсостав кафедры путем оказания методической помощи и поддержки молодым специалиста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2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"/>
              </a:rPr>
              <a:t>Задачи МО на 2011-29012 уч. г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5. Продолжить работу по повышению качества знаний учащихся и учебной мотивации, развивать их творческий потенциал, привлекая к участию в разных конкурсах по иностранному языку,  организации проектной деятельности, курсов по выбору и внеклассных мероприят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Школьный этап Всероссийской олимпиады школьников по английскому язы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09480" y="403848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238880" y="457200"/>
            <a:ext cx="13240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304920" y="228600"/>
          <a:ext cx="8381880" cy="6670800"/>
        </p:xfrm>
        <a:graphic>
          <a:graphicData uri="http://schemas.openxmlformats.org/drawingml/2006/table">
            <a:tbl>
              <a:tblPr/>
              <a:tblGrid>
                <a:gridCol w="1066680"/>
                <a:gridCol w="1371600"/>
                <a:gridCol w="2362320"/>
                <a:gridCol w="1523880"/>
                <a:gridCol w="205740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ни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ед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е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Салин Алексей</a:t>
                      </a: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Насиков-ская Е.Ю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Паршина Ан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Филиппов Вла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Кадочникова Л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Злобина Даш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Тимербулатов И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Катречко Ли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Габдулбариев И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Злобин Вади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Широкова В.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Козлова В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Тихомирова Ка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Трефилов Вла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Седанова Наст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Чепурных Макси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Крысова Е.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Чудиновских Я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Савиных Паве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Кашина Соф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Пономарев Ле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Алиев Русл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Ростовцева Али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380880" y="304920"/>
          <a:ext cx="8382240" cy="5584680"/>
        </p:xfrm>
        <a:graphic>
          <a:graphicData uri="http://schemas.openxmlformats.org/drawingml/2006/table">
            <a:tbl>
              <a:tblPr/>
              <a:tblGrid>
                <a:gridCol w="1067040"/>
                <a:gridCol w="1371600"/>
                <a:gridCol w="2361960"/>
                <a:gridCol w="1524240"/>
                <a:gridCol w="2057400"/>
              </a:tblGrid>
              <a:tr h="106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ник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ед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е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3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Злобин Ю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Широкова В.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Дудникова О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Слаутина О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Кислицына Наст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Белик Кар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Насиков-ская Е.Ю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Кизилов Са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Крысова Е.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Нечаев Са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Козлова Н.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Койкова По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Участие  в муниципальном этап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447920"/>
          <a:ext cx="8229600" cy="5141880"/>
        </p:xfrm>
        <a:graphic>
          <a:graphicData uri="http://schemas.openxmlformats.org/drawingml/2006/table">
            <a:tbl>
              <a:tblPr/>
              <a:tblGrid>
                <a:gridCol w="1646280"/>
                <a:gridCol w="3290760"/>
                <a:gridCol w="1646280"/>
                <a:gridCol w="1646280"/>
              </a:tblGrid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х бал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 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Чудиновских Яков     (7-в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из 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из 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Чепурных Максим    (7-б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из 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 из 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 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Кизилов Саш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 из 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из 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1 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Койкова Полина (11-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из 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 из 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Международный игровой конкур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BRITISH  BULLD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80880" y="3962520"/>
            <a:ext cx="1779840" cy="24955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657600" y="380880"/>
            <a:ext cx="1733400" cy="1276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638680" y="4114800"/>
            <a:ext cx="26672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7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457200" y="380880"/>
          <a:ext cx="8231040" cy="5856480"/>
        </p:xfrm>
        <a:graphic>
          <a:graphicData uri="http://schemas.openxmlformats.org/drawingml/2006/table">
            <a:tbl>
              <a:tblPr/>
              <a:tblGrid>
                <a:gridCol w="1639440"/>
                <a:gridCol w="1639440"/>
                <a:gridCol w="2488680"/>
                <a:gridCol w="2247840"/>
                <a:gridCol w="216000"/>
              </a:tblGrid>
              <a:tr h="11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участников в шко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едитель в шко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о в регио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4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Аллен Деннис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Аллен Йолан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Эдуардо Кри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алин Алекс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Расторгуева Я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457200" y="274680"/>
          <a:ext cx="8231040" cy="6472080"/>
        </p:xfrm>
        <a:graphic>
          <a:graphicData uri="http://schemas.openxmlformats.org/drawingml/2006/table">
            <a:tbl>
              <a:tblPr/>
              <a:tblGrid>
                <a:gridCol w="1639440"/>
                <a:gridCol w="1639440"/>
                <a:gridCol w="2488680"/>
                <a:gridCol w="2247840"/>
                <a:gridCol w="216000"/>
              </a:tblGrid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участников в шко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едитель в шко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о в регио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1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Абдрахманова Камил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Лагунова Мар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Белик Кар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изилов Са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Фищева Ната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120 ч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69 ч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-30492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Состав кафедры на конец учебного год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35812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Arial"/>
              </a:rPr>
              <a:t>Основы проектиров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57200" y="1676520"/>
          <a:ext cx="8229600" cy="4138560"/>
        </p:xfrm>
        <a:graphic>
          <a:graphicData uri="http://schemas.openxmlformats.org/drawingml/2006/table">
            <a:tbl>
              <a:tblPr/>
              <a:tblGrid>
                <a:gridCol w="2362320"/>
                <a:gridCol w="4876560"/>
                <a:gridCol w="990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Фищева Наташа  (+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СМИ Великобритан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Хлобыстова Са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Английские художн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вязина Ксения (+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Английские праздн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ерзляко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аша (+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Университеты Великобритан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Arial"/>
              </a:rPr>
              <a:t>КУРСЫ ПО ВЫБОРУ О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10 клас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«Совершенствование лексико-грамматических навыков при выполнение заданий в текстах коммуникативной направленности в формате ЕГЭ»  (Крысова Е.А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11 клас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«Совершенствование лексико-грамматических навыков в чтении, аудировании и письме с разными стратегиями при выполнении заданий в формате ЕГЭ»  (Крысова Е.А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0033"/>
                </a:solidFill>
                <a:latin typeface="Arial"/>
              </a:rPr>
              <a:t>ПРАЗДНИК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Arial"/>
              </a:rPr>
              <a:t>США и   ВЕЛИКОБРИТАН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85800" y="41911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934320" y="533520"/>
            <a:ext cx="1428480" cy="10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66"/>
                </a:solidFill>
                <a:latin typeface="Arial"/>
              </a:rPr>
              <a:t>2 класс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осенний праздник, инсценировка сказки «ТЕРЕМОК», праздник алфави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Широкова В.Е., Козлова Н.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66"/>
                </a:solidFill>
                <a:latin typeface="Arial"/>
              </a:rPr>
              <a:t>3,4,5,6 к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Рождество в Брит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Широкова В.Е.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озлова Н.Е., Кылосова М.М., Насиковская Е.Ю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791320" y="2133720"/>
            <a:ext cx="2571480" cy="1936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019920" y="4724280"/>
            <a:ext cx="20574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48320" y="685800"/>
            <a:ext cx="403848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66"/>
                </a:solidFill>
                <a:latin typeface="Arial"/>
              </a:rPr>
              <a:t>7 к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Хэллоуинн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Крысова Е.А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66"/>
                </a:solidFill>
                <a:latin typeface="Arial"/>
              </a:rPr>
              <a:t>8 к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День Благодарения, День Святого Валент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Широкова В.Е., Насиковская Е.Ю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2361960" cy="1888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371600" y="2590920"/>
            <a:ext cx="2286000" cy="1768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981080" y="4495680"/>
            <a:ext cx="241956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61760" y="380520"/>
            <a:ext cx="792468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i="1" lang="ru-RU" sz="2400" spc="-1" strike="noStrike">
                <a:solidFill>
                  <a:srgbClr val="993366"/>
                </a:solidFill>
                <a:latin typeface="Arial"/>
              </a:rPr>
              <a:t>85-летняя королева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66"/>
                </a:solidFill>
                <a:latin typeface="Arial"/>
              </a:rPr>
              <a:t>                                                       </a:t>
            </a:r>
            <a:r>
              <a:rPr b="0" i="1" lang="ru-RU" sz="2400" spc="-1" strike="noStrike">
                <a:solidFill>
                  <a:srgbClr val="993366"/>
                </a:solidFill>
                <a:latin typeface="Arial"/>
              </a:rPr>
              <a:t>Елизавета </a:t>
            </a:r>
            <a:r>
              <a:rPr b="0" i="1" lang="en-US" sz="2400" spc="-1" strike="noStrike">
                <a:solidFill>
                  <a:srgbClr val="993366"/>
                </a:solidFill>
                <a:latin typeface="Arial"/>
              </a:rPr>
              <a:t>II</a:t>
            </a:r>
            <a:r>
              <a:rPr b="0" i="1" lang="ru-RU" sz="2400" spc="-1" strike="noStrike">
                <a:solidFill>
                  <a:srgbClr val="993366"/>
                </a:solidFill>
                <a:latin typeface="Arial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66"/>
                </a:solidFill>
                <a:latin typeface="Arial"/>
              </a:rPr>
              <a:t>                                                  </a:t>
            </a:r>
            <a:r>
              <a:rPr b="0" i="1" lang="ru-RU" sz="2400" spc="-1" strike="noStrike">
                <a:solidFill>
                  <a:srgbClr val="993366"/>
                </a:solidFill>
                <a:latin typeface="Arial"/>
              </a:rPr>
              <a:t>на престоле 60 л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66"/>
                </a:solidFill>
                <a:latin typeface="Arial"/>
              </a:rPr>
              <a:t>                                                             </a:t>
            </a:r>
            <a:r>
              <a:rPr b="0" i="1" lang="ru-RU" sz="2400" spc="-1" strike="noStrike">
                <a:solidFill>
                  <a:srgbClr val="993366"/>
                </a:solidFill>
                <a:latin typeface="Arial"/>
              </a:rPr>
              <a:t>( с 1952 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1882800" cy="2590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181480" y="3733920"/>
            <a:ext cx="287676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66"/>
                </a:solidFill>
                <a:latin typeface="Arial"/>
              </a:rPr>
              <a:t>8- 9 класс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встреча с виджеем Евгенией Шишкиной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«Мои впечатления от поездки в СШ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сиковская Е.Ю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209680" y="2666880"/>
            <a:ext cx="58676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66"/>
                </a:solidFill>
                <a:latin typeface="Arial"/>
              </a:rPr>
              <a:t>Задачи на 2012-2013 уч. 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Освоение ФГОС 2-го покол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(2 класс – УМК Н.И. Быковой </a:t>
            </a: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SPOTLIGHT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(Английский в фокус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162920" y="2362320"/>
            <a:ext cx="1261800" cy="17524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0880" y="4267080"/>
            <a:ext cx="723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2) Совершенствовать освоение УМК М.З. Биболетово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Enjoy English (3-11 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к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3) Продолжить работу по совершенствованию педагогического мастер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4)Совершенствовать использование пед. технологий на уро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5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Продолжать развивать творческий потенциал уч-ся, повышать мотивацию к изучению англ. язы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2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5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3399"/>
                </a:solidFill>
                <a:latin typeface="Arial"/>
              </a:rPr>
              <a:t>Приятного летнего отдых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3276720" cy="2511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029200" y="2222640"/>
            <a:ext cx="358128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274680"/>
          <a:ext cx="8229600" cy="5402160"/>
        </p:xfrm>
        <a:graphic>
          <a:graphicData uri="http://schemas.openxmlformats.org/drawingml/2006/table">
            <a:tbl>
              <a:tblPr/>
              <a:tblGrid>
                <a:gridCol w="4267080"/>
                <a:gridCol w="1371600"/>
                <a:gridCol w="1219320"/>
                <a:gridCol w="1371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г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д. ста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школ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Сенов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Людмила   Николае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Макар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Мария Александро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Кылосов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Марина Михайло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 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Насиковск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Екатерина Юрье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Широк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Валентина Евгенье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Козлов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Наталья Евгенье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7 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Крыс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Елена Анатольев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8 л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"/>
              </a:rPr>
              <a:t>Задачи МО на 2011-29012 уч. г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1. Выполнение государственного  образовательного стандарта  и рабочих программ всеми учителями ин. язы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содержание – 100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                      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часы – 98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746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66"/>
                </a:solidFill>
                <a:latin typeface="Arial"/>
              </a:rPr>
              <a:t>Итоги го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143000"/>
          <a:ext cx="8229600" cy="4048200"/>
        </p:xfrm>
        <a:graphic>
          <a:graphicData uri="http://schemas.openxmlformats.org/drawingml/2006/table">
            <a:tbl>
              <a:tblPr/>
              <a:tblGrid>
                <a:gridCol w="2971800"/>
                <a:gridCol w="1371600"/>
                <a:gridCol w="1523880"/>
                <a:gridCol w="990720"/>
                <a:gridCol w="13716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клас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успе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м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кач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ий бал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акарова М.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5 (62 че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88,7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4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ылосова М.М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9     (11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82 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Насиковская Е.Ю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11   (136 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99,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56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3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злова Н.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11   (13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68,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рысова Е.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10    (11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59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3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енова Л.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3       (42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48,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Широкова В.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8     (1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82 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4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                              </a:t>
                      </a:r>
                      <a:r>
                        <a:rPr b="1" lang="en-US" sz="20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ито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701 че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99,9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69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3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660033"/>
                </a:solidFill>
                <a:latin typeface="Arial"/>
              </a:rPr>
              <a:t>Годовые аттестационные работы по английскому язы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2057400"/>
          <a:ext cx="8231040" cy="4068720"/>
        </p:xfrm>
        <a:graphic>
          <a:graphicData uri="http://schemas.openxmlformats.org/drawingml/2006/table">
            <a:tbl>
              <a:tblPr/>
              <a:tblGrid>
                <a:gridCol w="1371600"/>
                <a:gridCol w="1143000"/>
                <a:gridCol w="1066680"/>
                <a:gridCol w="1355760"/>
                <a:gridCol w="1082880"/>
                <a:gridCol w="1066680"/>
                <a:gridCol w="114444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 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4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 –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61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56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- 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82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 – 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25 %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9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"/>
              </a:rPr>
              <a:t>Задачи МО на 2011-29012 уч. г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. Продолжить работу по совершенствованию педагогического мастерства учителей иностранного языка пут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) освоения новых УМК под редакцией М.З.Биболетовой  «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NJOY ENGLISH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»  (2,3, 4,5,6,7,8, 9,10,11  классы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45720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с 2011-2012 уч. г. УМК Биболетовой М.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Enjoy English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2-11 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клас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б) освоения современных технологий обучения и воспитания, метода проекта,  межпредметной интеграции,  внедрение информационных технологий  в учебный процесс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) работы в едином информационном образовательном пространстве шк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г) использования форм и методов работы, способствующих повышению мотивации к изучению иностранных язык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Семинар- практику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«Продуктивное обучение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(ЦПКРО, шк.№ 28, ЛГ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     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(Крысова Е.А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-  Заседание МО по теме «Продуктивное обуче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172200" y="533520"/>
            <a:ext cx="241920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5-30T07:22:10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