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3059-B174-4645-94A0-61D353C0D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D06F-2A5B-4CED-84AB-E2D85C9A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7048-C754-4B8C-9D60-2117F94C0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53D1-E603-40BE-B8DF-25BFC00C0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9B91-9FFD-45D7-918E-7703196F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17CE-DA7B-4D31-B9F7-573CC307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ED40-D319-4323-94E9-A136EC22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2F58-95FE-43BC-81F0-DA6BF5DA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BAE7-491A-4F83-8A77-C91B3C56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F569-AB54-4030-ACFE-D59BD056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09A5-18C0-4E7A-9136-34E4E602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97EA-0979-449A-9AF0-5FC49DF7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958F-62C7-4BD5-A42C-78C389675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76720" y="335268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880" y="533520"/>
            <a:ext cx="2808360" cy="3327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334120" y="762120"/>
            <a:ext cx="3200400" cy="2349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514520" y="685800"/>
            <a:ext cx="6562800" cy="467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чителей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ностранног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язы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009 - 2010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Bookman Old Style"/>
              </a:rPr>
              <a:t>Состав учите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33520" y="1600200"/>
          <a:ext cx="7924680" cy="4583160"/>
        </p:xfrm>
        <a:graphic>
          <a:graphicData uri="http://schemas.openxmlformats.org/drawingml/2006/table">
            <a:tbl>
              <a:tblPr/>
              <a:tblGrid>
                <a:gridCol w="6019560"/>
                <a:gridCol w="190512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Стрижова Галина Николаевна (франц. яз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1 катего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Крысова Елена Анатолье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1 катего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Козлова Наталья Евгенье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2 катего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Насиковская Екатерина Юрье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Бычкова Наталья Игоре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Молодой специали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Лабзина Эльвира Владимиро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(немецкий язы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1 категор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09480" y="457200"/>
          <a:ext cx="8077320" cy="5845320"/>
        </p:xfrm>
        <a:graphic>
          <a:graphicData uri="http://schemas.openxmlformats.org/drawingml/2006/table">
            <a:tbl>
              <a:tblPr/>
              <a:tblGrid>
                <a:gridCol w="2667240"/>
                <a:gridCol w="1218960"/>
                <a:gridCol w="1067040"/>
                <a:gridCol w="1371600"/>
                <a:gridCol w="914400"/>
                <a:gridCol w="8380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клас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уч-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успевае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качестобуч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й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рысова Е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6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злова Н.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9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6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сиковская Е.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,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5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Бычкова Н.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трижова Г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0%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,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Лабзина Э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Bookman Old Style"/>
              </a:rPr>
              <a:t>Переводные экзамен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38080" y="1219320"/>
          <a:ext cx="7543800" cy="4465440"/>
        </p:xfrm>
        <a:graphic>
          <a:graphicData uri="http://schemas.openxmlformats.org/drawingml/2006/table">
            <a:tbl>
              <a:tblPr/>
              <a:tblGrid>
                <a:gridCol w="3962520"/>
                <a:gridCol w="990720"/>
                <a:gridCol w="1447560"/>
                <a:gridCol w="1143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е-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злова Н.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а,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ысова Е.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а, 10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чкова Н.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а,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иковская Е.Ю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а,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ыпускные экзамен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а,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Bookman Old Style"/>
              </a:rPr>
              <a:t>Школьный этап Олимпиады по английскому язы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62120" y="1600200"/>
          <a:ext cx="7924680" cy="5529240"/>
        </p:xfrm>
        <a:graphic>
          <a:graphicData uri="http://schemas.openxmlformats.org/drawingml/2006/table">
            <a:tbl>
              <a:tblPr/>
              <a:tblGrid>
                <a:gridCol w="761760"/>
                <a:gridCol w="685800"/>
                <a:gridCol w="3124440"/>
                <a:gridCol w="1600200"/>
                <a:gridCol w="175248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ите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пурных Максим  (5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ысова Е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чел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дникова О. (6б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чкова Н.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женицына О. (7б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иковская Е.Ю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чаев С. (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злова Н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инова П. (10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ысова Е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1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ританский Бульдог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itish Bulld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3520" y="1523880"/>
          <a:ext cx="8381880" cy="5108760"/>
        </p:xfrm>
        <a:graphic>
          <a:graphicData uri="http://schemas.openxmlformats.org/drawingml/2006/table">
            <a:tbl>
              <a:tblPr/>
              <a:tblGrid>
                <a:gridCol w="2819160"/>
                <a:gridCol w="1295640"/>
                <a:gridCol w="609480"/>
                <a:gridCol w="533520"/>
                <a:gridCol w="3124080"/>
              </a:tblGrid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5 558 че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182 че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й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04 че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ко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к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ч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шина Ан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злова Викто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ина А. Чепурных М. Якимов 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лобин Юр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женицына 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зилов Александ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чаев Ал. Балезин А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место в регион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ч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инова По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ышева Ма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059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воение новых УМК Биболетовой М.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2-8 классы) и Грозы О.Л. 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Millenniu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 (10 кл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школьном педсовете «Из опыта работы кафедры по использованию исследовательской и проектной деятельности на уроках иностранного язы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ттестация ( Крысова Е.А. в 2009 - 2010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Козлова Н.Е. в 2010-2011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рсы «Методические основы подготовки уч-ся к ЕГЭ и ГИА по иностранному языку» (Козлова Н.Е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инар «Составление рабочих программ учителями иностранного языка» (Насиковская Е.Ю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2-06-10T13:30:2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