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6B8-2FAC-4E56-AE5A-3C47B0DF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151-284A-4412-9E52-167552B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67B-ABDD-471E-B918-2BB7409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F26-7652-4EDA-872E-DFF29D36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652-67F2-40B8-BEE6-7834DCA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562-A16A-4752-B2AA-6C6EE6B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3A7-0A6E-4F07-B999-2BD8A09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1EE-0B22-4643-BC99-FCAE61D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05F-D11A-4BFA-AEFC-FBEB5611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C1B-6EA0-4669-B5C3-A806B17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866-17CA-4143-A029-7445194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A68-6B2A-46A4-9DAE-C8F977F2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7A39-8BE7-458F-B72C-BCA682D2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2808360" cy="3327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4120" y="762120"/>
            <a:ext cx="320040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14520" y="685800"/>
            <a:ext cx="6562800" cy="46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е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остранн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зы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009 - 2010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Состав учите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1600200"/>
          <a:ext cx="7924680" cy="4583160"/>
        </p:xfrm>
        <a:graphic>
          <a:graphicData uri="http://schemas.openxmlformats.org/drawingml/2006/table">
            <a:tbl>
              <a:tblPr/>
              <a:tblGrid>
                <a:gridCol w="6019560"/>
                <a:gridCol w="19051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Стрижова Галина Николаевна (франц. яз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рысова Елена Анатол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озлова Наталья Евген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 катег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Насиковская Екатерина Юрь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Бычкова Наталья Игор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олодой специал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Лабзина Эльвира Владимир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(немецкий язы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 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457200"/>
          <a:ext cx="8077320" cy="5845320"/>
        </p:xfrm>
        <a:graphic>
          <a:graphicData uri="http://schemas.openxmlformats.org/drawingml/2006/table">
            <a:tbl>
              <a:tblPr/>
              <a:tblGrid>
                <a:gridCol w="2667240"/>
                <a:gridCol w="1218960"/>
                <a:gridCol w="1067040"/>
                <a:gridCol w="1371600"/>
                <a:gridCol w="914400"/>
                <a:gridCol w="83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обуч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ысова Е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злова Н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сиковская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ычкова Н.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рижова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%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зина Э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Переводные экзам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219320"/>
          <a:ext cx="7543800" cy="4465440"/>
        </p:xfrm>
        <a:graphic>
          <a:graphicData uri="http://schemas.openxmlformats.org/drawingml/2006/table">
            <a:tbl>
              <a:tblPr/>
              <a:tblGrid>
                <a:gridCol w="3962520"/>
                <a:gridCol w="990720"/>
                <a:gridCol w="1447560"/>
                <a:gridCol w="1143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-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Н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а, 10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чкова Н.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а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ыпускные экзамен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а,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Школьный этап Олимпиады по англий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600200"/>
          <a:ext cx="7924680" cy="552924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3124440"/>
                <a:gridCol w="1600200"/>
                <a:gridCol w="1752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д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пурных Максим  (5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дникова О. (6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чкова Н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еницына О. (7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иковская Е.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аев С. 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инова П. (10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ова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итанский Бульдог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Bull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1523880"/>
          <a:ext cx="8381880" cy="5108760"/>
        </p:xfrm>
        <a:graphic>
          <a:graphicData uri="http://schemas.openxmlformats.org/drawingml/2006/table">
            <a:tbl>
              <a:tblPr/>
              <a:tblGrid>
                <a:gridCol w="2819160"/>
                <a:gridCol w="1295640"/>
                <a:gridCol w="609480"/>
                <a:gridCol w="533520"/>
                <a:gridCol w="312408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 558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182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4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шина Ан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а 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ина А. Чепурных М. Яким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бин Ю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еницына 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зилов Алексан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аев Ал. Балезин 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место в регио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инова По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ва М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новых УМК Биболетовой М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2-8 классы) и Грозы О.Л.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illenni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 (10 кл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школьном педсовете «Из опыта работы кафедры по использованию исследовательской и проектной деятельности на уроках иностранного язы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тестация ( Крысова Е.А. в 2009 - 201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Козлова Н.Е. в 2010-201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ы «Методические основы подготовки уч-ся к ЕГЭ и ГИА по иностранному языку» (Козлова Н.Е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нар «Составление рабочих программ учителями иностранного языка» (Насиковская Е.Ю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6-10T13:3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