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9.png" ContentType="image/png"/>
  <Override PartName="/ppt/media/image15.gif" ContentType="image/gif"/>
  <Override PartName="/ppt/media/image14.gif" ContentType="image/gif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3.gif" ContentType="image/gif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FA9D-467A-479B-8CE6-019F75D51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05C6-5FCE-4AA9-A066-B49ADDBFE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CA8F-261C-4FFF-AA14-B69C98D76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234E-7C8B-4E24-BA67-40F719A20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8DC31-BA22-462F-8703-0459276BF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9C5D2-FC86-4A67-9F3D-D2917BB4D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95EA5-B5B5-481C-9AD6-CE7FE9707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B5AF3-E492-455B-8BAD-F91CC5332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DB5ED-0750-4C36-A2A2-4E861C87F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9D1B4-D34C-4790-97D4-5CD50A2C6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49FD3-8C6C-45D3-A6AC-8944F2C1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D862-68A6-4A86-A04C-10D2C968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B7632-00CD-4B1B-A388-8FD3AA0A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FF862-95CC-4057-AA67-DA5C0823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7B018-FABB-4F23-A855-96529D21D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A8F97-2DEB-49FE-AD0B-B428485A5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79782-211B-4626-A8DA-5365CA792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5FA5F-96D3-4064-85EB-0310D98EC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149E4-91CA-4483-BC26-178D6B516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0887C-7D51-4D20-A2A4-EAB762873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9FB9A-4342-4E07-A8BA-0648770BB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A350C-D58E-4971-9182-1C6E61F72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0A8F-0DB9-4EDB-8D9A-7DBC41489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65DD4-31CD-4EEE-AAAB-D7B50002E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AF688-AC06-483B-96A3-2B54E77C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3BE35-70D6-4FE5-B471-1541E18E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55E00-3A6C-46CB-9C64-1EE1B6BE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957EB-36A3-4287-8BC4-5A0B70A1A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0C9E2-6F8D-4F68-95EB-9E0A5083F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5E4BD-F0AF-412C-82E4-F1EB07ED5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8279F-A20C-4582-8A9B-0678AD752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D0871-F112-4B31-8657-A5C8CCC02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8FD02-814D-4B12-9A43-09964821A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D445-2001-4101-901C-A71D5A31B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C1739-2DD7-434E-B0BE-992D4CF42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BCE58-E816-4C21-811B-09F09D87F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B9E69-4C37-41C1-8214-3801DE037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8B572-C6FD-4908-8607-9982B6C7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7C23F-B799-4EE2-A656-F81D07C8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5CA3C-54A0-43F1-8D62-3E7B392E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C6B70-B148-41C8-A403-ED16C7877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263FA-9B95-4575-88D5-6E4AC2C5F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E662C-17FE-46B2-97CB-E369C77E7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FE3B-9A6A-4A89-9F0B-DEFD08DFC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ED02-6E44-4B71-BF1F-1342FCFC8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300C-B1BD-43B3-B800-CC041092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A596-2EFB-4796-A10D-D3F8C8C8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3F93-3694-46BC-8E13-06E0FEA5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34A30-0FA5-48DE-AA12-59351D5CBD8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1EAF1-48B2-47F4-B606-4371E5966DF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E0128-0B9A-4A55-B530-3AF5D1C2B1A6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47875-3EA6-414F-B6A8-6A1FD3DA4CE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8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Рисунок 4" descr="untitled.bmp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6" name="Выноска-облако 5"/>
          <p:cNvGrpSpPr/>
          <p:nvPr/>
        </p:nvGrpSpPr>
        <p:grpSpPr>
          <a:xfrm>
            <a:off x="-73080" y="-30240"/>
            <a:ext cx="3419640" cy="2071800"/>
            <a:chOff x="-73080" y="-30240"/>
            <a:chExt cx="3419640" cy="2071800"/>
          </a:xfrm>
        </p:grpSpPr>
        <p:pic>
          <p:nvPicPr>
            <p:cNvPr id="197" name="Выноска-облако 5" descr=""/>
            <p:cNvPicPr/>
            <p:nvPr/>
          </p:nvPicPr>
          <p:blipFill>
            <a:blip r:embed="rId3"/>
            <a:stretch/>
          </p:blipFill>
          <p:spPr>
            <a:xfrm>
              <a:off x="-73080" y="-30240"/>
              <a:ext cx="3419640" cy="20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450720" y="252360"/>
              <a:ext cx="2140200" cy="10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199" name="Выноска-облако 6"/>
          <p:cNvGrpSpPr/>
          <p:nvPr/>
        </p:nvGrpSpPr>
        <p:grpSpPr>
          <a:xfrm>
            <a:off x="2481120" y="-30240"/>
            <a:ext cx="3426120" cy="2071800"/>
            <a:chOff x="2481120" y="-30240"/>
            <a:chExt cx="3426120" cy="2071800"/>
          </a:xfrm>
        </p:grpSpPr>
        <p:pic>
          <p:nvPicPr>
            <p:cNvPr id="200" name="Выноска-облако 6" descr=""/>
            <p:cNvPicPr/>
            <p:nvPr/>
          </p:nvPicPr>
          <p:blipFill>
            <a:blip r:embed="rId4"/>
            <a:stretch/>
          </p:blipFill>
          <p:spPr>
            <a:xfrm>
              <a:off x="2481120" y="-30240"/>
              <a:ext cx="3426120" cy="20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3006720" y="252360"/>
              <a:ext cx="2139840" cy="10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02" name="Выноска-облако 7"/>
          <p:cNvGrpSpPr/>
          <p:nvPr/>
        </p:nvGrpSpPr>
        <p:grpSpPr>
          <a:xfrm>
            <a:off x="-255600" y="1670040"/>
            <a:ext cx="3425760" cy="2073240"/>
            <a:chOff x="-255600" y="1670040"/>
            <a:chExt cx="3425760" cy="2073240"/>
          </a:xfrm>
        </p:grpSpPr>
        <p:pic>
          <p:nvPicPr>
            <p:cNvPr id="203" name="Выноска-облако 7" descr=""/>
            <p:cNvPicPr/>
            <p:nvPr/>
          </p:nvPicPr>
          <p:blipFill>
            <a:blip r:embed="rId5"/>
            <a:stretch/>
          </p:blipFill>
          <p:spPr>
            <a:xfrm>
              <a:off x="-255600" y="1670040"/>
              <a:ext cx="3425760" cy="20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271440" y="1954080"/>
              <a:ext cx="2139840" cy="10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05" name="Выноска-облако 8"/>
          <p:cNvGrpSpPr/>
          <p:nvPr/>
        </p:nvGrpSpPr>
        <p:grpSpPr>
          <a:xfrm>
            <a:off x="2627280" y="1163520"/>
            <a:ext cx="3419640" cy="2073240"/>
            <a:chOff x="2627280" y="1163520"/>
            <a:chExt cx="3419640" cy="2073240"/>
          </a:xfrm>
        </p:grpSpPr>
        <p:pic>
          <p:nvPicPr>
            <p:cNvPr id="206" name="Выноска-облако 8" descr=""/>
            <p:cNvPicPr/>
            <p:nvPr/>
          </p:nvPicPr>
          <p:blipFill>
            <a:blip r:embed="rId6"/>
            <a:stretch/>
          </p:blipFill>
          <p:spPr>
            <a:xfrm>
              <a:off x="2627280" y="1163520"/>
              <a:ext cx="3419640" cy="20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3151080" y="1449360"/>
              <a:ext cx="2140200" cy="10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08" name="Выноска-облако 9"/>
          <p:cNvGrpSpPr/>
          <p:nvPr/>
        </p:nvGrpSpPr>
        <p:grpSpPr>
          <a:xfrm>
            <a:off x="5505480" y="-30240"/>
            <a:ext cx="3425760" cy="2071800"/>
            <a:chOff x="5505480" y="-30240"/>
            <a:chExt cx="3425760" cy="2071800"/>
          </a:xfrm>
        </p:grpSpPr>
        <p:pic>
          <p:nvPicPr>
            <p:cNvPr id="209" name="Выноска-облако 9" descr=""/>
            <p:cNvPicPr/>
            <p:nvPr/>
          </p:nvPicPr>
          <p:blipFill>
            <a:blip r:embed="rId7"/>
            <a:stretch/>
          </p:blipFill>
          <p:spPr>
            <a:xfrm>
              <a:off x="5505480" y="-30240"/>
              <a:ext cx="3425760" cy="20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6031080" y="252360"/>
              <a:ext cx="2139840" cy="10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11" name="Выноска-облако 10"/>
          <p:cNvGrpSpPr/>
          <p:nvPr/>
        </p:nvGrpSpPr>
        <p:grpSpPr>
          <a:xfrm>
            <a:off x="103320" y="3255840"/>
            <a:ext cx="3425760" cy="2071800"/>
            <a:chOff x="103320" y="3255840"/>
            <a:chExt cx="3425760" cy="2071800"/>
          </a:xfrm>
        </p:grpSpPr>
        <p:pic>
          <p:nvPicPr>
            <p:cNvPr id="212" name="Выноска-облако 10" descr=""/>
            <p:cNvPicPr/>
            <p:nvPr/>
          </p:nvPicPr>
          <p:blipFill>
            <a:blip r:embed="rId8"/>
            <a:stretch/>
          </p:blipFill>
          <p:spPr>
            <a:xfrm>
              <a:off x="103320" y="3255840"/>
              <a:ext cx="3425760" cy="20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630360" y="3538440"/>
              <a:ext cx="2139840" cy="109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214" name="TextBox 11"/>
          <p:cNvSpPr/>
          <p:nvPr/>
        </p:nvSpPr>
        <p:spPr>
          <a:xfrm>
            <a:off x="539640" y="333360"/>
            <a:ext cx="223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Стрижова Галина Николаевна, стаж работы 30 лет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TextBox 12"/>
          <p:cNvSpPr/>
          <p:nvPr/>
        </p:nvSpPr>
        <p:spPr>
          <a:xfrm>
            <a:off x="3492360" y="333360"/>
            <a:ext cx="201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Козлова Наталия Евгеньевна, стаж работы 15 лет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TextBox 13"/>
          <p:cNvSpPr/>
          <p:nvPr/>
        </p:nvSpPr>
        <p:spPr>
          <a:xfrm>
            <a:off x="6084720" y="260280"/>
            <a:ext cx="24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Насиковская Екатерина Юрьевна, стаж работы 7лет, в школе 5лет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TextBox 14"/>
          <p:cNvSpPr/>
          <p:nvPr/>
        </p:nvSpPr>
        <p:spPr>
          <a:xfrm>
            <a:off x="3348000" y="1557360"/>
            <a:ext cx="201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Крысова Елена Анатольевна, стаж работы 16 лет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TextBox 15"/>
          <p:cNvSpPr/>
          <p:nvPr/>
        </p:nvSpPr>
        <p:spPr>
          <a:xfrm>
            <a:off x="179280" y="1916280"/>
            <a:ext cx="27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ылосова Марина Михайловна, стаж работы 24года, в школе 1год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19" name="Выноска-облако 16"/>
          <p:cNvGrpSpPr/>
          <p:nvPr/>
        </p:nvGrpSpPr>
        <p:grpSpPr>
          <a:xfrm>
            <a:off x="5724360" y="1557360"/>
            <a:ext cx="3419640" cy="2071800"/>
            <a:chOff x="5724360" y="1557360"/>
            <a:chExt cx="3419640" cy="2071800"/>
          </a:xfrm>
        </p:grpSpPr>
        <p:pic>
          <p:nvPicPr>
            <p:cNvPr id="220" name="Выноска-облако 16" descr=""/>
            <p:cNvPicPr/>
            <p:nvPr/>
          </p:nvPicPr>
          <p:blipFill>
            <a:blip r:embed="rId9"/>
            <a:stretch/>
          </p:blipFill>
          <p:spPr>
            <a:xfrm>
              <a:off x="5724360" y="1557360"/>
              <a:ext cx="3419640" cy="20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6246720" y="1838520"/>
              <a:ext cx="2139840" cy="10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222" name="TextBox 18"/>
          <p:cNvSpPr/>
          <p:nvPr/>
        </p:nvSpPr>
        <p:spPr>
          <a:xfrm>
            <a:off x="611280" y="3573360"/>
            <a:ext cx="21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ихарева Анна Александровна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-2четверт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TextBox 19"/>
          <p:cNvSpPr/>
          <p:nvPr/>
        </p:nvSpPr>
        <p:spPr>
          <a:xfrm>
            <a:off x="6443640" y="191628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Сенова Людмила Николаевна, общий стаж работы 47лет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24" name="Выноска-облако 20"/>
          <p:cNvGrpSpPr/>
          <p:nvPr/>
        </p:nvGrpSpPr>
        <p:grpSpPr>
          <a:xfrm>
            <a:off x="1620720" y="4694400"/>
            <a:ext cx="3421080" cy="2071440"/>
            <a:chOff x="1620720" y="4694400"/>
            <a:chExt cx="3421080" cy="2071440"/>
          </a:xfrm>
        </p:grpSpPr>
        <p:pic>
          <p:nvPicPr>
            <p:cNvPr id="225" name="Выноска-облако 20" descr=""/>
            <p:cNvPicPr/>
            <p:nvPr/>
          </p:nvPicPr>
          <p:blipFill>
            <a:blip r:embed="rId10"/>
            <a:stretch/>
          </p:blipFill>
          <p:spPr>
            <a:xfrm>
              <a:off x="1620720" y="4694400"/>
              <a:ext cx="3421080" cy="20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2143080" y="4978440"/>
              <a:ext cx="2139840" cy="10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227" name="TextBox 21"/>
          <p:cNvSpPr/>
          <p:nvPr/>
        </p:nvSpPr>
        <p:spPr>
          <a:xfrm>
            <a:off x="2268360" y="5084640"/>
            <a:ext cx="22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Макарова Мария Александровна, стаж работы 1год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28" name="Выноска-облако 22"/>
          <p:cNvGrpSpPr/>
          <p:nvPr/>
        </p:nvGrpSpPr>
        <p:grpSpPr>
          <a:xfrm>
            <a:off x="3273480" y="2895480"/>
            <a:ext cx="3425760" cy="2073240"/>
            <a:chOff x="3273480" y="2895480"/>
            <a:chExt cx="3425760" cy="2073240"/>
          </a:xfrm>
        </p:grpSpPr>
        <p:pic>
          <p:nvPicPr>
            <p:cNvPr id="229" name="Выноска-облако 22" descr=""/>
            <p:cNvPicPr/>
            <p:nvPr/>
          </p:nvPicPr>
          <p:blipFill>
            <a:blip r:embed="rId11"/>
            <a:stretch/>
          </p:blipFill>
          <p:spPr>
            <a:xfrm>
              <a:off x="3273480" y="2895480"/>
              <a:ext cx="3425760" cy="20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3798720" y="3178080"/>
              <a:ext cx="2140200" cy="10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231" name="TextBox 24"/>
          <p:cNvSpPr/>
          <p:nvPr/>
        </p:nvSpPr>
        <p:spPr>
          <a:xfrm>
            <a:off x="3635280" y="3357720"/>
            <a:ext cx="266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Прохорова Елена Сергеевна, 1-2четверт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32" name="Выноска-облако 25"/>
          <p:cNvGrpSpPr/>
          <p:nvPr/>
        </p:nvGrpSpPr>
        <p:grpSpPr>
          <a:xfrm>
            <a:off x="5797440" y="3468600"/>
            <a:ext cx="3419640" cy="2073240"/>
            <a:chOff x="5797440" y="3468600"/>
            <a:chExt cx="3419640" cy="2073240"/>
          </a:xfrm>
        </p:grpSpPr>
        <p:pic>
          <p:nvPicPr>
            <p:cNvPr id="233" name="Выноска-облако 25" descr=""/>
            <p:cNvPicPr/>
            <p:nvPr/>
          </p:nvPicPr>
          <p:blipFill>
            <a:blip r:embed="rId12"/>
            <a:stretch/>
          </p:blipFill>
          <p:spPr>
            <a:xfrm>
              <a:off x="5797440" y="3468600"/>
              <a:ext cx="3419640" cy="20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6319800" y="3754440"/>
              <a:ext cx="2139840" cy="10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235" name="TextBox 26"/>
          <p:cNvSpPr/>
          <p:nvPr/>
        </p:nvSpPr>
        <p:spPr>
          <a:xfrm>
            <a:off x="6300720" y="378936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Аллен Оксана Григорьевна, стаж работы 2месяца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TextBox 27"/>
          <p:cNvSpPr/>
          <p:nvPr/>
        </p:nvSpPr>
        <p:spPr>
          <a:xfrm>
            <a:off x="4175280" y="5373720"/>
            <a:ext cx="496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УЧЕБНЫЙ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ГОД 2010-2011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9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0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5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3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10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2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7" name=""/>
          <p:cNvGraphicFramePr/>
          <p:nvPr/>
        </p:nvGraphicFramePr>
        <p:xfrm>
          <a:off x="216000" y="88920"/>
          <a:ext cx="8928000" cy="6769080"/>
        </p:xfrm>
        <a:graphic>
          <a:graphicData uri="http://schemas.openxmlformats.org/drawingml/2006/table">
            <a:tbl>
              <a:tblPr/>
              <a:tblGrid>
                <a:gridCol w="1722240"/>
                <a:gridCol w="986040"/>
                <a:gridCol w="850680"/>
                <a:gridCol w="1041480"/>
                <a:gridCol w="1443240"/>
                <a:gridCol w="1442880"/>
                <a:gridCol w="144144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2009-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Constantia"/>
                        </a:rPr>
                        <a:t>2010-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Всего клас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Всег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Уч-ся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На  4и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Успева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м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% качества обуче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% выполнения программ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Сред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бал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трижова Г.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2/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0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рысов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Е.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8/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,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озлова Н.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17/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,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асиковская Е.Ю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ылосова  М.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3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6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,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акарова М.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1/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,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5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енова Л.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 +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адом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2/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ллен О.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тог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99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58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7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9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3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3,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ransition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Рисунок 4" descr="www.cottoc.ru252.gif"/>
          <p:cNvPicPr/>
          <p:nvPr/>
        </p:nvPicPr>
        <p:blipFill>
          <a:blip r:embed="rId2"/>
          <a:stretch/>
        </p:blipFill>
        <p:spPr>
          <a:xfrm>
            <a:off x="3203640" y="4437000"/>
            <a:ext cx="2016000" cy="201636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Переводные экзамен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213840" y="1484280"/>
            <a:ext cx="875052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8 класс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                                     Экзамен- «        Итог- «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Качество %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10 класс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«а»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Койкова Полина                Экзамен «4»    Итог «5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«б»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Мерзлякова Маша            Экзамен «4»    Итог «5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Качество 100%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Задачи на учебный год были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5000"/>
            <a:ext cx="8229600" cy="25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45520" indent="-245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Продолжить работу по повышению качества знаний учащихся и учебной мотивации, развивать их творческий потенциал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3" name="Рисунок 4" descr="www.cottoc.ru052.gif"/>
          <p:cNvPicPr/>
          <p:nvPr/>
        </p:nvPicPr>
        <p:blipFill>
          <a:blip r:embed="rId2"/>
          <a:stretch/>
        </p:blipFill>
        <p:spPr>
          <a:xfrm>
            <a:off x="3240000" y="4221000"/>
            <a:ext cx="2664000" cy="21020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Школьный этап олимпиад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08000" y="1052640"/>
          <a:ext cx="8800920" cy="5697360"/>
        </p:xfrm>
        <a:graphic>
          <a:graphicData uri="http://schemas.openxmlformats.org/drawingml/2006/table">
            <a:tbl>
              <a:tblPr/>
              <a:tblGrid>
                <a:gridCol w="1741320"/>
                <a:gridCol w="1741680"/>
                <a:gridCol w="1743120"/>
                <a:gridCol w="2087280"/>
                <a:gridCol w="148752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Кол-в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участни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Победи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Призё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Учи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62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1 челов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 «а»-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 «б»-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хмад Ма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 «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ерминова Эля  5 «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стомин Кирилл 5 «б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опова Ирина 5 «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орепанова Таня 5 «б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галаков Серёжа 5 «б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озлова Н.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1 челов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 «а»-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 «б»-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 «в»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узнецова Анн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 «б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5 челов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рысова Е.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1 челов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Злобин Ю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 «б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ешнина Анже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азакова 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Зонова 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асиковская Е.Ю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1 челов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----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---------------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 челове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 «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гапитова Ульян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--------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озлова Н.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-11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 челов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 «а»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 «б»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1 «б»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ечаев Са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 «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вечкин Андр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1 «б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озлова Н.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рысова Е.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p:transition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Calibri"/>
              </a:rPr>
              <a:t>«Британский бульдог»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08000" y="2924280"/>
          <a:ext cx="8928000" cy="2386080"/>
        </p:xfrm>
        <a:graphic>
          <a:graphicData uri="http://schemas.openxmlformats.org/drawingml/2006/table">
            <a:tbl>
              <a:tblPr/>
              <a:tblGrid>
                <a:gridCol w="863640"/>
                <a:gridCol w="922320"/>
                <a:gridCol w="892080"/>
                <a:gridCol w="893880"/>
                <a:gridCol w="1108080"/>
                <a:gridCol w="792000"/>
                <a:gridCol w="863640"/>
                <a:gridCol w="865080"/>
                <a:gridCol w="1079640"/>
                <a:gridCol w="64764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3 к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5 к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6 к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7 к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8 к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9 к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10 к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11 к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 школ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 мест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ристиан Эдуард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Шуткина Марин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Ярыгина Альбин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ислицына Анастас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Белик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арин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изил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л-д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Балезин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ндр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озинов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олин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Уч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рыс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Е.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ылосо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.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асиковская Е.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рысова Е.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ransition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Основы проектирован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58560" y="1052640"/>
            <a:ext cx="8785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030a0"/>
                </a:solidFill>
                <a:latin typeface="Constantia"/>
              </a:rPr>
              <a:t>10 «а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Фищева Наталья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овязина Ксения     «Замки Англии»                        Оценка «5»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Лобастов Данил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пов Иван               «Особенности Англичан»      Оценка «5»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030a0"/>
                </a:solidFill>
                <a:latin typeface="Constantia"/>
              </a:rPr>
              <a:t>10 «б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Мерзлякова Мария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«Исторические памятники Англии»                         Оценка «5»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030a0"/>
                </a:solidFill>
                <a:latin typeface="Constantia"/>
              </a:rPr>
              <a:t>11 «а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етелин Владимир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«Стереотипы о южных штатах США »                      Оценка «4»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Тиунова Виктория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«История немого кино в США»                                  Оценка «4»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onstantia"/>
              </a:rPr>
              <a:t>Учителя :  Крысова Е.А., Козлова Н.Е.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ачество  100%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Задачи на учебный год были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68360" y="148392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одолжить работу по совершенствованию педагогического мастерства учителей иностранного язык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дтвердила категорию Козлова Н.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Учителя кафедры освоили новые УМК под редакцией М.З.Биболетовой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2-10классы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сваивали современные технологии обучения и воспитания, метод проекта, ИКТ, межпредметную интеграцию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2" name="Рисунок 3" descr="www.cottoc.ru093.gif"/>
          <p:cNvPicPr/>
          <p:nvPr/>
        </p:nvPicPr>
        <p:blipFill>
          <a:blip r:embed="rId2"/>
          <a:stretch/>
        </p:blipFill>
        <p:spPr>
          <a:xfrm>
            <a:off x="3708360" y="5013360"/>
            <a:ext cx="1727280" cy="14400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8" dur="2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3" dur="2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8" dur="2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1" dur="20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6" dur="20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87280" y="189000"/>
            <a:ext cx="88567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0000"/>
                </a:solidFill>
                <a:latin typeface="Calibri"/>
              </a:rPr>
              <a:t>Задачи на новый учебный год :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907920"/>
            <a:ext cx="878508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52520" indent="-45252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11ff"/>
                </a:solidFill>
                <a:latin typeface="Constantia"/>
              </a:rPr>
              <a:t>Стабилизировать педсостав кафедры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утём оказания помощи и поддержки молодым специалистам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5dfd0"/>
                </a:solidFill>
                <a:latin typeface="Constantia"/>
              </a:rPr>
              <a:t>2.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должать работу</a:t>
            </a:r>
            <a:r>
              <a:rPr b="0" lang="ru-RU" sz="2000" spc="-1" strike="noStrike">
                <a:solidFill>
                  <a:srgbClr val="85dfd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 самосовершенствованию и повышению квалификаци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4f5fa"/>
                </a:solidFill>
                <a:latin typeface="Constantia"/>
              </a:rPr>
              <a:t>3.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Завершить и совершенствовать освоение УМК М.З. Биболетово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2-11 классы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5dfd0"/>
                </a:solidFill>
                <a:latin typeface="Constantia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.    Развивать и совершенствовать использование педтехнологий на уроках для повышения качества обучения и интереса учащихся к предмету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ef0f7"/>
                </a:solidFill>
                <a:latin typeface="Constantia"/>
              </a:rPr>
              <a:t>5.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одолжать развивать творческий потенциал учащихся путём участия в олимпиадах, конкурсах и других внеклассных мероприятиях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5" name="Рисунок 4" descr="www.cottoc.ru218.gif"/>
          <p:cNvPicPr/>
          <p:nvPr/>
        </p:nvPicPr>
        <p:blipFill>
          <a:blip r:embed="rId2"/>
          <a:stretch/>
        </p:blipFill>
        <p:spPr>
          <a:xfrm>
            <a:off x="3419640" y="462600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3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8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3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6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1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6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0T15:29:02Z</dcterms:created>
  <dc:creator>EHE</dc:creator>
  <dc:description/>
  <dc:language>en-US</dc:language>
  <cp:lastModifiedBy>User</cp:lastModifiedBy>
  <dcterms:modified xsi:type="dcterms:W3CDTF">2011-07-18T08:13:51Z</dcterms:modified>
  <cp:revision>209</cp:revision>
  <dc:subject/>
  <dc:title>Слайд 1</dc:title>
</cp:coreProperties>
</file>