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137-7D82-49D6-B68E-12FE6828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455-EC6A-4035-A603-681FBD06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934-BF61-4BA6-8DB5-AD68917F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9F9-96A7-4FE1-A26F-14CF4E51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EAA4-4C8E-45C9-A761-5FFB2A91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AB9-B1DC-4D1A-8D9E-1E7C3205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C512-1261-437B-8682-70DD7A63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2B2E-BE17-402C-B8A3-90DDED0D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A61E-19B2-4CED-AC37-BFE3C51D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DFDD-1678-42E0-9114-B1D4AA6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2220-3F05-4145-8A50-9548D20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2C7-1E56-440A-8509-5444C27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59B2-3B8F-4E57-993C-ACE562F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18F7-1482-4396-83C0-0B8BECA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DF38-9709-4CAB-9F0F-4EEAB558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61B-AAD1-4B19-A53E-35DF0D56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88CF-3B86-41EF-BA41-A0448493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79B8-C604-47AA-9F07-A5AF2C79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2C59-C15E-468C-BC79-6FF3760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3F12-001F-41DB-B4C4-9E1C6D5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3FC2-3ABC-46F8-B28D-78A1E59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1DD8-9849-420B-8C71-2B0F4D3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640-B6A4-451C-BE01-14B1B66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68A0-723F-42FC-9400-E061A6D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36CF-567F-4050-88E2-CA07F69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B183-BE95-45E4-8055-AB2F696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7289-DCD6-4BC7-8EA3-14C9AEF6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24E8-3927-4C30-A4CA-3F48C66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ED0E-C3EC-439E-8ACB-AB02E27B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5FD4-448C-43B1-AF94-04ECC747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3030-EB32-44A2-B769-782D48E1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A3D9-C312-4303-84D9-43C76CE5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34D2-F126-4E77-9E38-5059B35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D0C-1EC4-4DBC-8B22-C0A6F156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C5BE-6285-413C-A33B-388B2B66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9E8E-4505-409C-9510-4BD2986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348B1-F73C-4E22-A11E-25F106FF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0194-7D6D-49BC-9606-C18FE7C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8C01-753F-4573-8BA5-8634BDB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29D6-975C-4FB2-8F41-F415835A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4456-C6C7-4E44-AE73-2C67058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2AA4-D510-49AD-8778-F6036D7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C486-BC8D-443D-98C5-EF130542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F8A-1D08-4546-A830-D15969A4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24B-42FA-484D-B765-4B6C14C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E54-C501-49A5-8692-414B2F3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9B5-7DD1-41A1-9604-9B3E1AA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167-091D-4D72-96C1-34603884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348-1FD2-4D88-BCD7-FA0EB6CA28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784-A34E-42ED-8D34-F1473E8FED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9D2D-DB11-4644-93A6-647039444F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192-2A46-4A6E-B55A-393569F702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untitled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Выноска-облако 5"/>
          <p:cNvGrpSpPr/>
          <p:nvPr/>
        </p:nvGrpSpPr>
        <p:grpSpPr>
          <a:xfrm>
            <a:off x="-73080" y="-30240"/>
            <a:ext cx="3419640" cy="2071800"/>
            <a:chOff x="-73080" y="-30240"/>
            <a:chExt cx="3419640" cy="2071800"/>
          </a:xfrm>
        </p:grpSpPr>
        <p:pic>
          <p:nvPicPr>
            <p:cNvPr id="197" name="Выноска-облако 5" descr=""/>
            <p:cNvPicPr/>
            <p:nvPr/>
          </p:nvPicPr>
          <p:blipFill>
            <a:blip r:embed="rId3"/>
            <a:stretch/>
          </p:blipFill>
          <p:spPr>
            <a:xfrm>
              <a:off x="-73080" y="-30240"/>
              <a:ext cx="3419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0720" y="25236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99" name="Выноска-облако 6"/>
          <p:cNvGrpSpPr/>
          <p:nvPr/>
        </p:nvGrpSpPr>
        <p:grpSpPr>
          <a:xfrm>
            <a:off x="2481120" y="-30240"/>
            <a:ext cx="3426120" cy="2071800"/>
            <a:chOff x="2481120" y="-30240"/>
            <a:chExt cx="3426120" cy="2071800"/>
          </a:xfrm>
        </p:grpSpPr>
        <p:pic>
          <p:nvPicPr>
            <p:cNvPr id="200" name="Выноска-облако 6" descr=""/>
            <p:cNvPicPr/>
            <p:nvPr/>
          </p:nvPicPr>
          <p:blipFill>
            <a:blip r:embed="rId4"/>
            <a:stretch/>
          </p:blipFill>
          <p:spPr>
            <a:xfrm>
              <a:off x="2481120" y="-30240"/>
              <a:ext cx="34261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006720" y="25236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2" name="Выноска-облако 7"/>
          <p:cNvGrpSpPr/>
          <p:nvPr/>
        </p:nvGrpSpPr>
        <p:grpSpPr>
          <a:xfrm>
            <a:off x="-255600" y="1670040"/>
            <a:ext cx="3425760" cy="2073240"/>
            <a:chOff x="-255600" y="1670040"/>
            <a:chExt cx="3425760" cy="2073240"/>
          </a:xfrm>
        </p:grpSpPr>
        <p:pic>
          <p:nvPicPr>
            <p:cNvPr id="203" name="Выноска-облако 7" descr=""/>
            <p:cNvPicPr/>
            <p:nvPr/>
          </p:nvPicPr>
          <p:blipFill>
            <a:blip r:embed="rId5"/>
            <a:stretch/>
          </p:blipFill>
          <p:spPr>
            <a:xfrm>
              <a:off x="-255600" y="1670040"/>
              <a:ext cx="34257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1440" y="195408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5" name="Выноска-облако 8"/>
          <p:cNvGrpSpPr/>
          <p:nvPr/>
        </p:nvGrpSpPr>
        <p:grpSpPr>
          <a:xfrm>
            <a:off x="2627280" y="1163520"/>
            <a:ext cx="3419640" cy="2073240"/>
            <a:chOff x="2627280" y="1163520"/>
            <a:chExt cx="3419640" cy="2073240"/>
          </a:xfrm>
        </p:grpSpPr>
        <p:pic>
          <p:nvPicPr>
            <p:cNvPr id="206" name="Выноска-облако 8" descr=""/>
            <p:cNvPicPr/>
            <p:nvPr/>
          </p:nvPicPr>
          <p:blipFill>
            <a:blip r:embed="rId6"/>
            <a:stretch/>
          </p:blipFill>
          <p:spPr>
            <a:xfrm>
              <a:off x="2627280" y="1163520"/>
              <a:ext cx="341964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151080" y="144936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8" name="Выноска-облако 9"/>
          <p:cNvGrpSpPr/>
          <p:nvPr/>
        </p:nvGrpSpPr>
        <p:grpSpPr>
          <a:xfrm>
            <a:off x="5505480" y="-30240"/>
            <a:ext cx="3425760" cy="2071800"/>
            <a:chOff x="5505480" y="-30240"/>
            <a:chExt cx="3425760" cy="2071800"/>
          </a:xfrm>
        </p:grpSpPr>
        <p:pic>
          <p:nvPicPr>
            <p:cNvPr id="209" name="Выноска-облако 9" descr=""/>
            <p:cNvPicPr/>
            <p:nvPr/>
          </p:nvPicPr>
          <p:blipFill>
            <a:blip r:embed="rId7"/>
            <a:stretch/>
          </p:blipFill>
          <p:spPr>
            <a:xfrm>
              <a:off x="5505480" y="-30240"/>
              <a:ext cx="342576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31080" y="25236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1" name="Выноска-облако 10"/>
          <p:cNvGrpSpPr/>
          <p:nvPr/>
        </p:nvGrpSpPr>
        <p:grpSpPr>
          <a:xfrm>
            <a:off x="103320" y="3255840"/>
            <a:ext cx="3425760" cy="2071800"/>
            <a:chOff x="103320" y="3255840"/>
            <a:chExt cx="3425760" cy="2071800"/>
          </a:xfrm>
        </p:grpSpPr>
        <p:pic>
          <p:nvPicPr>
            <p:cNvPr id="212" name="Выноска-облако 10" descr=""/>
            <p:cNvPicPr/>
            <p:nvPr/>
          </p:nvPicPr>
          <p:blipFill>
            <a:blip r:embed="rId8"/>
            <a:stretch/>
          </p:blipFill>
          <p:spPr>
            <a:xfrm>
              <a:off x="103320" y="3255840"/>
              <a:ext cx="342576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30360" y="3538440"/>
              <a:ext cx="2139840" cy="10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4" name="TextBox 11"/>
          <p:cNvSpPr/>
          <p:nvPr/>
        </p:nvSpPr>
        <p:spPr>
          <a:xfrm>
            <a:off x="539640" y="333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трижова Галина Николаевна, стаж работы 30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3492360" y="33336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озлова Наталия Евгеньевна, стаж работы 15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6084720" y="26028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Насиковская Екатерина Юрьевна, стаж работы 7лет, в школе 5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3348000" y="1557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Крысова Елена Анатольевна, стаж работы 16 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179280" y="1916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ылосова Марина Михайловна, стаж работы 24года, в школе 1год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9" name="Выноска-облако 16"/>
          <p:cNvGrpSpPr/>
          <p:nvPr/>
        </p:nvGrpSpPr>
        <p:grpSpPr>
          <a:xfrm>
            <a:off x="5724360" y="1557360"/>
            <a:ext cx="3419640" cy="2071800"/>
            <a:chOff x="5724360" y="1557360"/>
            <a:chExt cx="3419640" cy="2071800"/>
          </a:xfrm>
        </p:grpSpPr>
        <p:pic>
          <p:nvPicPr>
            <p:cNvPr id="220" name="Выноска-облако 16" descr=""/>
            <p:cNvPicPr/>
            <p:nvPr/>
          </p:nvPicPr>
          <p:blipFill>
            <a:blip r:embed="rId9"/>
            <a:stretch/>
          </p:blipFill>
          <p:spPr>
            <a:xfrm>
              <a:off x="5724360" y="1557360"/>
              <a:ext cx="3419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246720" y="183852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2" name="TextBox 18"/>
          <p:cNvSpPr/>
          <p:nvPr/>
        </p:nvSpPr>
        <p:spPr>
          <a:xfrm>
            <a:off x="611280" y="3573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харева Анна Александровн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-2четвер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9"/>
          <p:cNvSpPr/>
          <p:nvPr/>
        </p:nvSpPr>
        <p:spPr>
          <a:xfrm>
            <a:off x="6443640" y="1916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Сенова Людмила Николаевна, общий стаж работы 47л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Выноска-облако 20"/>
          <p:cNvGrpSpPr/>
          <p:nvPr/>
        </p:nvGrpSpPr>
        <p:grpSpPr>
          <a:xfrm>
            <a:off x="1620720" y="4694400"/>
            <a:ext cx="3421080" cy="2071440"/>
            <a:chOff x="1620720" y="4694400"/>
            <a:chExt cx="3421080" cy="2071440"/>
          </a:xfrm>
        </p:grpSpPr>
        <p:pic>
          <p:nvPicPr>
            <p:cNvPr id="225" name="Выноска-облако 20" descr=""/>
            <p:cNvPicPr/>
            <p:nvPr/>
          </p:nvPicPr>
          <p:blipFill>
            <a:blip r:embed="rId10"/>
            <a:stretch/>
          </p:blipFill>
          <p:spPr>
            <a:xfrm>
              <a:off x="1620720" y="4694400"/>
              <a:ext cx="342108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143080" y="497844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7" name="TextBox 21"/>
          <p:cNvSpPr/>
          <p:nvPr/>
        </p:nvSpPr>
        <p:spPr>
          <a:xfrm>
            <a:off x="2268360" y="5084640"/>
            <a:ext cx="22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Макарова Мария Александровна, стаж работы 1го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8" name="Выноска-облако 22"/>
          <p:cNvGrpSpPr/>
          <p:nvPr/>
        </p:nvGrpSpPr>
        <p:grpSpPr>
          <a:xfrm>
            <a:off x="3273480" y="2895480"/>
            <a:ext cx="3425760" cy="2073240"/>
            <a:chOff x="3273480" y="2895480"/>
            <a:chExt cx="3425760" cy="2073240"/>
          </a:xfrm>
        </p:grpSpPr>
        <p:pic>
          <p:nvPicPr>
            <p:cNvPr id="229" name="Выноска-облако 22" descr=""/>
            <p:cNvPicPr/>
            <p:nvPr/>
          </p:nvPicPr>
          <p:blipFill>
            <a:blip r:embed="rId11"/>
            <a:stretch/>
          </p:blipFill>
          <p:spPr>
            <a:xfrm>
              <a:off x="3273480" y="2895480"/>
              <a:ext cx="34257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798720" y="3178080"/>
              <a:ext cx="2140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1" name="TextBox 24"/>
          <p:cNvSpPr/>
          <p:nvPr/>
        </p:nvSpPr>
        <p:spPr>
          <a:xfrm>
            <a:off x="3635280" y="33577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Прохорова Елена Сергеевна, 1-2четвер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2" name="Выноска-облако 25"/>
          <p:cNvGrpSpPr/>
          <p:nvPr/>
        </p:nvGrpSpPr>
        <p:grpSpPr>
          <a:xfrm>
            <a:off x="5797440" y="3468600"/>
            <a:ext cx="3419640" cy="2073240"/>
            <a:chOff x="5797440" y="3468600"/>
            <a:chExt cx="3419640" cy="2073240"/>
          </a:xfrm>
        </p:grpSpPr>
        <p:pic>
          <p:nvPicPr>
            <p:cNvPr id="233" name="Выноска-облако 25" descr=""/>
            <p:cNvPicPr/>
            <p:nvPr/>
          </p:nvPicPr>
          <p:blipFill>
            <a:blip r:embed="rId12"/>
            <a:stretch/>
          </p:blipFill>
          <p:spPr>
            <a:xfrm>
              <a:off x="5797440" y="3468600"/>
              <a:ext cx="341964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319800" y="3754440"/>
              <a:ext cx="2139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5" name="TextBox 26"/>
          <p:cNvSpPr/>
          <p:nvPr/>
        </p:nvSpPr>
        <p:spPr>
          <a:xfrm>
            <a:off x="6300720" y="378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Аллен Оксана Григорьевна, стаж работы 2месяца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4175280" y="537372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УЧЕБНЫЙ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ГОД 2010-201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16000" y="88920"/>
          <a:ext cx="8928000" cy="6769080"/>
        </p:xfrm>
        <a:graphic>
          <a:graphicData uri="http://schemas.openxmlformats.org/drawingml/2006/table">
            <a:tbl>
              <a:tblPr/>
              <a:tblGrid>
                <a:gridCol w="1722240"/>
                <a:gridCol w="986040"/>
                <a:gridCol w="850680"/>
                <a:gridCol w="1041480"/>
                <a:gridCol w="1443240"/>
                <a:gridCol w="144288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-ся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  4и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спева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 качества обуч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% выполнения програм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ижова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8/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7/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ылосова  М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3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карова М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/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нова Л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+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дом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лен О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9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7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3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4" descr="www.cottoc.ru252.gif"/>
          <p:cNvPicPr/>
          <p:nvPr/>
        </p:nvPicPr>
        <p:blipFill>
          <a:blip r:embed="rId2"/>
          <a:stretch/>
        </p:blipFill>
        <p:spPr>
          <a:xfrm>
            <a:off x="320364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Переводные экзаме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1484280"/>
            <a:ext cx="8750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8 класс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                                     Экзамен- «        Итог- 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чество 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10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«а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йкова Полина                Экзамен «4»    Итог «5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«б»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рзлякова Маша            Экзамен «4»    Итог «5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чество 10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Задачи на учебный год бы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50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Продолжить работу по повышению качества знаний учащихся и учебной мотивации, развивать их творческий потенциа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4" descr="www.cottoc.ru052.gif"/>
          <p:cNvPicPr/>
          <p:nvPr/>
        </p:nvPicPr>
        <p:blipFill>
          <a:blip r:embed="rId2"/>
          <a:stretch/>
        </p:blipFill>
        <p:spPr>
          <a:xfrm>
            <a:off x="3240000" y="4221000"/>
            <a:ext cx="2664000" cy="2102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Школьный этап олимпиа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8000" y="1052640"/>
          <a:ext cx="8800920" cy="5697360"/>
        </p:xfrm>
        <a:graphic>
          <a:graphicData uri="http://schemas.openxmlformats.org/drawingml/2006/table">
            <a:tbl>
              <a:tblPr/>
              <a:tblGrid>
                <a:gridCol w="1741320"/>
                <a:gridCol w="1741680"/>
                <a:gridCol w="1743120"/>
                <a:gridCol w="2087280"/>
                <a:gridCol w="148752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бе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изё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а»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б»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хмад М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минова Эля  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стомин Кирилл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пова Ирина 5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репанова Таня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алаков Серёжа 5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а»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б»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в»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знецова А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лобин Ю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шнина 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зак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оно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гапитова Улья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-------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-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а»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б»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«б»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чаев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«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ечкин Анд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«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«Британский бульдог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2924280"/>
          <a:ext cx="8928000" cy="2386080"/>
        </p:xfrm>
        <a:graphic>
          <a:graphicData uri="http://schemas.openxmlformats.org/drawingml/2006/table">
            <a:tbl>
              <a:tblPr/>
              <a:tblGrid>
                <a:gridCol w="863640"/>
                <a:gridCol w="922320"/>
                <a:gridCol w="892080"/>
                <a:gridCol w="893880"/>
                <a:gridCol w="1108080"/>
                <a:gridCol w="792000"/>
                <a:gridCol w="863640"/>
                <a:gridCol w="865080"/>
                <a:gridCol w="1079640"/>
                <a:gridCol w="647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5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7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8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9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0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1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школ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истиан Эдуард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уткина Мар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рыгина Альб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слицына Анаста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и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р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зи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л-д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алези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др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зино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и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ылос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иковская Е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ысова 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Основы проектир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560" y="1052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0 «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ищева Наталь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вязина Ксения     «Замки Англии»                        Оценка «5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обастов Данил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пов Иван               «Особенности Англичан»      Оценка «5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0 «б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рзлякова Мари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торические памятники Англии»                         Оценка «5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onstantia"/>
              </a:rPr>
              <a:t>11 «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телин Владимир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тереотипы о южных штатах США »                      Оценка «4»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иунова Виктор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История немого кино в США»                                  Оценка «4»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nstantia"/>
              </a:rPr>
              <a:t>Учителя :  Крысова Е.А., Козлова Н.Е.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чество  100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Задачи на учебный год был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олжить работу по совершенствованию педагогического мастерства учителей иностранного язы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твердила категорию Козлова Н.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я кафедры освоили новые УМК под редакцией М.З.Биболетовой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-10клас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ваивали современные технологии обучения и воспитания, метод проекта, ИКТ, межпредметную интеграци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3" descr="www.cottoc.ru093.gif"/>
          <p:cNvPicPr/>
          <p:nvPr/>
        </p:nvPicPr>
        <p:blipFill>
          <a:blip r:embed="rId2"/>
          <a:stretch/>
        </p:blipFill>
        <p:spPr>
          <a:xfrm>
            <a:off x="3708360" y="5013360"/>
            <a:ext cx="172728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7280" y="18900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Calibri"/>
              </a:rPr>
              <a:t>Задачи на новый учебный год 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07920"/>
            <a:ext cx="8785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52520" indent="-4525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11ff"/>
                </a:solidFill>
                <a:latin typeface="Constantia"/>
              </a:rPr>
              <a:t>Стабилизировать педсостав кафедры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утём оказания помощи и поддержки молодым специалист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5dfd0"/>
                </a:solidFill>
                <a:latin typeface="Constantia"/>
              </a:rPr>
              <a:t>2.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олжать работу</a:t>
            </a:r>
            <a:r>
              <a:rPr b="0" lang="ru-RU" sz="2000" spc="-1" strike="noStrike">
                <a:solidFill>
                  <a:srgbClr val="85dfd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самосовершенствованию и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4f5fa"/>
                </a:solidFill>
                <a:latin typeface="Constantia"/>
              </a:rPr>
              <a:t>3.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вершить и совершенствовать освоение УМК М.З. Биболето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2-11 клас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dfd0"/>
                </a:solidFill>
                <a:latin typeface="Constanti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   Развивать и совершенствовать использование педтехнологий на уроках для повышения качества обучения и интереса учащихся к предмет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ef0f7"/>
                </a:solidFill>
                <a:latin typeface="Constantia"/>
              </a:rPr>
              <a:t>5.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должать развивать творческий потенциал учащихся путём участия в олимпиадах, конкурсах и других внеклассных мероприят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Рисунок 4" descr="www.cottoc.ru218.gif"/>
          <p:cNvPicPr/>
          <p:nvPr/>
        </p:nvPicPr>
        <p:blipFill>
          <a:blip r:embed="rId2"/>
          <a:stretch/>
        </p:blipFill>
        <p:spPr>
          <a:xfrm>
            <a:off x="341964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5:29:02Z</dcterms:created>
  <dc:creator>EHE</dc:creator>
  <dc:description/>
  <dc:language>en-US</dc:language>
  <cp:lastModifiedBy>User</cp:lastModifiedBy>
  <dcterms:modified xsi:type="dcterms:W3CDTF">2011-07-18T08:13:51Z</dcterms:modified>
  <cp:revision>209</cp:revision>
  <dc:subject/>
  <dc:title>Слайд 1</dc:title>
</cp:coreProperties>
</file>