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3.gif" ContentType="image/gif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41.jpeg" ContentType="image/jpeg"/>
  <Override PartName="/ppt/media/image14.jpeg" ContentType="image/jpeg"/>
  <Override PartName="/ppt/media/image23.jpeg" ContentType="image/jpeg"/>
  <Override PartName="/ppt/media/image5.gif" ContentType="image/gif"/>
  <Override PartName="/ppt/media/image64.jpeg" ContentType="image/jpeg"/>
  <Override PartName="/ppt/media/image38.jpeg" ContentType="image/jpeg"/>
  <Override PartName="/ppt/media/image33.jpeg" ContentType="image/jpeg"/>
  <Override PartName="/ppt/media/image22.jpeg" ContentType="image/jpeg"/>
  <Override PartName="/ppt/media/image1.gif" ContentType="image/gif"/>
  <Override PartName="/ppt/media/image11.jpeg" ContentType="image/jpeg"/>
  <Override PartName="/ppt/media/image28.jpeg" ContentType="image/jpeg"/>
  <Override PartName="/ppt/media/image51.jpeg" ContentType="image/jpeg"/>
  <Override PartName="/ppt/media/image15.jpeg" ContentType="image/jpeg"/>
  <Override PartName="/ppt/media/image4.gif" ContentType="image/gif"/>
  <Override PartName="/ppt/media/image62.jpeg" ContentType="image/jpeg"/>
  <Override PartName="/ppt/media/image18.jpeg" ContentType="image/jpeg"/>
  <Override PartName="/ppt/media/image65.jpeg" ContentType="image/jpeg"/>
  <Override PartName="/ppt/media/image8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7.jpeg" ContentType="image/jpeg"/>
  <Override PartName="/ppt/media/image61.jpeg" ContentType="image/jpeg"/>
  <Override PartName="/ppt/media/image50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25.jpeg" ContentType="image/jpeg"/>
  <Override PartName="/ppt/media/image24.jpeg" ContentType="image/jpeg"/>
  <Override PartName="/ppt/media/image63.jpeg" ContentType="image/jpeg"/>
  <Override PartName="/ppt/media/image19.jpeg" ContentType="image/jpeg"/>
  <Override PartName="/ppt/media/image39.jpeg" ContentType="image/jpeg"/>
  <Override PartName="/ppt/media/image2.gif" ContentType="image/gif"/>
  <Override PartName="/ppt/media/image26.jpeg" ContentType="image/jpeg"/>
  <Override PartName="/ppt/media/image7.gif" ContentType="image/gif"/>
  <Override PartName="/ppt/media/image52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549-DC54-458B-90EB-DD386F8D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77D-AD73-47ED-B16E-9567DB54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2EB-8E9F-4C7B-A049-78877B83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8CD8-FDAF-4AAE-B109-74C472DB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3E94-AFAB-4360-AC93-DF856932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9AD2-251B-484A-8723-9A9D0E2C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5577-5A79-41D4-91B2-67A5712F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32C4-5878-4591-B45C-BE4AE910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EB58-C902-40C8-81FF-E3B5FBB1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64D7-3362-42B0-8369-29A00B95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31A7-18E2-4FC9-903F-C8148CE6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0BD-FEF2-4B84-B8AC-51594778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296E-E33A-4E6C-BFB9-475E91EB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A64A-98E4-4531-96AD-1CB91C09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7469-A377-48C5-9FBF-A54BF2F4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7C48-5A3E-4C65-A33E-4ACBB00C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AB93-1F65-4658-89F2-F7978EB2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D687A-DD2B-42BF-8D6D-50B54D8C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63EFC-D99A-46B9-B1F0-0416811B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E427B-563C-4452-A813-7F1297EC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2CDEC-316C-442B-A80E-B329B643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4DB8E-6F38-46AB-8B63-2315D134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E037-B3B9-449E-9861-7DADE183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DED3E-63C5-47E2-8795-9263630B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99236-1330-4E16-99CC-F3515AD7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CD9E-9194-4843-B180-70E88CE1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64BE1-FABD-4586-AB68-DF0D784C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E7900-7E39-4C57-A28A-BB29D377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699BA-C509-41A0-9D28-BFD9D0D4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B046B-515C-4175-9413-FC98E4F2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EA42-F46B-49FB-A93C-14D770FF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744-F38D-4AF9-AAA1-70035D25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1D6-B4F9-4A2E-86C4-5C995A69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E91-B47C-4CA1-9566-71BE32FC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7CFF-220C-42E2-8FFB-25D5EDEE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C77-BDFE-4377-B65C-C8019DB6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C5A7-CEC6-4AF6-802B-A98FA90537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DDAF-5DE3-49F1-9096-B890B595F4E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937D-FC6F-4750-95FC-32A2EA2159C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80"/>
                </a:solidFill>
                <a:latin typeface="Times New Roman"/>
              </a:rPr>
              <a:t>Технология проекта на уроках иностранного язы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24000" y="4724280"/>
            <a:ext cx="23335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98984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</a:rPr>
              <a:t>собственно коммуникативные умен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видам речевой деятельности (чтение, письмо, говорение и аудирование) , включающие речевое и неречевое повед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 rot="903000">
            <a:off x="5870520" y="3957480"/>
            <a:ext cx="234792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Этапы работы над проекто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ределение темы прое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ределение проблемы и цели  прое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суждение структуры проекта, составление примерного плана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групп \ па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зентация необходимого языкового материала и предкоммуникативная трениров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Этапы работы над проект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бор информации: обращение к уже имеющимся знаниям и жизненному опыту, работа с источниками информации, создание собственной системы хранения ин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в парах, группах, индивидуаль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  корректирует ошибки в употреблении языковых единиц, проводит презентацию и отработку нового материа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Этапы работы над проект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ализ собранной информации, координация действий разных груп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готовка к презентации проек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монстрация результатов прое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ценка проек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588000" y="4437000"/>
            <a:ext cx="1933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Оценка проектной деятель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072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нтроль усвоения языкового материала и развития речевой и коммуникативной компетен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рамотность  и темп реч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м использования изученного языкового матери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ильное привлечение новой лекс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гичность из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Оценка проектной деятель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щая оценка проекта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содержание прое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куратность в исполне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стетика оформления прое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еатив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тивность уч-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Оценка проектной деятель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арактер взаимодействия в групп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дивидуальный вклад при парном и групповом проек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лечение знаний из других предме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мение делать вывод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мение защитить свой проек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ТИПОЛОГИЯ   ПРОЕКТ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6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По количеству участ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индивидуальны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парны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группов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940360" y="3645000"/>
            <a:ext cx="216864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Индивидуальные проект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постер, колла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эсс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доклад /рефера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                          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мини - исслед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викторины, кроссворды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упражнения, составленные  учащимис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Групповые проект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Стенгазе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                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Опросы, интерв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                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Виртуальные экскур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                                       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Конференц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84360" y="4508640"/>
            <a:ext cx="187308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Times New Roman"/>
              </a:rPr>
              <a:t>проек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6600"/>
                </a:solidFill>
                <a:latin typeface="Times New Roman"/>
              </a:rPr>
              <a:t>Возможность учащихся выразить собственные идеи в интересной для них и творчески продуманной форме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По доминирующему метод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или виду деятельност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исследовательские 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творческие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ролево-игровые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информационные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практические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440" y="692280"/>
            <a:ext cx="78469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По признаку предметно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содержательной области</a:t>
            </a:r>
            <a:r>
              <a:rPr b="0" lang="ru-RU" sz="28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монопроекты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межпредметные проекты.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012000" y="4581360"/>
            <a:ext cx="207324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По продолжительности</a:t>
            </a: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краткосрочные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средней продолжительности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долгосрочные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По результатам</a:t>
            </a:r>
            <a:r>
              <a:rPr b="1" i="1" lang="ru-RU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видеофильм \ презент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доклад, альбом, сборник, каталог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макет, схема, план-кар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выставка; 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Tahoma"/>
              </a:rPr>
              <a:t>Постер \ коллаж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5184720" cy="3889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763640" y="1052640"/>
            <a:ext cx="5112000" cy="3833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3059280" y="2205000"/>
            <a:ext cx="5378400" cy="4033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5076720" y="1628640"/>
            <a:ext cx="364644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6840360" cy="5130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268360" y="692280"/>
            <a:ext cx="6228000" cy="4670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4535280" cy="604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4716360" y="907920"/>
            <a:ext cx="416088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840200" cy="6453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556000" y="404640"/>
            <a:ext cx="4303440" cy="57373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1908000" y="404640"/>
            <a:ext cx="6747120" cy="50612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4525920" y="260280"/>
            <a:ext cx="4618080" cy="61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6119640" cy="45896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4570560" cy="6092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427640" y="404640"/>
            <a:ext cx="4429080" cy="59058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3564000" y="260280"/>
            <a:ext cx="4806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788000" y="692280"/>
            <a:ext cx="3979800" cy="5305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643640" cy="6191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1619280" y="692280"/>
            <a:ext cx="3905280" cy="52070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4500720" y="907920"/>
            <a:ext cx="41083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6470640" cy="48528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116000" y="0"/>
            <a:ext cx="7704000" cy="5776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4591080" cy="61214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4572000" y="476280"/>
            <a:ext cx="4103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Times New Roman"/>
              </a:rPr>
              <a:t>Цели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1)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личностная ориентация учебного процесса на интересы  и цели обучающих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2) возможность в овладении учащимися коммуникативной компетенцией, т.е. практическому овладению иностранным языком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7128000" cy="5346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643280" y="765000"/>
            <a:ext cx="41929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057800" cy="52945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879640" y="404640"/>
            <a:ext cx="6264360" cy="46990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539640" y="1989000"/>
            <a:ext cx="6121440" cy="4591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4103640" y="333360"/>
            <a:ext cx="468144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824360" cy="58550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284720" y="404640"/>
            <a:ext cx="4591080" cy="6120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1258920" y="1125360"/>
            <a:ext cx="67676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7416720" cy="5564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6049800" cy="45370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2987640" y="476280"/>
            <a:ext cx="5953320" cy="44654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2303640" y="1181160"/>
            <a:ext cx="658944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343640" cy="55087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582560" y="836640"/>
            <a:ext cx="7561440" cy="5670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539640" y="476280"/>
            <a:ext cx="784872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94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851280" y="1052640"/>
            <a:ext cx="42116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319640" cy="57596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258920" y="446040"/>
            <a:ext cx="719928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Tahoma"/>
              </a:rPr>
              <a:t>Газетные стать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6840360" cy="5130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356000" y="333360"/>
            <a:ext cx="4265640" cy="5688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1908000" y="549360"/>
            <a:ext cx="419292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Доклад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4840200" cy="64530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076720" y="549360"/>
            <a:ext cx="3598920" cy="47973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2700360" y="189000"/>
            <a:ext cx="4788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World Teenagers’ Competition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nswers of the 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лкова Марина, 7-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omb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Times New Roman"/>
              </a:rPr>
              <a:t>Особенности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3333cc"/>
                </a:solidFill>
                <a:latin typeface="Tunga"/>
              </a:rPr>
              <a:t>а) </a:t>
            </a:r>
            <a:r>
              <a:rPr b="1" i="1" lang="ru-RU" sz="4000" spc="-1" strike="noStrike">
                <a:solidFill>
                  <a:srgbClr val="3333cc"/>
                </a:solidFill>
                <a:latin typeface="Tunga"/>
              </a:rPr>
              <a:t>речевая компетенци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Проект предоставляет возможность проявить коммуникативных умений высокого уровня во всех видах речевой деятельности: аудирование, говорение, письме, чтение, переводе в пределах определенной темы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n you describe yourself in five wo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 a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ociabl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hospitabl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responsibl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industriou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seriou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599000" y="1628640"/>
            <a:ext cx="38527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ould you most like to change in yourself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 wish to become    well-known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To become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even more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responsible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360864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your mott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8469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ff00ff"/>
                </a:solidFill>
                <a:latin typeface="Comic Sans MS"/>
              </a:rPr>
              <a:t>Don’t stop!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US" sz="8000" spc="-1" strike="noStrike">
                <a:solidFill>
                  <a:srgbClr val="0000ff"/>
                </a:solidFill>
                <a:latin typeface="Comic Sans MS"/>
              </a:rPr>
              <a:t>Go forward!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you see yourself in 10 years tim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’ve a family: a husband Mihail. My husband is an industrious workers in a serious organization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I’m an enjoyable exterior. I work in a big zoo as a zoologist. I live in London.  I’ve a rich house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you see our planet in 10 year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6960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n 10 years computers will supervise the world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N</a:t>
            </a: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ew medicines</a:t>
            </a: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 will be invent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There will be a lot of a new technic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63640" y="928440"/>
            <a:ext cx="6508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9600" spc="-1" strike="noStrike">
                <a:solidFill>
                  <a:srgbClr val="000000"/>
                </a:solidFill>
                <a:latin typeface="Bookman Old Style"/>
              </a:rPr>
              <a:t>NERD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9722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FrankRuehl"/>
                <a:ea typeface="FrankRuehl"/>
              </a:rPr>
              <a:t>Who</a:t>
            </a:r>
            <a:r>
              <a:rPr b="1" lang="ru-RU" sz="49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FrankRuehl"/>
                <a:ea typeface="FrankRuehl"/>
              </a:rPr>
              <a:t>are nerd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2560" y="1499760"/>
            <a:ext cx="4357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rd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sm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ith low communicative 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reading clever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2"/>
          <a:stretch/>
        </p:blipFill>
        <p:spPr>
          <a:xfrm>
            <a:off x="4714920" y="1282680"/>
            <a:ext cx="3971880" cy="383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2857320" cy="39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779640" y="549360"/>
            <a:ext cx="4824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FrankRuehl"/>
                <a:ea typeface="FrankRuehl"/>
              </a:rPr>
              <a:t>What is their image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ty h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p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s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te shi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56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FrankRuehl"/>
                <a:ea typeface="FrankRuehl"/>
              </a:rPr>
              <a:t>What are their interests and behavior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3296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listen to 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have any veh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drink alcoho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studying and doing 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lutely non- vio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80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FrankRuehl"/>
                <a:ea typeface="FrankRuehl"/>
              </a:rPr>
              <a:t>What are their ideas and value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2060640"/>
            <a:ext cx="8472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bel against no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in values are  education and scien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2340000" y="3500280"/>
            <a:ext cx="4032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79185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3333cc"/>
                </a:solidFill>
                <a:latin typeface="Tunga"/>
              </a:rPr>
              <a:t>б) лингвистическая компетенция</a:t>
            </a:r>
            <a:r>
              <a:rPr b="1" i="1" lang="ru-RU" sz="2800" spc="-1" strike="noStrike">
                <a:solidFill>
                  <a:srgbClr val="006600"/>
                </a:solidFill>
                <a:latin typeface="Lucida Conso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овладение учащимся лексикой по теме в качестве необходимой основы для оформления речевых умений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3333cc"/>
                </a:solidFill>
                <a:latin typeface="Tunga"/>
              </a:rPr>
              <a:t>в) социокультурная компетенция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риобретение знаний о культуре стран изучаемого язы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549440" y="4059000"/>
            <a:ext cx="60451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e by Ovechkin Andre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Трудности при создании проект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entury Gothic"/>
              </a:rPr>
              <a:t>Языковые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ладение определенным объемом лексики и граммат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мение строить разные типы предлож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ильно фонетически оформленный монолог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Трудности при создании проек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entury Gothic"/>
              </a:rPr>
              <a:t>2) Интеллектуаль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с информацией, ее анализ, обобщение, умение делать выв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entury Gothic"/>
              </a:rPr>
              <a:t>3) Организационны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в коллектив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entury Gothic"/>
              </a:rPr>
              <a:t>4) Творчески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иск идеи, ее решение, оформл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Трудности при создании проек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entury Gothic"/>
              </a:rPr>
              <a:t>5) Коммуникатив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мение слушать и слышат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сти обсуждение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лагать и отстаивать свою точку зр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entury Gothic"/>
              </a:rPr>
              <a:t>6) Создание электронной презент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Times New Roman"/>
              </a:rPr>
              <a:t>Технология проект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Способствует развитию творческих способностей уч-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2)  Затрагивает эмоциональную сферу уч-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3)  Учитывает личные интересы, жизненный  опыт и индивидуальные особ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)  Усиливает мотивацию обуч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5) Учит объективно оценивать себя и друг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6) Развивает коммуникабельность и умение сотруднич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7) Развивает у учащихся исследовательские ум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8) Возможность показать умение самостоятельно добывать и перерабатывать информацию из разных источ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342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440" y="692280"/>
            <a:ext cx="81342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9) Пользоваться приобретенными знаниями для решения новых практических и познавательных задач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10) Учит взаимодействию в группе и с учителе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11) Учит ответственности за результат своего тру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Особенност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Обучение иноязычной речевой деятельности как средством межкультурного взаимодейст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2) Практическое владение иностранным  языком, использование языка в ситуациях, максимально приближенных к условиям реального об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3) Отбор языкового материала, видов заданий и последовательности работы  происходит в соответствии с темой и целью проек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4) Способствует развитию навыков монологической речи, письма и аудир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5) Обобщение и закрепление, повторение учебного материа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6) Проект позволяет творчески применять изученный и освоенный языковой материа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7)  Проект расширяет словарный запа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8) Учит реально оценивать свои языковые возмож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6312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3333cc"/>
                </a:solidFill>
                <a:latin typeface="Tunga"/>
              </a:rPr>
              <a:t>г) методическая компетенция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умение самостоятельно работать со справочной литературой, разными источниками информации,  самостоятельно приобретать необходимую информацию по разным отраслям зна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651640" y="4365720"/>
            <a:ext cx="18396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9) Помогает по-новому взглянуть  на себя и свою культуру, историю страны ежедневную жизнь и сравнить с другой стра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10) Воспитывает положительное, уважительное и терпимое отношение к культуре других стран, что ведет к более глубокому осознанию своей родной культу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4152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11) Проект по иностранному языку затрагивает разные сферы жизни и разные отрасли зн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12) Наглядное представление результа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76360" y="3213000"/>
            <a:ext cx="457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364000" y="3789360"/>
            <a:ext cx="26370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609480"/>
            <a:ext cx="842472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Специфика технологии проектов в преподавании иностранного язы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ецифика предме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культура стран изучаемого язы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В период выполнения проектов по иностранному языку  у школьников развиваются следующие умения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</a:rPr>
              <a:t>общеучебные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а с учебником, со словарем, справочной литературой, Интернетом, составление плана доклада, сообщения, выступления по теме и т. д.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</a:rPr>
              <a:t>специальны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мение сокращать текст и передавать его в устной форме, осуществлять тематический подбор лексики, пользоваться двуязычным словарем, делать краткие записи по проблеме, составлять сообщения и  презентации  и др.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6-06T10:13:39Z</dcterms:modified>
  <cp:revision>17</cp:revision>
  <dc:subject/>
  <dc:title>PowerPoint Presentation</dc:title>
</cp:coreProperties>
</file>