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242-FC43-4CE9-BC18-C46A18EF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5FF-4D3E-4DF5-AB24-773ACFBB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968-1438-4442-B756-0710C9A2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ED2-AB56-44A9-9C44-3C56D0DC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A8A-8E9A-418B-BD91-3FF07C54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CB4-6FEB-4C83-A7D7-C4C0396C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7E9-A715-48FB-9F72-CA9C86C6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37B-D43D-46A4-8113-E2F0D08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082-07C5-45BF-9340-CB993953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E5F-5EF1-4B44-8DB1-E097715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A87-E7A2-4173-B22F-C8A8A494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684-FE8D-4E47-BB75-0AC6C4F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B4AA-B868-48C9-8552-A294E3F39F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02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imes New Roman"/>
              </a:rPr>
              <a:t>ПРОДУКТИВНОЕ ОБУЧЕНИЕ КАК СРЕДСТВО РЕАЛИЗАЦИИ ФГО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Методы ПО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огнитив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реатив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рганизация 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озговой шту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ро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логика создания продук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писание продукта, качества, количества, без целей и зада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лное описание стратегии и тактики формирования продук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блюдение как идет формирование заданных кач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этапн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Ступени продуктивного дидактического цик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репродуктив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исследовательск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конструктив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модельно-деятельнос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дуктивность обучения возрастает, если  модель действия, которое необходимо выполнить – программа движения и ее результаты - программа целей, опережают в сознании саму деятельность (П.К. Анахин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виды деятельност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гнити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тодическ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исков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нформацио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езентацио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ммуникати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ефлексивно-оцен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едагогические средств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Трудности при решении умственных зада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помощност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таниц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Didaktor.r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cc00cc"/>
                </a:solidFill>
                <a:latin typeface="Times New Roman"/>
              </a:rPr>
              <a:t>Результат продуктивного обучения -  продук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родук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изделие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редмет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результат человеческого труда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результат ученика на урок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роцесс образования,  цель которого  развитие личности  в сообществе,  совершенствование самого сообществ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лично-организованная деятельность, результат материальный или \ и материальный продукт (услуга), который обладает практической ценностью для образования и самообразования в процессе самоопределения и творчества лич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Цель  П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увеличения времени активной тренировочной работы каждого уч-с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онцептуальные основы П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Times New Roman"/>
              </a:rPr>
              <a:t>Принципы организации П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ние нового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провождаемый характе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вобода выб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поставление культурно- исторических аналог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едметная позна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ндивидуальное целеполагание  и рефлексивн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Результат ПО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10-18T08:22:42Z</dcterms:modified>
  <cp:revision>3</cp:revision>
  <dc:subject/>
  <dc:title>PowerPoint Presentation</dc:title>
</cp:coreProperties>
</file>