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BE1B-AF17-4AD9-A951-ED634945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370A-6DFF-48F6-B949-5FECD987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CC50-90A2-4521-BA2D-123A98C1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C68-6A48-43C0-ABA0-C6F38A8E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9CF1-A4A8-4E43-8F2D-C949C8BB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7060-DDEE-44CF-901F-D230AF68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C8C-8781-41B0-8EBE-BD0C0B31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E62-59EB-4232-B0F5-8CE633BF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879-CAF9-4B16-B32C-875BC0C1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E346-2D45-4B57-BB9D-1168C4F4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84C-98FC-4B5E-A878-8B8F28EA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3AF-192D-47DC-A6CB-43E3F823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2CC0-FBEA-4028-9FFA-F1EA4DF7CE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025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Times New Roman"/>
              </a:rPr>
              <a:t>ПРОДУКТИВНОЕ ОБУЧЕНИЕ КАК СРЕДСТВО РЕАЛИЗАЦИИ ФГО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Times New Roman"/>
              </a:rPr>
              <a:t>Методы ПО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когнитив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креатив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организация 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мозговой штур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проек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cc00cc"/>
                </a:solidFill>
                <a:latin typeface="Times New Roman"/>
              </a:rPr>
              <a:t>логика создания продукт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писание продукта, качества, количества, без целей и зада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лное описание стратегии и тактики формирования продук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аблюдение как идет формирование заданных каче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этапная диагнос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Times New Roman"/>
              </a:rPr>
              <a:t>Ступени продуктивного дидактического цикл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репродуктив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исследовательски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конструктив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модельно-деятельност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одуктивность обучения возрастает, если  модель действия, которое необходимо выполнить – программа движения и ее результаты - программа целей, опережают в сознании саму деятельность (П.К. Анахин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Times New Roman"/>
              </a:rPr>
              <a:t>виды деятельност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огнитив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етодическ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исков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нформацион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резентацион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оммуникатив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ефлексивно-оценоч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23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Times New Roman"/>
              </a:rPr>
              <a:t>Педагогические средств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Times New Roman"/>
              </a:rPr>
              <a:t>Трудности при решении умственных зада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оции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помощность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таница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Didaktor.ru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cc00cc"/>
                </a:solidFill>
                <a:latin typeface="Times New Roman"/>
              </a:rPr>
              <a:t>Результат продуктивного обучения -  продук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Times New Roman"/>
              </a:rPr>
              <a:t>Продук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изделие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предмет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результат человеческого труда;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результат ученика на урок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Times New Roman"/>
              </a:rPr>
              <a:t>П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процесс образования,  цель которого  развитие личности  в сообществе,  совершенствование самого сообществ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Times New Roman"/>
              </a:rPr>
              <a:t>П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лично-организованная деятельность, результат материальный или \ и материальный продукт (услуга), который обладает практической ценностью для образования и самообразования в процессе самоопределения и творчества личност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Times New Roman"/>
              </a:rPr>
              <a:t>Цель  П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увеличения времени активной тренировочной работы каждого уч-с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Концептуальные основы П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Times New Roman"/>
              </a:rPr>
              <a:t>Принципы организации П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здание нового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провождаемый характе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вобода выбор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поставление культурно- исторических аналог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редметная познавательная дея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ндивидуальное целеполагание  и рефлексивная деятель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Times New Roman"/>
              </a:rPr>
              <a:t>Результат ПО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10-18T08:22:42Z</dcterms:modified>
  <cp:revision>3</cp:revision>
  <dc:subject/>
  <dc:title>PowerPoint Presentation</dc:title>
</cp:coreProperties>
</file>