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A32-9897-4DEE-9A11-5EE63916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A09-F753-47E3-9B3B-F71D7E4B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CDF-3B34-471C-99E0-84DB0676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05F-1EAE-4D72-90D9-993FC52A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D2F8-7F52-497A-AD9D-C15B3A4D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C885-24FB-4F15-98D7-34F0FDE6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8D79-A7FF-4F51-A1CA-A4E3112A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DDE5-DFD8-443B-8953-BEEAA24E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84CE-664F-470B-89BF-CFCC5A55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AC00-4839-4CF0-86B8-AFC98BF1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2CA6-0FB9-4DA9-8F7A-7ADE36B5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CAD-8E78-4B20-83B7-68E3B6E6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CD1C-1D5A-4737-B8B8-4C0C7662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A5F7-2FB4-4929-85A0-E381F821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0FFF-7C0A-4F92-A081-A1F42884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3A71-34AF-46B6-84E3-88C2B1B4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6DDC-9CBC-41DA-A8EB-359FF69A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590-DF89-4DAD-ADE0-5EED6BB0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6E8-4831-4EA1-9101-60C97592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FF0-551F-4A8F-AD09-37C1909F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A6B-55A0-4819-A339-3B65C46D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6D0-3CD8-468F-8AC9-E7C4749A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721-F327-471E-8C34-B283C0EB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A54-7DCC-4D2A-8CA0-0D8FAC37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7932-3A12-4DF1-91CA-6228627002A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318D-D3F4-4913-B3D7-C8117F0198D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3216240" cy="4321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95280" y="3573360"/>
            <a:ext cx="81374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нягиня Ольга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2-я месть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00"/>
                </a:solidFill>
                <a:latin typeface="Bookman Old Style"/>
              </a:rPr>
              <a:t>Ольга попросила для уважения прислать к ней новых послов из лучших мужей, что и было с охотой исполнено древлянами. Посольство из знатных древлян сожгли в бане, пока те мылись, готовясь к встрече с княгин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3-я месть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00"/>
                </a:solidFill>
                <a:latin typeface="Bookman Old Style"/>
              </a:rPr>
              <a:t>Княгиня с небольшой дружиной приехала в земли древлян, чтобы по обычаю справить тризну на могиле мужа. Опоив во время тризны древлян, Ольга велела рубить их. Летопись сообщает о 5 тысячах перебитых древля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51280" y="260280"/>
            <a:ext cx="4430880" cy="25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4-я месть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Дружина Ольга победила древлян в бо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Но после безуспешной осады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древлянской столицы Искоросте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в течение лета, Ольга сожгла гор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с помощью птиц, к которым веле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привязать зажигательные сред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Часть защитников Искоростеня были перебиты, остальные покорили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авление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После расправы с древлянами Ольга стала править Киевской Русью до совершеннолетия своего сына Святослава, но и после этого она оставалась фактическим правителем, так как её сын большую часть времени отсутствовал в военных походах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авление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В 945 г. Ольг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-  установила точный размер взимаемой в пользу Киева дани и оброков  и периодичность их сбора 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- поделила подвластные Киеву земли на административные единицы, в каждой из которых был поставлен княжеский администрато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В 947 году Ольга и ее дружин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отправились в новгородские и псковские земли, устанавливая там оброки и дан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Ольга установила систему «погостов» — центров торговли и обмена, в которых более упорядоченно происходил сбор податей; затем по погостам стали строить храмы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авление Ольги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авление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Княгиня Ольга положил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начало каменному градостроительству на Рус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(первые каменные здания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Киева — городской дворец и загородный терем Ольги)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со вниманием относилась к благоустройству подвластных Киеву земель — новгородских, псковских, расположенных вдоль реки Десн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504040"/>
            <a:ext cx="42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04000" y="620640"/>
            <a:ext cx="190512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авление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51280" y="119664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Княгиня воздвигла на Руси храмы святителя Николая и Святой Софии в Киеве, Благовещения Богородицы в Витебск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На реке Пскове, где она родилась, Ольга основала город Псков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120840" cy="355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рещение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В 957 году Ольга была крещена в византийском Константинополе императором Константином и патриархом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51280" y="2924280"/>
            <a:ext cx="4968720" cy="3130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рещение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1280" y="3068640"/>
            <a:ext cx="6913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105264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По возвращении в Киев Ольга, принявшая в крещении имя Елена, пробовала приобщить  своего сына Святослава к христианству, однако «он и не думал прислушаться к этому; но если кто собирался креститься, то не запрещал, а только насмехался над тем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60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т женщины в русской истории более невероятной, чем первая правительница наша - княгиня Оль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блик ее до нас не дошел, и свое представление о ней мы можем составить лишь по свидетельствам о делах ее и по описаниям, сохранившимся в древнерусских рукопис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Какова же она, княгиня Ольг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рещение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505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Княгиня Ольга стала первым правителем Киевской Руси, принявшем крещение, и, таким образом, предопределила принятие православия всем древнерусским нар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64000" y="620640"/>
            <a:ext cx="3156120" cy="4530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1 июля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969 Ольга умерла, и плакали по ней плачем великим сын её, и внуки её, и все люди, и понесли, и похоронили её на выбранном месте  по христианскому обря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2857680" cy="1828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76720" y="333360"/>
            <a:ext cx="541008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 княжение Владимира, внука княгини, Ольга начала почитаться как свят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 1007 году князь Владимир Креститель перенес мощи святых, включая Ольгу, в основанную им церковь Святой Богородицы в Кие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186000" cy="424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 1547 году Ольга причислена к лику святой равноапостоль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акой чести удостоились ещё только 5 святых женщин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христианской истор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ария Магдали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ервомученица Фек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ученица Апф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царица Елена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осветитель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Грузии Нин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435640" y="1916280"/>
            <a:ext cx="3016080" cy="41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532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амять равноапостольной Ольги празднуется Православной Церковью 11 ию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льга почитается в Православной и Католической церкв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ак покровительница вдов и новообращённых христи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796000" y="189000"/>
            <a:ext cx="2914560" cy="428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В память о Святой Ольге</a:t>
            </a:r>
            <a:br>
              <a:rPr sz="3700"/>
            </a:b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были учреждены ордена:</a:t>
            </a:r>
            <a:endParaRPr b="0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0033"/>
                </a:solidFill>
                <a:latin typeface="Arial"/>
              </a:rPr>
              <a:t>Знак отличия Святой равноапостольной княгини Ольги — учреждён императором Николаем II в 1915 год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0033"/>
                </a:solidFill>
                <a:latin typeface="Arial"/>
              </a:rPr>
              <a:t>«Орден княгини Ольги» — государственная награда Украины с 1997 г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0033"/>
                </a:solidFill>
                <a:latin typeface="Arial"/>
              </a:rPr>
              <a:t>«Орден святой равноапостольной великой княгини Ольги» — награда Русской Православной Церкви.В Киеве, Пскове и городе Коростен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052960" y="1722600"/>
            <a:ext cx="3229200" cy="428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32000" y="4365360"/>
            <a:ext cx="65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Памятник княгине Ольге, Св. Апостолу Андрею Первозванному, а так же Кириллу и Мефодию в Кие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248360" cy="3238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03280" y="486792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ahoma"/>
                <a:ea typeface="Times New Roman"/>
              </a:rPr>
              <a:t>Памятни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ahoma"/>
                <a:ea typeface="Times New Roman"/>
              </a:rPr>
              <a:t>княгине Ольг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ahoma"/>
                <a:ea typeface="Times New Roman"/>
              </a:rPr>
              <a:t>               </a:t>
            </a:r>
            <a:r>
              <a:rPr b="1" lang="en-US" sz="3200" spc="-1" strike="noStrike">
                <a:solidFill>
                  <a:srgbClr val="990033"/>
                </a:solidFill>
                <a:latin typeface="Tahoma"/>
                <a:ea typeface="Times New Roman"/>
              </a:rPr>
              <a:t>в Пско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8840" y="2563920"/>
            <a:ext cx="360" cy="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51280" y="404640"/>
            <a:ext cx="3024000" cy="40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16000" y="4781520"/>
            <a:ext cx="68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Памятник княгине Ольге в Пско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Работа З. Церетели, 200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4896000" cy="367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оисхожд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6265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Согласно древнерусской летописи, «Повести Временных Лет»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Ольга родилась в деревне Выбуты в 12 км от Пскова выше по реке Велик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Имена родителей Ольги не сохранилис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(предполагалось, что они были не знатного рода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443640" y="692280"/>
            <a:ext cx="2343240" cy="360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348000" y="764640"/>
            <a:ext cx="51912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Согласно летописи конца XV 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Ольга была дочерью Вещего Олег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который стал править Киевской Русью как опекун малолетнего Игоря, сына Рюри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476800" cy="554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ра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5256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о «Повести временных лет» Вещий Олег женил Игоря Рюриковича, начавшего самостоятельно править с 912 года, на Ольге в 903 го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719760" y="476280"/>
            <a:ext cx="1922760" cy="52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Начало правл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Согласно летописи, в 945 году князь Игорь погибает от рук древлян после о взимания с них дани. Наследнику престола Святославу тогда было только 3 года, поэтому фактическим правителем Киевской Руси в 945 году стала Оль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43280" y="4436640"/>
            <a:ext cx="45007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Дружина Игоря подчинилась ей, признав Ольгу представителем законного наследника престо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6335640" cy="4087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24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54120"/>
            <a:ext cx="360" cy="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55184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  <a:ea typeface="Times New Roman"/>
              </a:rPr>
              <a:t>«Княгиня Ольга встречает тело князя Игор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  <a:ea typeface="Times New Roman"/>
              </a:rPr>
              <a:t>Эскиз В. И. Сурикова, 191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Месть древляна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Древляне после убийства Игоря прислали к его вдове Ольге сватов звать её замуж за своего князя Мал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Княгиня последовательно расправилась со старейшинами древлян, а затем привела к покорности народ древл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1-я месть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6191280" cy="35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00"/>
                </a:solidFill>
                <a:latin typeface="Bookman Old Style"/>
              </a:rPr>
              <a:t>Сваты, 20 древлян, прибыли в ладье, которую киевляне отнесли и бросили в глубокую яму на дворе терема Ольги. Сватов-послов закопали живьем вместе с ладьё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392720" cy="266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09:12:09Z</dcterms:created>
  <dc:creator>PC</dc:creator>
  <dc:description/>
  <dc:language>en-US</dc:language>
  <cp:lastModifiedBy>1</cp:lastModifiedBy>
  <dcterms:modified xsi:type="dcterms:W3CDTF">2012-06-05T11:00:36Z</dcterms:modified>
  <cp:revision>19</cp:revision>
  <dc:subject/>
  <dc:title>Слайд 1</dc:title>
</cp:coreProperties>
</file>