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7B1-96B4-449B-990E-64F557AB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C49-EA4A-42A2-BA54-A612379A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DC8-EB50-4709-8EDA-A570E0FB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0C2-60A9-44D4-B124-DECBFEE9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DE9-C750-4A39-8CE3-C0FD94FD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AF3-294D-451D-99DE-9E6AD1BB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6C1-B928-4815-8326-97D729B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E1E5-9D46-48F9-9282-6898DC2E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311-8FE2-4F00-9446-1C8A72A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9151-57F0-4355-B7A9-956EF6B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ABB2-169B-4DDD-98C9-124FFFD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792-03A8-4715-A16C-629A4C7E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A61C-A762-4BEA-8167-9E3A420B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8C33-1A9B-43D0-B9E3-14CE993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646D-D924-4544-83AC-95AA52C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CE3C-7613-4A11-BFDD-FD77E0CC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AF9-AB27-4E9A-A658-FA687289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E03-2B8A-4101-A911-E94A432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DB7-F099-4B0E-8A66-5DC1F1C1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E6A-8C5B-489B-BAC4-ED7DD798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C5E-AC0C-4859-8FF9-3ECBEAA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7B0-7FCB-4ECB-9BB7-2368CB8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FCF-B4B3-4906-A56D-4FA58F2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F8E-3C8A-4A1A-858C-AA7DF02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FB4-73EB-48A8-9EC0-77EC8FFD6E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D9A9-7DF3-46CC-BA7D-5057D6AA42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3216240" cy="432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95280" y="3573360"/>
            <a:ext cx="81374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нягиня Ольга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2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Ольга попросила для уважения прислать к ней новых послов из лучших мужей, что и было с охотой исполнено древлянами. Посольство из знатных древлян сожгли в бане, пока те мылись, готовясь к встрече с княгин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3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Княгиня с небольшой дружиной приехала в земли древлян, чтобы по обычаю справить тризну на могиле мужа. Опоив во время тризны древлян, Ольга велела рубить их. Летопись сообщает о 5 тысячах перебитых древл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260280"/>
            <a:ext cx="443088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4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Дружина Ольга победила древлян в б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Но после безуспешной осад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древлянской столицы Искоросте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в течение лета, Ольга сожгла го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с помощью птиц, к которым вел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привязать зажигательные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Bookman Old Style"/>
              </a:rPr>
              <a:t>Часть защитников Искоростеня были перебиты, остальные покорил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После расправы с древлянами Ольга стала править Киевской Русью до совершеннолетия своего сына Святослава, но и после этого она оставалась фактическим правителем, так как её сын большую часть времени отсутствовал в военных походах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В 945 г. Ольг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-  установила точный размер взимаемой в пользу Киева дани и оброков  и периодичность их сбора 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- поделила подвластные Киеву земли на административные единицы, в каждой из которых был поставлен княжеский администратор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В 947 году Ольга и ее дружин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отправились в новгородские и псковские земли, устанавливая там оброки и дан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Ольга установила систему «погостов» — центров торговли и обмена, в которых более упорядоченно происходил сбор податей; затем по погостам стали строить храм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Княгиня Ольга полож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начало каменному градостроительству на Рус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(первые каменные зда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Киева — городской дворец и загородный терем Ольги)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со вниманием относилась к благоустройству подвластных Киеву земель — новгородских, псковских, расположенных вдоль реки Дес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50404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04000" y="620640"/>
            <a:ext cx="19051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авл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51280" y="11966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Княгиня воздвигла на Руси храмы святителя Николая и Святой Софии в Киеве, Благовещения Богородицы в Витебск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На реке Пскове, где она родилась, Ольга основала город Псков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20840" cy="355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В 957 году Ольга была крещена в византийском Константинополе императором Константином и патриархом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4968720" cy="313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3068640"/>
            <a:ext cx="6913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0526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100" spc="-1" strike="noStrike">
                <a:solidFill>
                  <a:srgbClr val="cc0000"/>
                </a:solidFill>
                <a:latin typeface="Arial"/>
              </a:rPr>
              <a:t>По возвращении в Киев Ольга, принявшая в крещении имя Елена, пробовала приобщить  своего сына Святослава к христианству, однако «он и не думал прислушаться к этому; но если кто собирался креститься, то не запрещал, а только насмехался над тем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т женщины в русской истории более невероятной, чем первая правительница наша - княгиня Оль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блик ее до нас не дошел, и свое представление о ней мы можем составить лишь по свидетельствам о делах ее и по описаниям, сохранившимся в древнерусских рукопис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акова же она, княгиня Ольг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ещение Оль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50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нягиня Ольга стала первым правителем Киевской Руси, принявшем крещение, и, таким образом, предопределила принятие православия всем древнерусским нар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3156120" cy="45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 июля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969 Ольга умерла, и плакали по ней плачем великим сын её, и внуки её, и все люди, и понесли, и похоронили её на выбранном месте  по христианскому обря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285768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76720" y="333360"/>
            <a:ext cx="54100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княжение Владимира, внука княгини, Ольга начала почитаться как свят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1007 году князь Владимир Креститель перенес мощи святых, включая Ольгу, в основанную им церковь Святой Богородицы в Кие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86000" cy="42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1547 году Ольга причислена к лику святой равноапостоль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кой чести удостоились ещё только 5 святых женщин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ристианской истор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рия Магдал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ервомученица Фек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ученица Апф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царица Елен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светит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рузии Ни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3016080" cy="41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32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амять равноапостольной Ольги празднуется Православной Церковью 11 ию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льга почитается в Православной и Католической церкв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 покровительница вдов и новообращённых христи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291456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В память о Святой Ольге</a:t>
            </a:r>
            <a:br>
              <a:rPr sz="3700"/>
            </a:b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были учреждены ордена:</a:t>
            </a:r>
            <a:endParaRPr b="0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Знак отличия Святой равноапостольной княгини Ольги — учреждён императором Николаем II в 191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«Орден княгини Ольги» — государственная награда Украины с 1997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Arial"/>
              </a:rPr>
              <a:t>«Орден святой равноапостольной великой княгини Ольги» — награда Русской Православной Церкви.В Киеве, Пскове и городе Коростен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52960" y="1722600"/>
            <a:ext cx="322920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32000" y="43653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ahoma"/>
              </a:rPr>
              <a:t>Памятник княгине Ольге, Св. Апостолу Андрею Первозванному, а так же Кириллу и Мефодию в Кие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248360" cy="323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48679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Памятни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княгине Оль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Times New Roman"/>
              </a:rPr>
              <a:t>в Пск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8840" y="2563920"/>
            <a:ext cx="360" cy="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51280" y="40464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16000" y="4781520"/>
            <a:ext cx="68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Памятник княгине Ольге в Пск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Работа З. Церетели, 20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489600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оисхожд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265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Согласно древнерусской летописи, «Повести Временных Лет»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Ольга родилась в деревне Выбуты в 12 км от Пскова выше по реке Велик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Имена родителей Ольги не сохранилис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(предполагалось, что они были не знатного род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343240" cy="36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348000" y="764640"/>
            <a:ext cx="51912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огласно летописи конца XV 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льга была дочерью Вещего Олег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который стал править Киевской Русью как опекун малолетнего Игоря, сына Рюр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476800" cy="554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ра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52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 «Повести временных лет» Вещий Олег женил Игоря Рюриковича, начавшего самостоятельно править с 912 года, на Ольге в 903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19760" y="476280"/>
            <a:ext cx="192276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Начало прав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Согласно летописи, в 945 году князь Игорь погибает от рук древлян после о взимания с них дани. Наследнику престола Святославу тогда было только 3 года, поэтому фактическим правителем Киевской Руси в 945 году стала Оль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3280" y="4436640"/>
            <a:ext cx="4500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Дружина Игоря подчинилась ей, признав Ольгу представителем законного наследника прест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335640" cy="4087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54120"/>
            <a:ext cx="360" cy="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55184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«Княгиня Ольга встречает тело князя Игор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Эскиз В. И. Сурикова, 19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есть древлян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Древляне после убийства Игоря прислали к его вдове Ольге сватов звать её замуж за своего князя М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нягиня последовательно расправилась со старейшинами древлян, а затем привела к покорности народ древл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1-я месть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619128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00"/>
                </a:solidFill>
                <a:latin typeface="Bookman Old Style"/>
              </a:rPr>
              <a:t>Сваты, 20 древлян, прибыли в ладье, которую киевляне отнесли и бросили в глубокую яму на дворе терема Ольги. Сватов-послов закопали живьем вместе с лад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392720" cy="266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9:12:09Z</dcterms:created>
  <dc:creator>PC</dc:creator>
  <dc:description/>
  <dc:language>en-US</dc:language>
  <cp:lastModifiedBy>1</cp:lastModifiedBy>
  <dcterms:modified xsi:type="dcterms:W3CDTF">2012-06-05T11:00:36Z</dcterms:modified>
  <cp:revision>19</cp:revision>
  <dc:subject/>
  <dc:title>Слайд 1</dc:title>
</cp:coreProperties>
</file>