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camera.wav" ContentType="audio/x-wav"/>
  <Override PartName="/ppt/media/image5.wmf" ContentType="image/x-wmf"/>
  <Override PartName="/ppt/media/image1.wmf" ContentType="image/x-wmf"/>
  <Override PartName="/ppt/media/whoosh.wav" ContentType="audio/x-wav"/>
  <Override PartName="/ppt/media/image2.wmf" ContentType="image/x-wmf"/>
  <Override PartName="/ppt/media/type.wav" ContentType="audio/x-wav"/>
  <Override PartName="/ppt/media/image3.wmf" ContentType="image/x-wmf"/>
  <Override PartName="/ppt/media/laser.wav" ContentType="audio/x-wav"/>
  <Override PartName="/ppt/media/image4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914-A4AB-4F61-8FAC-B2AF2415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D86-F8E0-48A5-B22B-A8594268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1F1-2A75-4EAC-93AF-6FD22AED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A4D-E28F-4042-95EA-8AEE200E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13B-3B61-4DC0-B126-D1DE0835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1ADC-6B1D-4E61-B2A6-34D3574D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FF5-4BF4-4AF5-874A-DBB81C2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A82-2F23-4C07-B6F2-C661E06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3B9-6FAF-46DC-82F0-584B829A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24D0-F757-4AEE-9BA6-6FFF44EA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F3F-A914-4145-ABFC-4F737D4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477-976E-4D86-B309-7A20D8CF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312E-4CA3-4AB9-AB6D-19BAB88B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135A-6BB7-40B5-A624-B579C65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ABA-76AC-43CC-B000-400754B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6CFE-E80F-4CA8-94D8-241A1C47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A39-9DD5-4313-8C13-5B08D860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D2E-7DEB-4C20-A046-68ADADF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E69-E389-4422-A0AD-CAD90CC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A37-ED18-45B3-8110-C471C9B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7AC-A16C-4AD6-86AA-D97FACC2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66C-46FF-4C61-A1D2-02D462C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575-3E36-4E4A-98B4-444FA19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428-C181-4FB5-AF2B-60DFEAA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EFE1-E97E-4390-9A1B-4FEC28F193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68D-0F06-4424-8175-1743027BD1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Numerals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352680" cy="2824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. </a:t>
            </a:r>
            <a:r>
              <a:rPr b="0" lang="ru-RU" sz="5400" spc="-1" strike="noStrike">
                <a:solidFill>
                  <a:srgbClr val="003366"/>
                </a:solidFill>
                <a:latin typeface="Century Gothic"/>
              </a:rPr>
              <a:t>Подлежащее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Put the books in order. </a:t>
            </a:r>
            <a:r>
              <a:rPr b="0" i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Two </a:t>
            </a: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are lying on the table, and </a:t>
            </a:r>
            <a:r>
              <a:rPr b="0" i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four</a:t>
            </a: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 are under i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291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Дополнение</a:t>
            </a:r>
            <a:r>
              <a:rPr b="0" lang="ru-RU" sz="5400" spc="-1" strike="noStrike">
                <a:solidFill>
                  <a:srgbClr val="003366"/>
                </a:solidFill>
                <a:latin typeface="Century Gothic"/>
              </a:rPr>
              <a:t>.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How many stories must I read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-  Read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fiv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Именная часть составного сказуемого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They are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six.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We are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two</a:t>
            </a:r>
            <a:r>
              <a:rPr b="0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entury Gothic"/>
              </a:rPr>
              <a:t>4.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 Определение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I have seen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three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scientific film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Five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birds sat on the tre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219240"/>
            <a:ext cx="236196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Times New Roman"/>
              </a:rPr>
              <a:t>Порядковые числительные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b115"/>
                </a:solidFill>
                <a:latin typeface="Lucida Handwriting"/>
              </a:rPr>
              <a:t>Ordinal number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-3808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Почти все порядковые числительные образуются при помощи суффикса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th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4-й –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9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ni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1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eleve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25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twenty-fif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00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one hundre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78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one hundred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                    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seventy- eigh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3302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But: 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1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fir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      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secon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      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thir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орядковые числительные употребляются с определенным артиклем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the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be084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46920" y="228600"/>
            <a:ext cx="181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840"/>
            <a:ext cx="7467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Century Gothic"/>
              </a:rPr>
              <a:t>Функции порядковых числительны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32511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1. Определение</a:t>
            </a:r>
            <a:r>
              <a:rPr b="0" lang="ru-RU" sz="3600" spc="-1" strike="noStrike">
                <a:solidFill>
                  <a:srgbClr val="003366"/>
                </a:solidFill>
                <a:latin typeface="Copperplate Gothic Light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his is my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cond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year in schoo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ake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venth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lesson</a:t>
            </a: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9920" y="432756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2. Именная часть составного сказуемого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She was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first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to tell me the truth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Имя числительное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0481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3. Подлежащее</a:t>
            </a:r>
            <a:r>
              <a:rPr b="0" lang="ru-RU" sz="4400" spc="-1" strike="noStrike">
                <a:solidFill>
                  <a:srgbClr val="003366"/>
                </a:solidFill>
                <a:latin typeface="Bookman Old Style"/>
              </a:rPr>
              <a:t>.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wo men were there.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first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was my friend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4.Дополнение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Of the two chapters I read I liked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cond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better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0288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Bookman Old Style"/>
              </a:rPr>
              <a:t>Чтение дат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1338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793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seven ninety-thre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504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fifteen o f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956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nineteen fifty-s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000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o thous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o thousand and sev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100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enty-one hundr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11743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pperplate Gothic Light"/>
              </a:rPr>
              <a:t>15,May, 1980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15th May, 1980 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          </a:t>
            </a: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May 15th, 1980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                  </a:t>
            </a: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May 15, 1980 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The fifteenth of May nineteen eighty =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May the fifteen, nineteen eight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Дробные числительны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1743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Verdana"/>
              </a:rPr>
              <a:t>Простые дроб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e0849"/>
                </a:solidFill>
                <a:latin typeface="Arial"/>
              </a:rPr>
              <a:t>Числит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количественное числитель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e0849"/>
                </a:solidFill>
                <a:latin typeface="Arial"/>
              </a:rPr>
              <a:t>Знаменат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рядковое числительное (может быть во множест. числе, если числитель больше единиц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3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one third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2\5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two fifths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2 3\5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two and three fifths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2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a (one) half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4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a (one) quarter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3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3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3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3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1247760"/>
            <a:ext cx="8001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Verdana"/>
              </a:rPr>
              <a:t>Десятичные дроб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0093"/>
                </a:solidFill>
                <a:latin typeface="Arial"/>
              </a:rPr>
              <a:t>1) Целое число отделяется от дроби точкой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(point) : 0,5 =zero point fi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3,14 = three point fourtee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0093"/>
                </a:solidFill>
                <a:latin typeface="Arial"/>
              </a:rPr>
              <a:t>2)Нуль читается –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nought : 0,25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(nought) point two five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1101600"/>
            <a:ext cx="8001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Bookman Old Style"/>
              </a:rPr>
              <a:t>Проценты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2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two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3\8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three eights per cent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1\2 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half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0,2 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nought point two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16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Числительное</a:t>
            </a: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 – это часть речи,которая обозначает количество или порядок предметов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0288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6699"/>
                </a:solidFill>
                <a:latin typeface="Garamond"/>
              </a:rPr>
              <a:t>числительное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Количествен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значает количество предметов и отвечает на вопрос: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колько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how many?</a:t>
            </a:r>
            <a:r>
              <a:rPr b="1" lang="ru-RU" sz="32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Порядково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значает порядок предметов и отвечает на вопрос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который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d60093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96560"/>
            <a:ext cx="74674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оличественные числительны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7704000" cy="433224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lev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wel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Twen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ir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Thir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ur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For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f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Fif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i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x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Six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ev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ven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Seven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igh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igh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Eigh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in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Nine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 – one hundred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0 – one thousand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0000 – one mill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But: hundred</a:t>
            </a:r>
            <a:r>
              <a:rPr b="0" i="1" lang="en-US" sz="4400" spc="-1" strike="noStrike">
                <a:solidFill>
                  <a:srgbClr val="990000"/>
                </a:solidFill>
                <a:latin typeface="Bookman Old Style"/>
              </a:rPr>
              <a:t>s</a:t>
            </a: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 of student</a:t>
            </a:r>
            <a:r>
              <a:rPr b="0" i="1" lang="en-US" sz="4400" spc="-1" strike="noStrike">
                <a:solidFill>
                  <a:srgbClr val="990000"/>
                </a:solidFill>
                <a:latin typeface="Bookman Old Style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25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wenty five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375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hree hundred and seventy-five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2,146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wo thousand one hundred and forty-six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1,225,012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one million two hundred and twenty five thousand twelv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man Old Style"/>
              </a:rPr>
              <a:t>Чтение телефонных    номер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каждая цифра читается отдель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0 читается как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ou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две, стоящие рядом цифры читаются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oub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22-05-17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20001"/>
                </a:solidFill>
                <a:latin typeface="Verdana"/>
              </a:rPr>
              <a:t> 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double two o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20001"/>
                </a:solidFill>
                <a:latin typeface="Verdana"/>
              </a:rPr>
              <a:t>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five sevente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01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opperplate Gothic Light"/>
              </a:rPr>
              <a:t>Функции количественных числительны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2946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8:05:30Z</dcterms:created>
  <dc:creator>Крысова </dc:creator>
  <dc:description/>
  <dc:language>en-US</dc:language>
  <cp:lastModifiedBy>1</cp:lastModifiedBy>
  <dcterms:modified xsi:type="dcterms:W3CDTF">2012-05-15T06:39:13Z</dcterms:modified>
  <cp:revision>9</cp:revision>
  <dc:subject/>
  <dc:title>Имя числительное </dc:title>
</cp:coreProperties>
</file>