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2.png" ContentType="image/png"/>
  <Override PartName="/ppt/media/image2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0.png" ContentType="image/png"/>
  <Override PartName="/ppt/media/image28.jpeg" ContentType="image/jpeg"/>
  <Override PartName="/ppt/media/image12.jpeg" ContentType="image/jpeg"/>
  <Override PartName="/ppt/media/image29.jpeg" ContentType="image/jpeg"/>
  <Override PartName="/ppt/media/image8.jpeg" ContentType="image/jpeg"/>
  <Override PartName="/ppt/media/image30.png" ContentType="image/png"/>
  <Override PartName="/ppt/media/image13.jpeg" ContentType="image/jpeg"/>
  <Override PartName="/ppt/media/image27.jpeg" ContentType="image/jpeg"/>
  <Override PartName="/ppt/media/image35.jpeg" ContentType="image/jpeg"/>
  <Override PartName="/ppt/media/image10.png" ContentType="image/png"/>
  <Override PartName="/ppt/media/image33.jpeg" ContentType="image/jpeg"/>
  <Override PartName="/ppt/media/image9.jpeg" ContentType="image/jpeg"/>
  <Override PartName="/ppt/media/image32.jpeg" ContentType="image/jpeg"/>
  <Override PartName="/ppt/media/image5.jpeg" ContentType="image/jpeg"/>
  <Override PartName="/ppt/media/image6.wmf" ContentType="image/x-wmf"/>
  <Override PartName="/ppt/media/image4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909C-329D-4B9C-A009-554591864A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F9C1-2D61-46DA-A5D1-078CFDE1D0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58F0-31A3-479E-90C5-FA44A435E3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6825-7DC8-4DDD-B0EA-B1DCD9AF3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3511-6136-4A20-8C51-AF56E990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634C-D978-411D-B619-0FA6CB5B2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9F43-6D32-41BF-A0B6-4C5A2EDD6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9ADB-52A6-40FA-99A4-7C9359625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E4EB-912C-4733-AADB-1BF6C8D5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89F1-D0EE-4115-915F-6A2B75DE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376F-3D5B-4FB4-BD6E-858D1763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9268-3408-43BD-B568-EA847D05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DCDE-9CC7-4105-A694-ADE2FA62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DB13-3057-48E7-9E9F-38ACCC01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2857-62D5-472B-8A17-4ACD0D9A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8F81-37DB-451B-87CF-D930B3E3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15D1-0072-4C9F-BAB7-A23AAC87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67C3-839D-4632-AD1A-A5E599E3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D6E7-C9D1-426A-B4C6-830CFB1D5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8FD7-B59E-4EB7-957A-ABE83BB58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1572A-D95D-484B-9F80-620080ED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E6D5B-36D1-4B59-8657-FC291E6A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FEF5D-D0B4-4166-927A-F336A43D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C0640-13D5-4D1F-BFF8-69C6167C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CED04-F8C6-45A0-9DE3-8B081640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076F-7EE1-4CCF-8A85-2C535FD3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8BBBA-42BF-4501-B6CD-B2B61DC8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6906B-B43E-44CB-9239-8A5E3FAD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AC0B2-447E-411F-965A-333DBF41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538FD-4E9C-42D9-A897-A308C178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E6B79-1512-4B2D-8C40-9CDD16E7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BC191-CD6F-4E2C-8AF1-B8E706B9F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B2B15-1548-44AD-AB8B-E1EF678E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02B3E-98E6-4EA2-902E-D2E153B99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49B70-175B-46F2-A766-5C30AF97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6200D-5EB9-407D-B861-7B14C55D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7297-D241-459F-8CB8-12DC48A0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72BDF-E967-499A-8F79-4DD92C97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8A765-EBC7-4496-9B3B-A4183B66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B4952-6557-4DB1-877E-B404C5CC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9B5A3-A13B-4523-8504-7C19F167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58278-DBF4-44CB-B457-338B7EE7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90FBF-EF86-4CDA-9429-B76AFA46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EE18E-7029-4E46-B836-4AA2888F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9DF2B-6CA3-42D3-BE25-7E0FC7776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83C3B-0F3B-4BBF-9316-478F4550C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89094-2264-438F-808F-343F4D61F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80F7-81E4-45AC-80A6-454DE539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EB357-9D77-4720-AB0F-E070AF95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7701D-A77D-4888-9E72-EEBC2861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13CB9-D5C3-417A-ABCA-81149085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0514B-7B7A-426D-A581-44D81754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A2C52-EEC7-44CA-B6EC-9DF71563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79981-CFAE-4F6D-9F60-C7B1F39E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24074-98B1-484F-B2AD-D0F177DE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CEDEB-71C4-4A55-BC20-CBA53288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0BD61-075F-4A97-834C-314C169E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12F82-1750-466B-9FFC-A1C3C2D06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A24C-9BE2-4E90-8A0C-F8D1A9A3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FB7FA-C2B7-43D3-9C84-2E3881B9A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32B8-BC32-4B65-B6FA-BF9504C1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50FF-1A37-444F-91E7-58E2EC4A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F8DD-C81B-4864-BDF5-65EBAA62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8c7f"/>
            </a:gs>
            <a:gs pos="100000">
              <a:srgbClr val="f0ead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E453-2E77-4AA7-8069-F94C1DCF431C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8c7f"/>
            </a:gs>
            <a:gs pos="100000">
              <a:srgbClr val="f0ead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8835-B3D2-4AFF-8F5B-CA985101B14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8c7f"/>
            </a:gs>
            <a:gs pos="100000">
              <a:srgbClr val="f0ead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5BB5-61D4-467B-9940-04A7C2C9ABF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8c7f"/>
            </a:gs>
            <a:gs pos="100000">
              <a:srgbClr val="f0ead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A464-D4D5-45ED-BE42-1A09404C2D1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8c7f"/>
            </a:gs>
            <a:gs pos="100000">
              <a:srgbClr val="f0ead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4C70-B792-4EEC-A4C0-9398C282491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50920" y="764640"/>
            <a:ext cx="4637160" cy="2428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Verdana"/>
              </a:rPr>
              <a:t>Готовность к школе </a:t>
            </a: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214880" y="3642840"/>
            <a:ext cx="4279680" cy="2428920"/>
          </a:xfrm>
          <a:prstGeom prst="rect">
            <a:avLst/>
          </a:prstGeom>
          <a:solidFill>
            <a:srgbClr val="dfd7e7"/>
          </a:solidFill>
          <a:ln w="12600">
            <a:solidFill>
              <a:srgbClr val="002060"/>
            </a:solidFill>
            <a:miter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Панова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Маргарита  Михайловна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algn="ctr"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педагог-психолог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algn="ctr"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зам. директора по УВР, высшая квалификационная категор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Рисунок 3" descr="20060901093927.jpg"/>
          <p:cNvPicPr/>
          <p:nvPr/>
        </p:nvPicPr>
        <p:blipFill>
          <a:blip r:embed="rId1"/>
          <a:stretch/>
        </p:blipFill>
        <p:spPr>
          <a:xfrm>
            <a:off x="857160" y="3000240"/>
            <a:ext cx="2928960" cy="3116520"/>
          </a:xfrm>
          <a:prstGeom prst="rect">
            <a:avLst/>
          </a:prstGeom>
          <a:ln w="12600">
            <a:solidFill>
              <a:srgbClr val="14425d"/>
            </a:solidFill>
            <a:miter/>
          </a:ln>
        </p:spPr>
      </p:pic>
      <p:pic>
        <p:nvPicPr>
          <p:cNvPr id="230" name="Рисунок 5" descr="image_359.jpg"/>
          <p:cNvPicPr/>
          <p:nvPr/>
        </p:nvPicPr>
        <p:blipFill>
          <a:blip r:embed="rId2"/>
          <a:stretch/>
        </p:blipFill>
        <p:spPr>
          <a:xfrm rot="20287800">
            <a:off x="756720" y="698400"/>
            <a:ext cx="2183040" cy="1803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4643280" cy="121428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Эмоционально-волевая </a:t>
            </a:r>
            <a:r>
              <a:rPr b="1" i="1" lang="ru-RU" sz="2400" spc="-1" strike="noStrike">
                <a:solidFill>
                  <a:srgbClr val="c00000"/>
                </a:solidFill>
                <a:latin typeface="Verdana"/>
              </a:rPr>
              <a:t>готовность предполагает: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71680" y="2071440"/>
            <a:ext cx="4782960" cy="4071960"/>
          </a:xfrm>
          <a:prstGeom prst="rect">
            <a:avLst/>
          </a:prstGeom>
          <a:solidFill>
            <a:srgbClr val="fde5cd"/>
          </a:solidFill>
          <a:ln w="9360">
            <a:solidFill>
              <a:srgbClr val="b45f07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пособность управлять своими эмоциями и поведени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мение организовывать рабочее место и поддерживать порядок в н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ремление преодолевать труд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ремление к достижению результата своей деятель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Рисунок 7" descr="ef70c2d57c0fcf4303343c866a626210.jpg"/>
          <p:cNvPicPr/>
          <p:nvPr/>
        </p:nvPicPr>
        <p:blipFill>
          <a:blip r:embed="rId1"/>
          <a:stretch/>
        </p:blipFill>
        <p:spPr>
          <a:xfrm>
            <a:off x="5572080" y="1143000"/>
            <a:ext cx="30006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429680" cy="100008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Коммуникативная готовность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786120" y="1714320"/>
            <a:ext cx="4786560" cy="4500360"/>
          </a:xfrm>
          <a:prstGeom prst="rect">
            <a:avLst/>
          </a:prstGeom>
          <a:solidFill>
            <a:srgbClr val="fde5cd"/>
          </a:solidFill>
          <a:ln w="9360">
            <a:solidFill>
              <a:srgbClr val="b45f07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Verdana"/>
              </a:rPr>
              <a:t>Это умение ребенка строить свои взаимоотношение с другими людьм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грать и общаться с другими ребятам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ыть включенным в детский коллектив и уметь жить по его законам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щаться со взрослыми людьми, соблюдая правила культурного обращ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брожелательность и отсутствие агрессив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Рисунок 3" descr="1222791382_c4123.jpg"/>
          <p:cNvPicPr/>
          <p:nvPr/>
        </p:nvPicPr>
        <p:blipFill>
          <a:blip r:embed="rId1"/>
          <a:stretch/>
        </p:blipFill>
        <p:spPr>
          <a:xfrm>
            <a:off x="571680" y="1928880"/>
            <a:ext cx="30096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7500960" cy="121428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оциальные страхи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старших дошкольников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713880" y="2643120"/>
            <a:ext cx="4000680" cy="350064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рах ошибки на урок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рах насмешки сверстник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рах наказания и утраты расположения взрослы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Рисунок 3" descr="25233116.jpg"/>
          <p:cNvPicPr/>
          <p:nvPr/>
        </p:nvPicPr>
        <p:blipFill>
          <a:blip r:embed="rId1"/>
          <a:stretch/>
        </p:blipFill>
        <p:spPr>
          <a:xfrm>
            <a:off x="5357880" y="2071800"/>
            <a:ext cx="28717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642960"/>
            <a:ext cx="7429680" cy="92880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Физическая</a:t>
            </a: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готовность  включает: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357800" y="1857240"/>
            <a:ext cx="4286160" cy="4429440"/>
          </a:xfrm>
          <a:prstGeom prst="rect">
            <a:avLst/>
          </a:prstGeom>
          <a:solidFill>
            <a:srgbClr val="fde5cd"/>
          </a:solidFill>
          <a:ln w="9360">
            <a:solidFill>
              <a:srgbClr val="b45f07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стояние здоровь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изическое развит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витие анализаторных сист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витие мелких групп мышц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ординация движений в соответствии с возрастной норм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отовность организма ребенка к  учебным нагрузка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Рисунок 3" descr="1222791352_c4107.jpg"/>
          <p:cNvPicPr/>
          <p:nvPr/>
        </p:nvPicPr>
        <p:blipFill>
          <a:blip r:embed="rId1"/>
          <a:stretch/>
        </p:blipFill>
        <p:spPr>
          <a:xfrm>
            <a:off x="357120" y="1928880"/>
            <a:ext cx="38289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571680"/>
            <a:ext cx="8183520" cy="100008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Возраст поступления в школ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у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13880" y="2071440"/>
            <a:ext cx="3643560" cy="4071960"/>
          </a:xfrm>
          <a:prstGeom prst="rect">
            <a:avLst/>
          </a:prstGeom>
          <a:solidFill>
            <a:srgbClr val="fde5cd"/>
          </a:solidFill>
          <a:ln w="9360">
            <a:solidFill>
              <a:srgbClr val="b45f07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настоящее время в 1 класс поступают дети, достигшие 6 лет и 6 месяце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лавное отличие – у шестилетнего ребенка переход от игровой деятельности к учебной идет медленне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Рисунок 3" descr="denznanij_az.jpg"/>
          <p:cNvPicPr/>
          <p:nvPr/>
        </p:nvPicPr>
        <p:blipFill>
          <a:blip r:embed="rId1"/>
          <a:stretch/>
        </p:blipFill>
        <p:spPr>
          <a:xfrm>
            <a:off x="4714920" y="1714680"/>
            <a:ext cx="3286080" cy="235728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8" descr="6.jpg"/>
          <p:cNvPicPr/>
          <p:nvPr/>
        </p:nvPicPr>
        <p:blipFill>
          <a:blip r:embed="rId2"/>
          <a:stretch/>
        </p:blipFill>
        <p:spPr>
          <a:xfrm>
            <a:off x="5143680" y="4357800"/>
            <a:ext cx="34290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00080" y="533520"/>
            <a:ext cx="7429680" cy="91440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07f09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Здоровье будущего первоклассника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00360" y="1785960"/>
            <a:ext cx="4071960" cy="4000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tIns="91440" anchor="t">
            <a:normAutofit/>
          </a:bodyPr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лемы с зубами – 9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лемы с осанкой – 7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ор-заболевания– 2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лемы зрения – 1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Содержимое 9" descr=""/>
          <p:cNvPicPr/>
          <p:nvPr/>
        </p:nvPicPr>
        <p:blipFill>
          <a:blip r:embed="rId1"/>
          <a:stretch/>
        </p:blipFill>
        <p:spPr>
          <a:xfrm>
            <a:off x="642960" y="1857240"/>
            <a:ext cx="3714840" cy="400068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6" descr="sashka-1sep.jpg"/>
          <p:cNvPicPr/>
          <p:nvPr/>
        </p:nvPicPr>
        <p:blipFill>
          <a:blip r:embed="rId2"/>
          <a:stretch/>
        </p:blipFill>
        <p:spPr>
          <a:xfrm>
            <a:off x="5072040" y="3786120"/>
            <a:ext cx="3214800" cy="2286000"/>
          </a:xfrm>
          <a:prstGeom prst="rect">
            <a:avLst/>
          </a:prstGeom>
          <a:ln w="9360">
            <a:solidFill>
              <a:srgbClr val="b45f0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6143760" cy="100008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Учет особенностей детей 6-7 лет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428760" y="1571760"/>
          <a:ext cx="8143920" cy="4651200"/>
        </p:xfrm>
        <a:graphic>
          <a:graphicData uri="http://schemas.openxmlformats.org/drawingml/2006/table">
            <a:tbl>
              <a:tblPr/>
              <a:tblGrid>
                <a:gridCol w="3714480"/>
                <a:gridCol w="442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соб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пособы их уч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95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реализованная потребность в игров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спользование игровых методов обуч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гровые перемен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151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рах неуда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моциональная поддерж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сильность зад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ачественная оценка работ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амооцениван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туация успех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106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устойчивое вниман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вниманием с использованием внешних стимуляторов речи, звуковых эффект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74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амоутверждение в общении со сверстник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рупповые и парные работ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sp>
        <p:nvSpPr>
          <p:cNvPr id="277" name=""/>
          <p:cNvSpPr txBox="1"/>
          <p:nvPr/>
        </p:nvSpPr>
        <p:spPr>
          <a:xfrm>
            <a:off x="7214760" y="499680"/>
            <a:ext cx="1714680" cy="785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8" name="Рисунок 7" descr="rad2.gif"/>
          <p:cNvPicPr/>
          <p:nvPr/>
        </p:nvPicPr>
        <p:blipFill>
          <a:blip r:embed="rId1"/>
          <a:stretch/>
        </p:blipFill>
        <p:spPr>
          <a:xfrm>
            <a:off x="6786720" y="0"/>
            <a:ext cx="20001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6320" y="4239720"/>
            <a:ext cx="2068200" cy="1739880"/>
          </a:xfrm>
          <a:prstGeom prst="rect">
            <a:avLst/>
          </a:prstGeom>
          <a:solidFill>
            <a:srgbClr val="f2ced2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500040" y="571680"/>
          <a:ext cx="7986600" cy="3192120"/>
        </p:xfrm>
        <a:graphic>
          <a:graphicData uri="http://schemas.openxmlformats.org/drawingml/2006/table">
            <a:tbl>
              <a:tblPr/>
              <a:tblGrid>
                <a:gridCol w="3857760"/>
                <a:gridCol w="412884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соб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пособы их уч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14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моциональная возбудимо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стоянные  и заранее обсужденные дисциплинарные требов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спользование музыки, рисования, пластического движ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сформированность костно-мышечной систем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за посадко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альчиковая гимнасти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изическая утомляемо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ередование умственной и физической актив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p:pic>
        <p:nvPicPr>
          <p:cNvPr id="281" name="Содержимое 14" descr="e34dc1c6cb05.jpg"/>
          <p:cNvPicPr/>
          <p:nvPr/>
        </p:nvPicPr>
        <p:blipFill>
          <a:blip r:embed="rId1"/>
          <a:stretch/>
        </p:blipFill>
        <p:spPr>
          <a:xfrm>
            <a:off x="571680" y="4000680"/>
            <a:ext cx="4857480" cy="250020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16" descr="antn027.gif"/>
          <p:cNvPicPr/>
          <p:nvPr/>
        </p:nvPicPr>
        <p:blipFill>
          <a:blip r:embed="rId2"/>
          <a:stretch/>
        </p:blipFill>
        <p:spPr>
          <a:xfrm>
            <a:off x="5786280" y="4000680"/>
            <a:ext cx="28576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85560" y="571680"/>
            <a:ext cx="6715080" cy="100008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Цель подготовки детей к школе –   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выравнивание стартовых возможностей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4" name="Текст 2" descr=""/>
          <p:cNvPicPr/>
          <p:nvPr/>
        </p:nvPicPr>
        <p:blipFill>
          <a:blip r:embed="rId1"/>
          <a:stretch/>
        </p:blipFill>
        <p:spPr>
          <a:xfrm>
            <a:off x="4309920" y="1847880"/>
            <a:ext cx="4370400" cy="45291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713880" y="1928880"/>
            <a:ext cx="3000600" cy="1714320"/>
          </a:xfrm>
          <a:prstGeom prst="rect">
            <a:avLst/>
          </a:prstGeom>
          <a:solidFill>
            <a:srgbClr val="fde5cd"/>
          </a:solidFill>
          <a:ln w="9360">
            <a:solidFill>
              <a:srgbClr val="b45f07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Функци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пенсирующа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даптивна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вивающа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Рисунок 5" descr="csh.gif"/>
          <p:cNvPicPr/>
          <p:nvPr/>
        </p:nvPicPr>
        <p:blipFill>
          <a:blip r:embed="rId2"/>
          <a:stretch/>
        </p:blipFill>
        <p:spPr>
          <a:xfrm>
            <a:off x="1071720" y="3357720"/>
            <a:ext cx="4052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56800" y="533520"/>
            <a:ext cx="4286520" cy="91440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Цель учителя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500600" y="2928600"/>
            <a:ext cx="1009800" cy="2786040"/>
          </a:xfrm>
          <a:prstGeom prst="rect">
            <a:avLst/>
          </a:prstGeom>
          <a:gradFill rotWithShape="0">
            <a:gsLst>
              <a:gs pos="0">
                <a:srgbClr val="ffb280"/>
              </a:gs>
              <a:gs pos="100000">
                <a:srgbClr val="ffe8da"/>
              </a:gs>
            </a:gsLst>
            <a:lin ang="16200000"/>
          </a:gradFill>
          <a:ln w="9360">
            <a:solidFill>
              <a:srgbClr val="f07c0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187560" rIns="94680" tIns="96120" bIns="5148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714400" y="2143080"/>
            <a:ext cx="5786280" cy="428616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здание у детей познавательной мотива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уществление преемственности в воспитании, обучении и развитии дошкольник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витие навыков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ключение дублирования школьной программы при подготовке детей к обучени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здание условий для всестороннего развития дете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" name="Рисунок 4" descr="1219806266_shokola-5.jpg"/>
          <p:cNvPicPr/>
          <p:nvPr/>
        </p:nvPicPr>
        <p:blipFill>
          <a:blip r:embed="rId1"/>
          <a:stretch/>
        </p:blipFill>
        <p:spPr>
          <a:xfrm rot="493200">
            <a:off x="5608800" y="173160"/>
            <a:ext cx="2549520" cy="1693800"/>
          </a:xfrm>
          <a:prstGeom prst="rect">
            <a:avLst/>
          </a:prstGeom>
          <a:ln w="0">
            <a:noFill/>
          </a:ln>
        </p:spPr>
      </p:pic>
      <p:pic>
        <p:nvPicPr>
          <p:cNvPr id="291" name="Рисунок 9" descr="1sent.jpg"/>
          <p:cNvPicPr/>
          <p:nvPr/>
        </p:nvPicPr>
        <p:blipFill>
          <a:blip r:embed="rId2"/>
          <a:stretch/>
        </p:blipFill>
        <p:spPr>
          <a:xfrm>
            <a:off x="357120" y="2071800"/>
            <a:ext cx="22147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072640" cy="92880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45720" rIns="45720" t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Готовность</a:t>
            </a: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к школе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714480" y="1785960"/>
            <a:ext cx="5072040" cy="4572000"/>
          </a:xfrm>
          <a:prstGeom prst="rect">
            <a:avLst/>
          </a:prstGeom>
          <a:solidFill>
            <a:srgbClr val="f3eade"/>
          </a:solidFill>
          <a:ln w="9360">
            <a:solidFill>
              <a:srgbClr val="002060"/>
            </a:solidFill>
            <a:miter/>
          </a:ln>
        </p:spPr>
        <p:txBody>
          <a:bodyPr lIns="182880" tIns="0" anchor="t">
            <a:noAutofit/>
          </a:bodyPr>
          <a:p>
            <a:pPr marL="363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Verdana"/>
              </a:rPr>
              <a:t>включает в себя несколько компонентов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9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Психологическая готов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Verdana"/>
              </a:rPr>
              <a:t>Интеллектуальная, мотивационная, волевая, коммуникативна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9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Физическая готов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Verdana"/>
              </a:rPr>
              <a:t>	</a:t>
            </a:r>
            <a:r>
              <a:rPr b="0" i="1" lang="ru-RU" sz="2200" spc="-1" strike="noStrike">
                <a:solidFill>
                  <a:srgbClr val="0070c0"/>
                </a:solidFill>
                <a:latin typeface="Verdana"/>
              </a:rPr>
              <a:t>Здоровье, моторика рук, движения, возрас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9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Специальная готов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Verdana"/>
              </a:rPr>
              <a:t>Чтение, счет, учебные умени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2" descr="C:\Program Files\Microsoft Office\CLIPART\PUB60COR\AN00790_.WMF"/>
          <p:cNvPicPr/>
          <p:nvPr/>
        </p:nvPicPr>
        <p:blipFill>
          <a:blip r:embed="rId1"/>
          <a:stretch/>
        </p:blipFill>
        <p:spPr>
          <a:xfrm>
            <a:off x="285840" y="1785960"/>
            <a:ext cx="3286080" cy="42861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57160" y="571680"/>
            <a:ext cx="7429680" cy="1071360"/>
          </a:xfrm>
          <a:prstGeom prst="rect">
            <a:avLst/>
          </a:prstGeom>
          <a:gradFill rotWithShape="0">
            <a:gsLst>
              <a:gs pos="0">
                <a:srgbClr val="c4b7d4"/>
              </a:gs>
              <a:gs pos="100000">
                <a:srgbClr val="efecf4"/>
              </a:gs>
            </a:gsLst>
            <a:lin ang="16200000"/>
          </a:gradFill>
          <a:ln w="9360">
            <a:solidFill>
              <a:srgbClr val="5e457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ru-RU" sz="2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Адаптация ребенка к школе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715080" y="2071440"/>
            <a:ext cx="1795680" cy="40719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71320" y="1856880"/>
            <a:ext cx="6072120" cy="428652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няется социальная позиция ребенка: он становится ученик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исходит смена ведущей деятель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няется его социальное окружение. Успешность зависит от позиции среди сверстник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лема сдерживания двигательной активно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никновение специфических реакций: страхи, срывы, повышенная слезливость, заторможенно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5" name="Рисунок 5" descr="i.jpg"/>
          <p:cNvPicPr/>
          <p:nvPr/>
        </p:nvPicPr>
        <p:blipFill>
          <a:blip r:embed="rId1"/>
          <a:stretch/>
        </p:blipFill>
        <p:spPr>
          <a:xfrm>
            <a:off x="6715080" y="1857240"/>
            <a:ext cx="1928880" cy="4286520"/>
          </a:xfrm>
          <a:prstGeom prst="rect">
            <a:avLst/>
          </a:prstGeom>
          <a:ln w="0">
            <a:noFill/>
          </a:ln>
        </p:spPr>
      </p:pic>
      <p:pic>
        <p:nvPicPr>
          <p:cNvPr id="296" name="Рисунок 6" descr="deti0000.gif"/>
          <p:cNvPicPr/>
          <p:nvPr/>
        </p:nvPicPr>
        <p:blipFill>
          <a:blip r:embed="rId2"/>
          <a:stretch/>
        </p:blipFill>
        <p:spPr>
          <a:xfrm>
            <a:off x="500040" y="285840"/>
            <a:ext cx="171468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14240" y="571320"/>
            <a:ext cx="7715520" cy="92844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Схема социально-психологической 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адаптации школьника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357960" y="1928880"/>
            <a:ext cx="2152800" cy="4214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Содержимое 5" descr=""/>
          <p:cNvPicPr/>
          <p:nvPr/>
        </p:nvPicPr>
        <p:blipFill>
          <a:blip r:embed="rId1"/>
          <a:stretch/>
        </p:blipFill>
        <p:spPr>
          <a:xfrm>
            <a:off x="493560" y="1481040"/>
            <a:ext cx="5383440" cy="510876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8" descr="p33_4.jpg"/>
          <p:cNvPicPr/>
          <p:nvPr/>
        </p:nvPicPr>
        <p:blipFill>
          <a:blip r:embed="rId2"/>
          <a:stretch/>
        </p:blipFill>
        <p:spPr>
          <a:xfrm>
            <a:off x="6072120" y="1785960"/>
            <a:ext cx="235764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28800" y="533160"/>
            <a:ext cx="7572240" cy="89532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Какова цена учебных достижений?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538600" y="1785960"/>
            <a:ext cx="2971800" cy="4000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99680" y="1642680"/>
            <a:ext cx="4714920" cy="472428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Признаки переутомлени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рушение с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рушение аппети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лохое самочувств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рушение памяти: забывчивость, потеря вещей, рассеянность, запинки в реч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уетливость, неточность в движения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призы, излишняя подвижность и агрессив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ставший ви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Рисунок 4" descr="1219805204_shokola-1.jpg"/>
          <p:cNvPicPr/>
          <p:nvPr/>
        </p:nvPicPr>
        <p:blipFill>
          <a:blip r:embed="rId1"/>
          <a:stretch/>
        </p:blipFill>
        <p:spPr>
          <a:xfrm>
            <a:off x="5357880" y="1643040"/>
            <a:ext cx="34621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71720" y="533520"/>
            <a:ext cx="7439040" cy="75240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07f09"/>
                </a:solidFill>
                <a:latin typeface="Verdana"/>
              </a:rPr>
              <a:t>	</a:t>
            </a: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Готовы ли родители к школе?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500280" y="1571400"/>
            <a:ext cx="5010480" cy="4714920"/>
          </a:xfrm>
          <a:prstGeom prst="rect">
            <a:avLst/>
          </a:prstGeom>
          <a:solidFill>
            <a:srgbClr val="fde5cd"/>
          </a:solidFill>
          <a:ln w="9360">
            <a:solidFill>
              <a:srgbClr val="b45f07"/>
            </a:solidFill>
            <a:miter/>
          </a:ln>
        </p:spPr>
        <p:txBody>
          <a:bodyPr tIns="9144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ертвовать своим личным временем  и некоторыми привычка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держивать свои эмо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 кричать, не унижать и не обижа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 сравнивать своего ребенка с другими деть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 наказывать ребенка без причин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егда встречать ребенка из школы с улыбко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ыть щедрым на похвалу за достигнутые результат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7" name="Содержимое 8" descr="5972282e64cbt.jpg"/>
          <p:cNvPicPr/>
          <p:nvPr/>
        </p:nvPicPr>
        <p:blipFill>
          <a:blip r:embed="rId1"/>
          <a:stretch/>
        </p:blipFill>
        <p:spPr>
          <a:xfrm>
            <a:off x="571680" y="1714680"/>
            <a:ext cx="2714400" cy="40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85520" y="714240"/>
            <a:ext cx="7358040" cy="121464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3600" spc="-1" strike="noStrike">
                <a:solidFill>
                  <a:srgbClr val="c00000"/>
                </a:solidFill>
                <a:latin typeface="Verdana"/>
              </a:rPr>
              <a:t>Спасибо за внимание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09" name="Содержимое 4" descr="8c2e29e827a6t.jpg"/>
          <p:cNvPicPr/>
          <p:nvPr/>
        </p:nvPicPr>
        <p:blipFill>
          <a:blip r:embed="rId1"/>
          <a:stretch/>
        </p:blipFill>
        <p:spPr>
          <a:xfrm>
            <a:off x="2571840" y="2286000"/>
            <a:ext cx="3643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28800" y="500040"/>
            <a:ext cx="7286400" cy="92880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Verdana"/>
              </a:rPr>
              <a:t>   </a:t>
            </a:r>
            <a:r>
              <a:rPr b="1" lang="ru-RU" sz="2500" spc="-1" strike="noStrike">
                <a:solidFill>
                  <a:srgbClr val="c00000"/>
                </a:solidFill>
                <a:latin typeface="Verdana"/>
              </a:rPr>
              <a:t>Психологическая готовность - это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71680" y="1714680"/>
            <a:ext cx="5357520" cy="457200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обходимый и достаточный уровень психического развития ребенка для освоения школьной учебной программы в условиях обучения в коллективе сверстник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         </a:t>
            </a: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Один из важнейших  итогов психического развития в период дошкольного детств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лог быстрой и безболезненной адаптации в начале учебного год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спешное усвоение школьного материал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Рисунок 4" descr="1220266612_1-sentjabrja.jpg"/>
          <p:cNvPicPr/>
          <p:nvPr/>
        </p:nvPicPr>
        <p:blipFill>
          <a:blip r:embed="rId1"/>
          <a:stretch/>
        </p:blipFill>
        <p:spPr>
          <a:xfrm>
            <a:off x="6143760" y="1643040"/>
            <a:ext cx="2786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429680" cy="85716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i="1" lang="ru-RU" sz="2400" spc="-1" strike="noStrike">
                <a:solidFill>
                  <a:srgbClr val="c00000"/>
                </a:solidFill>
                <a:latin typeface="Verdana"/>
              </a:rPr>
              <a:t>Интеллектуальная</a:t>
            </a:r>
            <a:r>
              <a:rPr b="1" i="1" lang="ru-RU" sz="2200" spc="-1" strike="noStrike">
                <a:solidFill>
                  <a:srgbClr val="c00000"/>
                </a:solidFill>
                <a:latin typeface="Verdana"/>
              </a:rPr>
              <a:t> готовность - это</a:t>
            </a:r>
            <a:br>
              <a:rPr sz="2200"/>
            </a:b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143240" y="1571760"/>
            <a:ext cx="4429440" cy="492912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Ориентировка ребенка в окружающ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Запас знаний, усвоенных в систе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Желание узнавать новое, любознательно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Развитие образных представл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Развитие речи и мышления в соответствии с возрастной нормо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Смысловое запоминан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Содержимое 6" descr="1221463800_0lik_ru_otr_01.jpg"/>
          <p:cNvPicPr/>
          <p:nvPr/>
        </p:nvPicPr>
        <p:blipFill>
          <a:blip r:embed="rId1"/>
          <a:stretch/>
        </p:blipFill>
        <p:spPr>
          <a:xfrm>
            <a:off x="571680" y="1643040"/>
            <a:ext cx="3371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42600" y="571680"/>
            <a:ext cx="7643880" cy="100008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Мотивационная    готовность - это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99680" y="1999800"/>
            <a:ext cx="4714920" cy="378612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Наличие у ребенка познавательных интерес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юбит книг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юбит решать задачки и кроссворды и др. интеллектуальные зада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юбознателен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дает много вопрос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Содержимое 4" descr="1222791427_c4103.jpg"/>
          <p:cNvPicPr/>
          <p:nvPr/>
        </p:nvPicPr>
        <p:blipFill>
          <a:blip r:embed="rId1"/>
          <a:stretch/>
        </p:blipFill>
        <p:spPr>
          <a:xfrm>
            <a:off x="5357880" y="1785960"/>
            <a:ext cx="33336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1320" y="500040"/>
            <a:ext cx="8072280" cy="92880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1f28"/>
                </a:solidFill>
                <a:latin typeface="Verdana"/>
              </a:rPr>
              <a:t>Признаки познавательной активности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00040" y="1785960"/>
            <a:ext cx="4286160" cy="450072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бенок занимается умственной деятельность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почитает сам найти ответ на загадку, вопро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сит почитать книги, дослушивает до конц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ожительно относится к занятиям, связанными с умственным напряжение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асто задает вопросы, в т.ч. вопросы-цепоч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жидается ответа на поставленный вопро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Содержимое 4" descr="1220501215_umen.gif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4929120" y="2000160"/>
            <a:ext cx="36813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14240" y="571680"/>
            <a:ext cx="7715520" cy="78552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«</a:t>
            </a:r>
            <a:r>
              <a:rPr b="1" i="1" lang="ru-RU" sz="2800" spc="-1" strike="noStrike">
                <a:solidFill>
                  <a:srgbClr val="7030a0"/>
                </a:solidFill>
                <a:latin typeface="Verdana"/>
              </a:rPr>
              <a:t>Социальная позиция школьника</a:t>
            </a: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»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71320" y="1643040"/>
            <a:ext cx="4786200" cy="450072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ключает сформированность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нимание  необходимости учения и того, что учеба отличается от игры, она требует ответственности и серьез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моционально –благополучное отношение к школ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Содержимое 7" descr="1222791359_c4132.jpg"/>
          <p:cNvPicPr/>
          <p:nvPr/>
        </p:nvPicPr>
        <p:blipFill>
          <a:blip r:embed="rId1"/>
          <a:stretch/>
        </p:blipFill>
        <p:spPr>
          <a:xfrm>
            <a:off x="5659560" y="1571760"/>
            <a:ext cx="24843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00080" y="571320"/>
            <a:ext cx="7215120" cy="92844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i="1" lang="ru-RU" sz="2400" spc="-1" strike="noStrike">
                <a:solidFill>
                  <a:srgbClr val="c00000"/>
                </a:solidFill>
                <a:latin typeface="Verdana"/>
              </a:rPr>
              <a:t>Личностная и социально-психологическая готовность - это</a:t>
            </a:r>
            <a:br>
              <a:rPr sz="2200"/>
            </a:b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57160" y="1901880"/>
            <a:ext cx="4786560" cy="4384800"/>
          </a:xfrm>
          <a:prstGeom prst="rect">
            <a:avLst/>
          </a:prstGeom>
          <a:solidFill>
            <a:srgbClr val="fde5cd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Принятие позиции школьника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Потребность в общен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Умение подчиняться правилам и интересам групп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Способность устанавливать отношения с другими деть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Способность действовать совместно с другими деть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Рисунок 3" descr="1191268962_c4106.jpg"/>
          <p:cNvPicPr/>
          <p:nvPr/>
        </p:nvPicPr>
        <p:blipFill>
          <a:blip r:embed="rId1"/>
          <a:stretch/>
        </p:blipFill>
        <p:spPr>
          <a:xfrm>
            <a:off x="6143760" y="1857240"/>
            <a:ext cx="221436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3280" y="714240"/>
            <a:ext cx="7926480" cy="1500480"/>
          </a:xfrm>
          <a:prstGeom prst="rect">
            <a:avLst/>
          </a:prstGeom>
          <a:gradFill rotWithShape="0">
            <a:gsLst>
              <a:gs pos="0">
                <a:srgbClr val="ffd5a5"/>
              </a:gs>
              <a:gs pos="100000">
                <a:srgbClr val="fff3e6"/>
              </a:gs>
            </a:gsLst>
            <a:lin ang="16200000"/>
          </a:gradFill>
          <a:ln w="9360">
            <a:solidFill>
              <a:srgbClr val="bf95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Волевая готовность означает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умение сдерживать  и контролировать поведение, а так  же: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00040" y="2571480"/>
            <a:ext cx="5214960" cy="3714840"/>
          </a:xfrm>
          <a:prstGeom prst="rect">
            <a:avLst/>
          </a:prstGeom>
          <a:solidFill>
            <a:srgbClr val="fbcc9a"/>
          </a:solidFill>
          <a:ln w="9360">
            <a:solidFill>
              <a:srgbClr val="fde5cd"/>
            </a:solidFill>
            <a:miter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мение сознательно подчинять свои действия правилу, обобщенно определяющему способ действ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мение ориентироваться на заданную систему требова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мение внимательно слушать говорящего и точно выполнять зада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Рисунок 3" descr="1222791425_c4124.jpg"/>
          <p:cNvPicPr/>
          <p:nvPr/>
        </p:nvPicPr>
        <p:blipFill>
          <a:blip r:embed="rId1"/>
          <a:stretch/>
        </p:blipFill>
        <p:spPr>
          <a:xfrm>
            <a:off x="6072120" y="2428920"/>
            <a:ext cx="2419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8T03:54:02Z</dcterms:created>
  <dc:creator>User</dc:creator>
  <dc:description/>
  <dc:language>en-US</dc:language>
  <cp:lastModifiedBy>User</cp:lastModifiedBy>
  <dcterms:modified xsi:type="dcterms:W3CDTF">2012-03-02T06:02:00Z</dcterms:modified>
  <cp:revision>132</cp:revision>
  <dc:subject/>
  <dc:title>Готовность к школе</dc:title>
</cp:coreProperties>
</file>