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6.wmf" ContentType="image/x-wmf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9886-DFA3-4506-A7E1-73E08BC661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FCED-1ADA-4D9D-8B5B-07413B2938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CD13-B17F-4C7C-98D6-8A805681E8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E4D-9A2C-41C3-AFB6-63955127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5B3-C31E-4988-9B0A-C8E507D1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B9B-D9A3-4D34-8F33-3E169C37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15F-2C05-46D8-AB34-2EEAD7C1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F693-9C2B-480F-80A3-88543DC5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1766-902D-491A-9C27-DBAEF8A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FD91-23EE-45D1-8B7A-C6811809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C27-75CB-4357-9916-93224133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71DA-4A12-4C91-B397-19A5142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8AE2-E082-4058-BCD8-0C9495A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C57B-B66A-4472-8C51-1953004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4A2-D887-4418-BA2A-02A0778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074E-AC9A-4821-B7BD-253BD1F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36E0-6B6C-4898-98FD-837845DE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E5E4-5B7E-4C53-9F21-13067BA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BD3C-87E1-4513-A7DA-A2A31BB4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246F-004B-44B1-9B89-A49E647A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56CB-3CA8-4015-9F1B-D833AEAE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1FE8-23A5-416A-9951-40A12743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D0C0-2AF0-47FD-8EE2-9EB8E9B5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15FF-7560-4CF7-97AE-5BBF5E26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DA75-D7AE-4B74-A51C-6FB32B05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F82-A5FB-4550-AFA7-A66A597E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54A0-BA42-4462-B51D-F34592CD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2B8B-9DDF-4B80-BF56-0743E09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BDCF-9997-4E2F-B4D4-BBA4383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3982-C485-489C-84DC-BF0A9835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430F-DA9A-4E7B-914E-0F55EEC2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D5E9-222F-41C7-B996-3C701BE0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BD79-C867-423D-84F9-190A9DA5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7D8E-B9FF-4304-A083-D8677C2D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DB2C-2711-476A-B60C-7CF66B7C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F0F3-7999-46EA-94B0-DE8E3F19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6CC-FE09-4C2A-861B-E068C60A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97D0-86A6-4E6B-9215-3AFEC8F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E686-5D34-4F30-A5BB-7623BBCF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A822-48C0-4CE8-A020-51EDF47E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5C21-3E05-4684-B321-3A97145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7336-6F0A-40A6-805C-31692FCC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987C-3C18-4396-BCF1-DCC667AF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A1A5-27C4-4905-A47D-C395B5BB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E655-6EC8-4878-8D17-62FD396E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96FA-2228-4E6F-9FBE-E3B0C187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9A0D-FA0A-4C90-8646-C4D44ACE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275-9BE1-4AFE-B4AF-87E7A49A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304E6-A574-4C47-BA17-7B854AC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B34F5-FE10-4100-B196-4CB42A57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41A8E-0C1C-4785-803A-A7A097D6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08BAF-880E-4FC3-BFB3-77529FC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28BFC-A5E8-44E3-8EAD-8221A711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588E5-C72E-475E-BCA7-212B30B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2D80-F21B-4A8E-8996-6CBE7CE5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0913-205F-451B-ADD8-735C4461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642F-58B3-4D28-8C20-E4F42C7A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3FA1-B272-4280-B4DE-A797A33B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D3B-7A4B-4D26-B2C7-CC088EAF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F88B4-53AF-4E16-A7A8-D6B006B3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888-21D1-4D77-B73D-F965A18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A99-E435-43A3-AFCF-2BC55A9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2F9-FFAE-4E26-8F2B-21C2948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320-C0E5-447A-8152-441316AC8C7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FD70-766D-48E0-844A-A77265FC496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C32F-D63F-459D-8672-79C451C11F5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D317-E229-4C1B-8CE8-CA3B9A102B8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93A9-90F5-42A6-9E02-9B7B98B8B1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50920" y="764640"/>
            <a:ext cx="463716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Готовность к школе 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214880" y="3642840"/>
            <a:ext cx="4279680" cy="2428920"/>
          </a:xfrm>
          <a:prstGeom prst="rect">
            <a:avLst/>
          </a:prstGeom>
          <a:solidFill>
            <a:srgbClr val="dfd7e7"/>
          </a:solidFill>
          <a:ln w="1260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анова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Маргарита  Михайловна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едагог-психолог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зам. директора по УВР, высшая квалификационная категор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20060901093927.jpg"/>
          <p:cNvPicPr/>
          <p:nvPr/>
        </p:nvPicPr>
        <p:blipFill>
          <a:blip r:embed="rId1"/>
          <a:stretch/>
        </p:blipFill>
        <p:spPr>
          <a:xfrm>
            <a:off x="857160" y="3000240"/>
            <a:ext cx="2928960" cy="3116520"/>
          </a:xfrm>
          <a:prstGeom prst="rect">
            <a:avLst/>
          </a:prstGeom>
          <a:ln w="12600">
            <a:solidFill>
              <a:srgbClr val="14425d"/>
            </a:solidFill>
            <a:miter/>
          </a:ln>
        </p:spPr>
      </p:pic>
      <p:pic>
        <p:nvPicPr>
          <p:cNvPr id="230" name="Рисунок 5" descr="image_359.jpg"/>
          <p:cNvPicPr/>
          <p:nvPr/>
        </p:nvPicPr>
        <p:blipFill>
          <a:blip r:embed="rId2"/>
          <a:stretch/>
        </p:blipFill>
        <p:spPr>
          <a:xfrm rot="20287800">
            <a:off x="756720" y="698400"/>
            <a:ext cx="2183040" cy="180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4643280" cy="12142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Эмоционально-волевая </a:t>
            </a: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готовность предполагает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71680" y="2071440"/>
            <a:ext cx="47829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особность управлять своими эмоциями и повед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организовывать рабочее место и поддерживать порядок в 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емление преодолевать труд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емление к достижению результата сво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Рисунок 7" descr="ef70c2d57c0fcf4303343c866a626210.jpg"/>
          <p:cNvPicPr/>
          <p:nvPr/>
        </p:nvPicPr>
        <p:blipFill>
          <a:blip r:embed="rId1"/>
          <a:stretch/>
        </p:blipFill>
        <p:spPr>
          <a:xfrm>
            <a:off x="5572080" y="1143000"/>
            <a:ext cx="3000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429680" cy="10000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оммуникативная готовность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786120" y="1714320"/>
            <a:ext cx="4786560" cy="45003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Это умение ребенка строить свои взаимоотношение с другими людь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ать и общаться с другими ребя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включенным в детский коллектив и уметь жить по его закон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аться со взрослыми людьми, соблюдая правила культурного обращ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рожелательность и отсутствие агрессив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Рисунок 3" descr="1222791382_c4123.jpg"/>
          <p:cNvPicPr/>
          <p:nvPr/>
        </p:nvPicPr>
        <p:blipFill>
          <a:blip r:embed="rId1"/>
          <a:stretch/>
        </p:blipFill>
        <p:spPr>
          <a:xfrm>
            <a:off x="571680" y="1928880"/>
            <a:ext cx="30096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2142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циальные страх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старших дошкольников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13880" y="2643120"/>
            <a:ext cx="4000680" cy="3500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ошибки на ур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насмешк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наказания и утраты расположения взросл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Рисунок 3" descr="252331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2871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42960"/>
            <a:ext cx="7429680" cy="9288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Физическая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готовность  включает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357800" y="1857240"/>
            <a:ext cx="4286160" cy="442944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е здоров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зическое развит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анализаторных сист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мелких групп мыш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ординация движений в соответствии с возрастной норм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ность организма ребенка к  учебным нагрузк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Рисунок 3" descr="1222791352_c4107.jpg"/>
          <p:cNvPicPr/>
          <p:nvPr/>
        </p:nvPicPr>
        <p:blipFill>
          <a:blip r:embed="rId1"/>
          <a:stretch/>
        </p:blipFill>
        <p:spPr>
          <a:xfrm>
            <a:off x="357120" y="1928880"/>
            <a:ext cx="3828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Возраст поступления в школ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3880" y="2071440"/>
            <a:ext cx="36435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в 1 класс поступают дети, достигшие 6 лет и 6 месяц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ое отличие – у шестилетнего ребенка переход от игровой деятельности к учебной идет медленн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Рисунок 3" descr="denznanij_az.jpg"/>
          <p:cNvPicPr/>
          <p:nvPr/>
        </p:nvPicPr>
        <p:blipFill>
          <a:blip r:embed="rId1"/>
          <a:stretch/>
        </p:blipFill>
        <p:spPr>
          <a:xfrm>
            <a:off x="4714920" y="1714680"/>
            <a:ext cx="3286080" cy="2357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8" descr="6.jpg"/>
          <p:cNvPicPr/>
          <p:nvPr/>
        </p:nvPicPr>
        <p:blipFill>
          <a:blip r:embed="rId2"/>
          <a:stretch/>
        </p:blipFill>
        <p:spPr>
          <a:xfrm>
            <a:off x="5143680" y="4357800"/>
            <a:ext cx="3429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0080" y="533520"/>
            <a:ext cx="7429680" cy="914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Здоровье будущего первоклассника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00360" y="1785960"/>
            <a:ext cx="4071960" cy="4000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с зубами – 9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с осанкой – 7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ор-заболевания–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зрения – 1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Содержимое 9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714840" cy="40006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" descr="sashka-1sep.jpg"/>
          <p:cNvPicPr/>
          <p:nvPr/>
        </p:nvPicPr>
        <p:blipFill>
          <a:blip r:embed="rId2"/>
          <a:stretch/>
        </p:blipFill>
        <p:spPr>
          <a:xfrm>
            <a:off x="5072040" y="3786120"/>
            <a:ext cx="3214800" cy="2286000"/>
          </a:xfrm>
          <a:prstGeom prst="rect">
            <a:avLst/>
          </a:prstGeom>
          <a:ln w="9360">
            <a:solidFill>
              <a:srgbClr val="b45f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6143760" cy="10000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чет особенностей детей 6-7 лет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28760" y="1571760"/>
          <a:ext cx="8143920" cy="4651200"/>
        </p:xfrm>
        <a:graphic>
          <a:graphicData uri="http://schemas.openxmlformats.org/drawingml/2006/table">
            <a:tbl>
              <a:tblPr/>
              <a:tblGrid>
                <a:gridCol w="3714480"/>
                <a:gridCol w="442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пособы их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реализованная потребность в игров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ьзование игровых методов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переме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5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х неу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моциональная поддерж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ильность зад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чественная оценка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оцени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туация успех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устойчивое вним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вниманием с использованием внешних стимуляторов речи, звуковых эффек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утверждение в общении со сверстни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пповые и парные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 txBox="1"/>
          <p:nvPr/>
        </p:nvSpPr>
        <p:spPr>
          <a:xfrm>
            <a:off x="7214760" y="499680"/>
            <a:ext cx="1714680" cy="78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Рисунок 7" descr="rad2.gif"/>
          <p:cNvPicPr/>
          <p:nvPr/>
        </p:nvPicPr>
        <p:blipFill>
          <a:blip r:embed="rId1"/>
          <a:stretch/>
        </p:blipFill>
        <p:spPr>
          <a:xfrm>
            <a:off x="6786720" y="0"/>
            <a:ext cx="20001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6320" y="4239720"/>
            <a:ext cx="2068200" cy="1739880"/>
          </a:xfrm>
          <a:prstGeom prst="rect">
            <a:avLst/>
          </a:prstGeom>
          <a:solidFill>
            <a:srgbClr val="f2ced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00040" y="571680"/>
          <a:ext cx="7986600" cy="3192120"/>
        </p:xfrm>
        <a:graphic>
          <a:graphicData uri="http://schemas.openxmlformats.org/drawingml/2006/table">
            <a:tbl>
              <a:tblPr/>
              <a:tblGrid>
                <a:gridCol w="3857760"/>
                <a:gridCol w="412884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пособы их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моциональная возбудим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оянные  и заранее обсужденные дисциплинарные треб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ьзование музыки, рисования, пластического движ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сформированность костно-мышечной систе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за посад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льчиковая гимнаст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еская утомляем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едование умственной и физической ак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81" name="Содержимое 14" descr="e34dc1c6cb05.jpg"/>
          <p:cNvPicPr/>
          <p:nvPr/>
        </p:nvPicPr>
        <p:blipFill>
          <a:blip r:embed="rId1"/>
          <a:stretch/>
        </p:blipFill>
        <p:spPr>
          <a:xfrm>
            <a:off x="571680" y="4000680"/>
            <a:ext cx="4857480" cy="25002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6" descr="antn027.gif"/>
          <p:cNvPicPr/>
          <p:nvPr/>
        </p:nvPicPr>
        <p:blipFill>
          <a:blip r:embed="rId2"/>
          <a:stretch/>
        </p:blipFill>
        <p:spPr>
          <a:xfrm>
            <a:off x="5786280" y="4000680"/>
            <a:ext cx="2857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85560" y="571680"/>
            <a:ext cx="6715080" cy="10000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Цель подготовки детей к школе –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выравнивание стартовых возможностей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4" name="Текст 2" descr=""/>
          <p:cNvPicPr/>
          <p:nvPr/>
        </p:nvPicPr>
        <p:blipFill>
          <a:blip r:embed="rId1"/>
          <a:stretch/>
        </p:blipFill>
        <p:spPr>
          <a:xfrm>
            <a:off x="4309920" y="1847880"/>
            <a:ext cx="4370400" cy="4529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713880" y="1928880"/>
            <a:ext cx="3000600" cy="17143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Функц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енсирующа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даптивна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вающа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Рисунок 5" descr="csh.gif"/>
          <p:cNvPicPr/>
          <p:nvPr/>
        </p:nvPicPr>
        <p:blipFill>
          <a:blip r:embed="rId2"/>
          <a:stretch/>
        </p:blipFill>
        <p:spPr>
          <a:xfrm>
            <a:off x="1071720" y="3357720"/>
            <a:ext cx="4052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56800" y="533520"/>
            <a:ext cx="4286520" cy="914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Цель учителя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00600" y="2928600"/>
            <a:ext cx="1009800" cy="278604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7560" rIns="94680" tIns="96120" bIns="5148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714400" y="2143080"/>
            <a:ext cx="5786280" cy="428616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ние у детей познавательной мотив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уществление преемственности в воспитании, обучении и развитии дошколь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навыков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ключение дублирования школьной программы при подготовке детей к обу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ние условий для всестороннего развития дет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Рисунок 4" descr="1219806266_shokola-5.jpg"/>
          <p:cNvPicPr/>
          <p:nvPr/>
        </p:nvPicPr>
        <p:blipFill>
          <a:blip r:embed="rId1"/>
          <a:stretch/>
        </p:blipFill>
        <p:spPr>
          <a:xfrm rot="493200">
            <a:off x="5608800" y="173160"/>
            <a:ext cx="2549520" cy="169380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9" descr="1sent.jpg"/>
          <p:cNvPicPr/>
          <p:nvPr/>
        </p:nvPicPr>
        <p:blipFill>
          <a:blip r:embed="rId2"/>
          <a:stretch/>
        </p:blipFill>
        <p:spPr>
          <a:xfrm>
            <a:off x="357120" y="2071800"/>
            <a:ext cx="2214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отовность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solidFill>
            <a:srgbClr val="f3eade"/>
          </a:solidFill>
          <a:ln w="936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Verdana"/>
              </a:rPr>
              <a:t>включает в себя несколько компонент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Интеллектуальная, мотивационная, волевая, коммуникатив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Физ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Здоровье, моторика рук, движения, возра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Специальн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Чтение, счет, учебные у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C:\Program Files\Microsoft Office\CLIPART\PUB60COR\AN00790_.WMF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429680" cy="1071360"/>
          </a:xfrm>
          <a:prstGeom prst="rect">
            <a:avLst/>
          </a:prstGeom>
          <a:gradFill rotWithShape="0">
            <a:gsLst>
              <a:gs pos="0">
                <a:srgbClr val="c4b7d4"/>
              </a:gs>
              <a:gs pos="100000">
                <a:srgbClr val="efecf4"/>
              </a:gs>
            </a:gsLst>
            <a:lin ang="16200000"/>
          </a:gradFill>
          <a:ln w="9360">
            <a:solidFill>
              <a:srgbClr val="5e457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Адаптация ребенка к школ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715080" y="2071440"/>
            <a:ext cx="179568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71320" y="1856880"/>
            <a:ext cx="6072120" cy="4286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социальная позиция ребенка: он становится учени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сходит смена ведущ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его социальное окружение. Успешность зависит от позиции сред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сдерживания двигательной актив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никновение специфических реакций: страхи, срывы, повышенная слезливость, затормож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5" descr="i.jpg"/>
          <p:cNvPicPr/>
          <p:nvPr/>
        </p:nvPicPr>
        <p:blipFill>
          <a:blip r:embed="rId1"/>
          <a:stretch/>
        </p:blipFill>
        <p:spPr>
          <a:xfrm>
            <a:off x="6715080" y="1857240"/>
            <a:ext cx="1928880" cy="42865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6" descr="deti0000.gif"/>
          <p:cNvPicPr/>
          <p:nvPr/>
        </p:nvPicPr>
        <p:blipFill>
          <a:blip r:embed="rId2"/>
          <a:stretch/>
        </p:blipFill>
        <p:spPr>
          <a:xfrm>
            <a:off x="500040" y="285840"/>
            <a:ext cx="17146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15520" cy="9284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Схема социально-психологической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адаптации школьник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357960" y="1928880"/>
            <a:ext cx="2152800" cy="4214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Содержимое 5" descr=""/>
          <p:cNvPicPr/>
          <p:nvPr/>
        </p:nvPicPr>
        <p:blipFill>
          <a:blip r:embed="rId1"/>
          <a:stretch/>
        </p:blipFill>
        <p:spPr>
          <a:xfrm>
            <a:off x="493560" y="1481040"/>
            <a:ext cx="5383440" cy="51087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8" descr="p33_4.jpg"/>
          <p:cNvPicPr/>
          <p:nvPr/>
        </p:nvPicPr>
        <p:blipFill>
          <a:blip r:embed="rId2"/>
          <a:stretch/>
        </p:blipFill>
        <p:spPr>
          <a:xfrm>
            <a:off x="6072120" y="1785960"/>
            <a:ext cx="2357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28800" y="533160"/>
            <a:ext cx="7572240" cy="8953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ова цена учебных достижений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538600" y="1785960"/>
            <a:ext cx="2971800" cy="4000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1642680"/>
            <a:ext cx="4714920" cy="47242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изнаки переутомл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с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аппети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охое самочув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памяти: забывчивость, потеря вещей, рассеянность, запинки в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етливость, неточность в движ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призы, излишняя подвижность и агресс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вший ви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Рисунок 4" descr="1219805204_shokola-1.jpg"/>
          <p:cNvPicPr/>
          <p:nvPr/>
        </p:nvPicPr>
        <p:blipFill>
          <a:blip r:embed="rId1"/>
          <a:stretch/>
        </p:blipFill>
        <p:spPr>
          <a:xfrm>
            <a:off x="5357880" y="1643040"/>
            <a:ext cx="3462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Готовы ли родители к школе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ртвовать своим личным временем  и некоторыми привыч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держивать свои эмо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кричать, не унижать и не обиж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равнивать своего ребенка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наказывать ребенка без пр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гда встречать ребенка из школы с улыб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на похвалу за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9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2571840" y="22860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28640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Психологическая готовность - это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714680"/>
            <a:ext cx="5357520" cy="45720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ый и достаточный уровень психического развития ребенка для освоения школьной учебной программы в условиях обучения в коллективе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дин из важнейших  итогов психического развития в период дошкольного дет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лог быстрой и безболезненной адаптации в начале учебного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пешное усвоение школь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Рисунок 4" descr="1220266612_1-sentjabrja.jpg"/>
          <p:cNvPicPr/>
          <p:nvPr/>
        </p:nvPicPr>
        <p:blipFill>
          <a:blip r:embed="rId1"/>
          <a:stretch/>
        </p:blipFill>
        <p:spPr>
          <a:xfrm>
            <a:off x="6143760" y="164304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429680" cy="85716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Интеллектуальная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 готовность - это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3240" y="1571760"/>
            <a:ext cx="4429440" cy="4929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риентировка ребенка в окружающ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Запас знаний, усвоенных в систе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Желание узнавать новое, любознатель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образных представ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речи и мышления в соответствии с возрастной норм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мысловое запомин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Содержимое 6" descr="1221463800_0lik_ru_otr_01.jpg"/>
          <p:cNvPicPr/>
          <p:nvPr/>
        </p:nvPicPr>
        <p:blipFill>
          <a:blip r:embed="rId1"/>
          <a:stretch/>
        </p:blipFill>
        <p:spPr>
          <a:xfrm>
            <a:off x="571680" y="1643040"/>
            <a:ext cx="33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64388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Мотивационная    готовность - эт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9680" y="1999800"/>
            <a:ext cx="4714920" cy="3786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личие у ребенка познавательных интерес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ит книг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ит решать задачки и кроссворды и др. интеллектуальные зад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ознател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ет много вопрос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Содержимое 4" descr="1222791427_c4103.jpg"/>
          <p:cNvPicPr/>
          <p:nvPr/>
        </p:nvPicPr>
        <p:blipFill>
          <a:blip r:embed="rId1"/>
          <a:stretch/>
        </p:blipFill>
        <p:spPr>
          <a:xfrm>
            <a:off x="5357880" y="1785960"/>
            <a:ext cx="3333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7228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Verdana"/>
              </a:rPr>
              <a:t>Признаки познавательной активности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785960"/>
            <a:ext cx="4286160" cy="45007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занимается умственной деятельност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почитает сам найти ответ на загадку,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ит почитать книги, дослушивает до конц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ожительно относится к занятиям, связанными с умственным напряж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о задает вопросы, в т.ч. вопросы-цепо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жидается ответа на поставленный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Содержимое 4" descr="1220501215_umen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929120" y="2000160"/>
            <a:ext cx="3681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15520" cy="785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«</a:t>
            </a:r>
            <a:r>
              <a:rPr b="1" i="1" lang="ru-RU" sz="2800" spc="-1" strike="noStrike">
                <a:solidFill>
                  <a:srgbClr val="7030a0"/>
                </a:solidFill>
                <a:latin typeface="Verdana"/>
              </a:rPr>
              <a:t>Социальная позиция школьника</a:t>
            </a: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320" y="1643040"/>
            <a:ext cx="4786200" cy="45007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ключает сформированнос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имание  необходимости учения и того, что учеба отличается от игры, она требует ответственности и серьез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онально –благополучное отношение к школ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Содержимое 7" descr="1222791359_c4132.jpg"/>
          <p:cNvPicPr/>
          <p:nvPr/>
        </p:nvPicPr>
        <p:blipFill>
          <a:blip r:embed="rId1"/>
          <a:stretch/>
        </p:blipFill>
        <p:spPr>
          <a:xfrm>
            <a:off x="5659560" y="1571760"/>
            <a:ext cx="2484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215120" cy="92844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Личностная и социально-психологическая готовность - это</a:t>
            </a:r>
            <a:br>
              <a:rPr sz="2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57160" y="1901880"/>
            <a:ext cx="4786560" cy="43848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нятие позиции школьника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отребность в общ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Умение подчиняться правилам и интересам груп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пособность устанавливать отношения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пособность действовать совместно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Рисунок 3" descr="1191268962_c4106.jpg"/>
          <p:cNvPicPr/>
          <p:nvPr/>
        </p:nvPicPr>
        <p:blipFill>
          <a:blip r:embed="rId1"/>
          <a:stretch/>
        </p:blipFill>
        <p:spPr>
          <a:xfrm>
            <a:off x="6143760" y="1857240"/>
            <a:ext cx="22143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714240"/>
            <a:ext cx="7926480" cy="15004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олевая готовность означает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умение сдерживать  и контролировать поведение, а так  же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0040" y="2571480"/>
            <a:ext cx="5214960" cy="3714840"/>
          </a:xfrm>
          <a:prstGeom prst="rect">
            <a:avLst/>
          </a:prstGeom>
          <a:solidFill>
            <a:srgbClr val="fbcc9a"/>
          </a:solidFill>
          <a:ln w="9360">
            <a:solidFill>
              <a:srgbClr val="fde5cd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знательно подчинять свои действия правилу, обобщенно определяющему способ 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ориентироваться на заданную систему требова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внимательно слушать говорящего и точно выполнять зад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Рисунок 3" descr="1222791425_c4124.jpg"/>
          <p:cNvPicPr/>
          <p:nvPr/>
        </p:nvPicPr>
        <p:blipFill>
          <a:blip r:embed="rId1"/>
          <a:stretch/>
        </p:blipFill>
        <p:spPr>
          <a:xfrm>
            <a:off x="6072120" y="2428920"/>
            <a:ext cx="2419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3:54:02Z</dcterms:created>
  <dc:creator>User</dc:creator>
  <dc:description/>
  <dc:language>en-US</dc:language>
  <cp:lastModifiedBy>User</cp:lastModifiedBy>
  <dcterms:modified xsi:type="dcterms:W3CDTF">2012-03-02T06:02:00Z</dcterms:modified>
  <cp:revision>132</cp:revision>
  <dc:subject/>
  <dc:title>Готовность к школе</dc:title>
</cp:coreProperties>
</file>