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D58-95F8-45C8-A183-3EF7B739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798-1EA6-405A-85D6-33DAA9FF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593-5BB8-4083-B257-C68BC912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7FB-798F-44B0-8FBB-B5919ABB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E609-EB29-4126-B3E3-0CFD1CFE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0882-6B16-4636-8971-D02E563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80227-70A4-4036-A987-E33E2F3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C1C6-64D7-40AC-98B9-8D6A9BF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20961-61E4-4D37-B700-E1B357C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50B00-4D69-418C-8C2B-EC6D579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94224-CB3F-4820-B5F7-C7700E2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1E8-4B1D-4BC7-99BC-CA29368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4AEA4-03E1-44D0-8EC4-9C935F0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1615A-8797-4A99-BF14-011FE8B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F308-7254-4FB6-A3C4-A002605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E4A1-89A7-4C6E-8D46-FEECAF0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04BE-80D0-4022-8E30-F205C5E5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F125-3B86-4B8B-9D17-8CC7FA1E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435A-6D26-4CFA-98E5-1E8394A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B0D9-5DD4-4EE9-B665-45DD50F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A794-70E8-4044-82DB-2F99D23F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3709-A8DD-4509-8CF9-79ED8BE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14F-771F-4242-891C-08815DA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A7860-1A09-4F8D-B79C-FB77D06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D90B-F67F-4621-BFE1-D36B8FE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217F-1056-46E8-8721-9233FA57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2DA7-BC99-4AE7-9BBB-4664755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C29F-8E90-4BDC-A7C2-C2BAE77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02CF-381A-4100-A531-6CBE3301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F1FA-60A9-4B81-B7E2-FB2F59A6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3AE-F8D1-41A8-878C-803A83CD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D6E-D6CE-4F4D-927C-99DAE654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2E7-1FDE-4196-AE77-6514677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67E-A80C-4258-B6AB-4E462C0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864-62B7-41FF-9F38-293E0AE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C65-AE55-4BD5-AA26-706A692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9D7A-E8F1-4DC4-AD21-7F7A4811B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442-5C49-4809-AEB4-B9B9AA8340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1A4B-6AF9-41B9-9EF5-F60090C2196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327560" y="598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5867280"/>
            <a:ext cx="89222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Красавицы и умницы, ну вообщем хоть к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20402400">
            <a:off x="380880" y="304560"/>
            <a:ext cx="2211480" cy="294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1005600">
            <a:off x="3276720" y="53316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 rot="1257600">
            <a:off x="6477120" y="533520"/>
            <a:ext cx="2185920" cy="2481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rot="1906200">
            <a:off x="5714640" y="380952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 rot="20230200">
            <a:off x="525600" y="3892320"/>
            <a:ext cx="2971800" cy="2230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 rot="20713200">
            <a:off x="3123720" y="3581280"/>
            <a:ext cx="3657600" cy="273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 rot="20973000">
            <a:off x="3428640" y="21337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09896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1760" y="537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8040" y="5791320"/>
            <a:ext cx="545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Мы сохраним вас в памя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592800">
            <a:off x="2210040" y="457200"/>
            <a:ext cx="541044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на много-много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Ждем вас на вечере встречи выпускников- в первую субботу февраля 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724280" y="179064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760" y="5029200"/>
            <a:ext cx="4117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трелковская Ангелина Арк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44440" y="5029200"/>
            <a:ext cx="2199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ах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4720" y="5334120"/>
            <a:ext cx="8425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А Юля, Настя, Маша- артистки- завод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75280" y="5219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4864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станьтесь же таки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Надолго? На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5960" y="5638680"/>
            <a:ext cx="80704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собо отмечаем «М» класса активис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42040" y="5410080"/>
            <a:ext cx="7261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Учиться успевают и все они друзья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2200" y="5562720"/>
            <a:ext cx="86299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з Насти, Коли, Женей, Лейсан и Миха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6760" y="54864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760" y="54864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61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51240" y="521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760" y="57150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Активистам –выпускникам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2007 года посвящается…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песню вам проп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ашей «КоммунаЛКИ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торой вы навеч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вили свой сл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се же очень груст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с вами расставать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7T16:58:4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