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F44-C1AA-45A4-BD37-81C843A3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3DA-6EEE-4CFF-A190-0BF8865C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C72-71FA-4B0F-A168-463E1BF4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1A1-8853-44AE-B630-4687B9E3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6E81D-9A05-4134-A7FF-B941D567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4A2D3-4FA9-4A52-927C-74416002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7A703-FB78-4E78-9ABA-CF6D9A3A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BBAB2-0AD6-4C3F-B6D8-E50DAB96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D08E4-AF1E-4E5D-A9D7-0C5DC3C6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AD774-2A44-4B93-B75D-9ECF2D7C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BA1D8-FC05-4DC5-8739-BE5D693E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017-5F38-406B-8E4C-731211C4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782B9-5106-4152-B044-D757422A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3846C-10B8-4633-B90A-F5A05B0E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DD7AD-9348-4CA8-8F01-4F9335A7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62823-C834-4C6D-9DEE-517804DA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A3075-F8CA-476B-9CE5-6E6F78C5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0CF5E-B41C-416E-BA19-8558807C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29C20-0D85-454A-8611-3A511DAD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1039B-E235-4D4E-8503-087B5A56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D4455-26D8-42DC-9454-72514896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8E5F6-3DA5-45A8-9F91-DBBF0949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065-EFAE-4A5B-B734-018AD348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65D48-1635-47AC-BA96-80F81405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E1FB0-10F2-4449-9B0D-FD217331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3C35C-5B85-44A5-9EED-7C3C9770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CC8A2-0F2D-4D4E-93A8-0F64D284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06FD0-D4D5-42E7-9A9B-DD524222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3519-6DA8-4096-8A94-7F036A56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A4447-9D8E-415C-91C9-993746A3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1CF-5408-4BC2-9474-548309F0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925-0544-4FDC-A2AD-89D181B4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9DC-1E4F-46A5-95B5-9F80D94B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91A-4EAF-402D-B7D0-65773023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70B-C587-403C-B9D8-1F2422BE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2C9-FB01-4787-9433-46F6FB9A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42C3-3595-407C-9D8A-FD92146AA1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F73F-A3AA-49A9-B144-5D3913B5109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2F43-B04E-4560-9CB6-20BD243372B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6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327560" y="5981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7800" y="5867280"/>
            <a:ext cx="89222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Красавицы и умницы, ну вообщем хоть ку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 rot="20402400">
            <a:off x="380880" y="304560"/>
            <a:ext cx="2211480" cy="2948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 rot="1005600">
            <a:off x="3276720" y="533160"/>
            <a:ext cx="3124080" cy="2342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 rot="1257600">
            <a:off x="6477120" y="533520"/>
            <a:ext cx="2185920" cy="2481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 rot="1906200">
            <a:off x="5714640" y="380952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 rot="20230200">
            <a:off x="525600" y="3892320"/>
            <a:ext cx="2971800" cy="22302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 rot="20713200">
            <a:off x="3123720" y="3581280"/>
            <a:ext cx="3657600" cy="2737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 rot="20973000">
            <a:off x="3428640" y="21337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60948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098960" y="5753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1760" y="537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38040" y="5791320"/>
            <a:ext cx="5455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Мы сохраним вас в памя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rot="592800">
            <a:off x="2210040" y="457200"/>
            <a:ext cx="541044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на много-много л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Ждем вас на вечере встречи выпускников- в первую субботу февраля !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724280" y="179064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760" y="5029200"/>
            <a:ext cx="41173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Стрелковская Ангелина Аркад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44440" y="5029200"/>
            <a:ext cx="2199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Махова Екате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34720" y="5334120"/>
            <a:ext cx="842544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А Юля, Настя, Маша- артистки- завод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175280" y="5219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410080"/>
            <a:ext cx="54864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Останьтесь же таки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Надолго? Навсег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15960" y="5638680"/>
            <a:ext cx="807048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Особо отмечаем «М» класса активис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42040" y="5410080"/>
            <a:ext cx="726120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Учиться успевают и все они друзья.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32200" y="5562720"/>
            <a:ext cx="86299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Из Насти, Коли, Женей, Лейсан и Миха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6760" y="5486400"/>
            <a:ext cx="81025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По «праву» получилась отличная семья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760" y="5486400"/>
            <a:ext cx="81025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По «праву» получилась отличная семья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61080" y="613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51240" y="5219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6760" y="5715000"/>
            <a:ext cx="81025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По «праву» получилась отличная семья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Активистам –выпускникам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2007 года посвящается…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ы песню вам пропел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 нашей «КоммунаЛКИ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оторой вы навеч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тавили свой сл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все же очень грустн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м с вами расставатьс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5-27T16:58:4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