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EDB-A7CA-4013-AC9C-59D51D42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E27-6BD8-45F1-A05A-D1AB213B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AAA-EAFE-49F4-9E7D-96DA285D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3C8-3633-49F4-AB32-728E04B0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F9F-15AE-4DC8-90CB-D9C393EA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021-10E0-49C9-A94D-56CD9EB9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A9A-4EBD-4B0B-9DA4-80C21DED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3EE-193A-4682-9EC9-80307E9D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8D0-BFCE-4805-A8CC-11A9C412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41E-BD2A-49E0-90F3-E7E34263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93C-71FA-4E9C-A4E1-E9C5C985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A42-D0C2-4CF5-AE10-04B80D92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9111-372E-40C6-905D-C44247D71F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7200" y="5410080"/>
            <a:ext cx="74577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А Комиссаров Саша и Захаров Пав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327560" y="5981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7800" y="5867280"/>
            <a:ext cx="89222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Красавицы и умницы, ну вообщем хоть к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54040" y="5943600"/>
            <a:ext cx="59292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Отдали КВНу лучшие год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78476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54040" y="5943600"/>
            <a:ext cx="59292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Отдали КВНу лучшие год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5880" y="5257800"/>
            <a:ext cx="804168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Еще одна команда талантливых спортсм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За школу выступая, отстаивали че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42400" y="5257800"/>
            <a:ext cx="435816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И мы гордимся в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Беляевай Ири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0490" t="0" r="5594" b="15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62800" y="5029200"/>
            <a:ext cx="41004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И силачем Айда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5640" y="5867280"/>
            <a:ext cx="4347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асибо, что вы ес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41680" y="5410080"/>
            <a:ext cx="393588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Полина и Марин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1720" y="5378400"/>
            <a:ext cx="3742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девчонки озо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27T16:58:0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