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B3C-2E6A-40C6-A789-84F9C52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441-AFE4-4701-9E74-09BB6E3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BCA-D425-4A12-85E3-AF4A2BF4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846-6C30-4BF9-BB8C-6D38F5DD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867-D418-42B3-9B90-1BCF470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EB9-DB57-426D-A0F8-0FC5427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B17-9BE3-4CA7-89D4-2514D276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46C-5AC9-4782-A2C3-BA1E3F1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166-420E-49D0-808C-92DB7AC3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6FD-8D8F-4FE5-86CB-BC4A19F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842-68BC-4A4C-9F8D-56549A5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613-A49B-43A6-A97D-4E54DA08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D08-B0E3-429D-B47A-D0B80F91B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7200" y="5410080"/>
            <a:ext cx="74577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А Комиссаров Саша и Захаров Пав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27560" y="598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7800" y="5867280"/>
            <a:ext cx="89222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Красавицы и умницы, ну вообщем хоть к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54040" y="5943600"/>
            <a:ext cx="5929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тдали КВНу лучшие год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8476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54040" y="5943600"/>
            <a:ext cx="5929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тдали КВНу лучшие год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5880" y="5257800"/>
            <a:ext cx="804168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Еще одна команда талантливых спортс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 школу выступая, отстаивали ч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2400" y="5257800"/>
            <a:ext cx="43581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мы гордимся 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Беляевай Ир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0490" t="0" r="5594" b="1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2800" y="5029200"/>
            <a:ext cx="41004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силачем Айда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640" y="5867280"/>
            <a:ext cx="4347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асибо, что вы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1680" y="5410080"/>
            <a:ext cx="39358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лина и Марин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1720" y="5378400"/>
            <a:ext cx="3742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девчонки озо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7T16:58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