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656-68BE-4499-8CBD-378C0603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C951-4B60-476D-8976-C546B1F6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BF8-7CC2-47B9-8485-C298EC22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81E-6581-48CB-835B-06C35E74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1351-1633-4D36-8C62-320B7C47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AF74-8829-441D-97E9-319FDC26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A04A-ACEF-4A86-993E-D213EECB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3D64-22C1-4932-8B69-F52ADF57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7287-1A7E-4623-827D-C26D9F84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03CD-ED37-4D9A-9D4F-570AACF3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C627-4E29-4019-9B1E-828AB9FE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F7B-611C-4C62-901C-59377B81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5D29-93EE-4D52-8F94-7DE88661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0E74-ADD5-4269-BD56-FFE9EEDC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3799-5779-4E1B-9F6F-7C26CADA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E4CB-BEDD-41F8-A8D2-A9EC4464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2F26-5F9F-4017-810B-94DCB81B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BF5C-0F43-45FB-AD82-A6967CB7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4D78B-6F3F-4B6E-B44F-C48C87DD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3EBA7-0530-4D77-B79B-4A5D2FD6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9050B-3ADE-49E8-A109-F4B0B9C4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F74EF-FDA4-4B51-A98D-868C93F9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A1C-1CA5-457F-8383-D8ADD878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0317D-F85A-4A76-9844-7F394C47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7FD60-BF43-49F1-A7FD-B8361E5E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12BD0-EDEB-491D-8D83-E8E53C6B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43CE-CE38-4566-A344-1C8BF538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75E8A-DA4F-4C4D-8113-ED40C0B3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B3819-B03C-46AE-963A-19D3B8AA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B394D-AD79-443F-8F51-331D2450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63504-35B4-4B7B-AEAE-57D2BCD7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1282A-52BB-4982-BF36-DE454F75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D5A97-7271-48B4-B405-BBD8CAE3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852-6143-4C5B-8A66-836C05BC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FB9E8-114F-4A26-B550-3A4E78AC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1AAC8-3F19-4AF6-B871-9B64E739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FA8CF-498C-454D-9F5E-14324FB3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EAEE7-D6CD-49A6-9D13-B67B8688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43F4E-9B5E-425E-9435-0A3BC78E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D771E-F0A3-4766-B304-987B4781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9FED0-5E70-49DB-B4C1-2866A861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D147-6EE4-4EF1-8A96-BDF5E7B1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1BA2-C199-43F0-BB77-D4F062A4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EF1F0-D306-4654-98A1-DF54FA17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41A-2351-427C-83C2-80DE881D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B1DC5-D35B-47EC-97DC-2DEF9564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1B0A3-7408-4006-8554-83CFD13C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68553-097C-42D0-AFC0-353C2BC4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230AF-A615-4434-B3AA-39D4360B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82E4C-DAFE-4A88-BE0B-54342828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26596-7254-46F6-BD63-97F3C371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0CDF5-CAA3-452A-AB9D-5DD6D13C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7EECE-F9D9-41DD-BF63-F9318565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AA12A-77D6-47A8-8110-3DF34D10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C6622-914B-4D00-8EE8-0B1AB16A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5D5-543B-4612-A1EC-52FAA535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8FE84-2FF0-4BD5-BB55-18A1D135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83496-2743-40A4-BFD1-307FA7F2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7A1FC-F981-4885-BA62-8C66D93E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2241C-DED5-4DDA-B17B-70864073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80233-EF4D-43AF-A633-DD528112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A6A52-DEAE-483C-AB85-4478B4B3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93E51-E1DF-4D66-8BC2-AA3652B0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C6268-6EC1-4C93-AFA3-FB8106F2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93F62-761E-4994-8C53-10FE79D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88C87-A488-46D6-AC4E-090FC491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B20-242E-43AF-8DC6-9947DD86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67A0D-6286-4349-A12F-F3966EB8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6619C-DB41-4D5E-AEAA-6F690746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0E304-FC03-449C-B838-5ADAC3E9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FB9A1-4578-46C1-BF40-7254E479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1F7CE-5195-4B57-A4ED-FCCFD3C7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5574C-725D-4605-A8CA-C3C7F95A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CB0AC-3A1D-41E8-AEEA-18528334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36DE0-C217-4CDF-979D-225CE203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EA2CE-5EB0-4C7D-9B39-D5F424B5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C7426-D266-424C-A462-234AA4C6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96D-A9B9-457F-A7E9-17DF5A28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B7B86-1299-4D5E-B01C-CAA0D2CC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AAF65-0770-4566-8978-D4F10C42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C7005-0F54-4130-B09F-BD1FF146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690CD-0FEA-4593-A6D9-1F4A4316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D3921-8B33-4796-9B7F-4E5E5C75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14F-4913-4154-A528-157427D9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9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bfbf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cfcf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AE4D-9EC9-4626-8371-C4A497B95D7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9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bfbf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cfcf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A047-6CFC-4361-B742-F47ECBD35934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9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bfbf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cfcf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BD9B-B3D8-4F72-9FCE-4E5721E13F5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9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fcfcf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bfbfb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80C5-9C53-4714-80A3-C909436901B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9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280C-8064-4F74-81E6-B1CFAC616E2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9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3F70-1DD5-4420-AE7C-424938AE1596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9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CD1F-6C6A-43D7-A1AF-80F94029C98D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93560" y="1847880"/>
            <a:ext cx="8541000" cy="2370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2"/>
          <p:cNvPicPr/>
          <p:nvPr/>
        </p:nvPicPr>
        <p:blipFill>
          <a:blip r:embed="rId2"/>
          <a:stretch/>
        </p:blipFill>
        <p:spPr>
          <a:xfrm>
            <a:off x="7500960" y="5286240"/>
            <a:ext cx="126504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13560" y="1082880"/>
            <a:ext cx="604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ты гуляешь прост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ё равно вперёд гляд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от опасный перекрёс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торожно проход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C:\Documents and Settings\работа_2\Рабочий стол\ПДД\дорожн  знаки\пешеходный переход.jpg"/>
          <p:cNvPicPr/>
          <p:nvPr/>
        </p:nvPicPr>
        <p:blipFill>
          <a:blip r:embed="rId1"/>
          <a:stretch/>
        </p:blipFill>
        <p:spPr>
          <a:xfrm>
            <a:off x="3571920" y="3929040"/>
            <a:ext cx="47624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22320" y="809280"/>
            <a:ext cx="7381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ил дорожных на свете нем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е бы их выучить нам не меш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сновное из правил движ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т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лжны к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блицу умножень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мостовой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игр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ката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ты хочешь здоровым остать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Нарушения5"/>
          <p:cNvPicPr/>
          <p:nvPr/>
        </p:nvPicPr>
        <p:blipFill>
          <a:blip r:embed="rId1"/>
          <a:stretch/>
        </p:blipFill>
        <p:spPr>
          <a:xfrm>
            <a:off x="5214960" y="2643120"/>
            <a:ext cx="3429000" cy="250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6" name="Rectangle 1"/>
          <p:cNvSpPr/>
          <p:nvPr/>
        </p:nvSpPr>
        <p:spPr>
          <a:xfrm>
            <a:off x="142920" y="31320"/>
            <a:ext cx="450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сто, в котором с тобой мы жив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жно по праву сравнить с букварё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т она, азбука,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 мосто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ки развеша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 голов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Азбукой улиц, проспектов, дор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род даёт нам всё время ур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4" descr="C:\Documents and Settings\работа_2\Рабочий стол\ПДД\дорожн  знаки\пешеходный переход2.jpg"/>
          <p:cNvPicPr/>
          <p:nvPr/>
        </p:nvPicPr>
        <p:blipFill>
          <a:blip r:embed="rId1"/>
          <a:stretch/>
        </p:blipFill>
        <p:spPr>
          <a:xfrm>
            <a:off x="4692600" y="0"/>
            <a:ext cx="44514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Rectangle 1"/>
          <p:cNvSpPr/>
          <p:nvPr/>
        </p:nvSpPr>
        <p:spPr>
          <a:xfrm>
            <a:off x="0" y="2592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  <a:ea typeface="Times New Roman"/>
              </a:rPr>
              <a:t>Азбуку города помни всегда,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  <a:ea typeface="Times New Roman"/>
              </a:rPr>
              <a:t>Чтоб не случилась с тобою беда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C:\Users\Админ\Desktop\дорожные знаки\2.jpg"/>
          <p:cNvPicPr/>
          <p:nvPr/>
        </p:nvPicPr>
        <p:blipFill>
          <a:blip r:embed="rId1"/>
          <a:stretch/>
        </p:blipFill>
        <p:spPr>
          <a:xfrm>
            <a:off x="500040" y="1071720"/>
            <a:ext cx="8128080" cy="450036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оугольник 5" descr=""/>
          <p:cNvPicPr/>
          <p:nvPr/>
        </p:nvPicPr>
        <p:blipFill>
          <a:blip r:embed="rId2"/>
          <a:stretch/>
        </p:blipFill>
        <p:spPr>
          <a:xfrm>
            <a:off x="281160" y="139680"/>
            <a:ext cx="8654760" cy="615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4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57120" y="1643040"/>
            <a:ext cx="670392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Гянджаев Ислам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13 лет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7В класс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МОУ лицей №7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Gothic"/>
              </a:rPr>
              <a:t>Дзержинского района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C:\Documents and Settings\работа_2\Рабочий стол\ПДД\дорожн  знаки\такс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Rectangle 1"/>
          <p:cNvSpPr/>
          <p:nvPr/>
        </p:nvSpPr>
        <p:spPr>
          <a:xfrm>
            <a:off x="285840" y="586080"/>
            <a:ext cx="8858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опав в большой и шумный город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Не зная знаков светофор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Можно под машину попас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Кругом машины и трамва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о вдруг автобус на пу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Признаться честн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Надо знать где и как дорогу переход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Чтоб под трамвай не угоди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0" y="9720"/>
            <a:ext cx="79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 площадей и перекрёс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 высоты глядит в уп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С виду грозный и серьез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Очень важный светофо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3524760" y="4559400"/>
            <a:ext cx="560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 и вежливый и строг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 известен на весь м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 на улице широ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мый главный команд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C:\Users\Админ\Desktop\дорожные знаки\25.gif"/>
          <p:cNvPicPr/>
          <p:nvPr/>
        </p:nvPicPr>
        <p:blipFill>
          <a:blip r:embed="rId1"/>
          <a:stretch/>
        </p:blipFill>
        <p:spPr>
          <a:xfrm>
            <a:off x="785880" y="2500200"/>
            <a:ext cx="2781360" cy="3857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5" descr="у0003"/>
          <p:cNvPicPr/>
          <p:nvPr/>
        </p:nvPicPr>
        <p:blipFill>
          <a:blip r:embed="rId2"/>
          <a:stretch/>
        </p:blipFill>
        <p:spPr>
          <a:xfrm>
            <a:off x="6572160" y="500040"/>
            <a:ext cx="2408400" cy="399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Rectangle 1"/>
          <p:cNvSpPr/>
          <p:nvPr/>
        </p:nvSpPr>
        <p:spPr>
          <a:xfrm>
            <a:off x="1163880" y="363240"/>
            <a:ext cx="6435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свет зажёгся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красны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чит, двигаться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  <a:ea typeface="Times New Roman"/>
              </a:rPr>
              <a:t>опасн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3000240" y="1928880"/>
            <a:ext cx="280044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5" name="Rectangle 1"/>
          <p:cNvSpPr/>
          <p:nvPr/>
        </p:nvSpPr>
        <p:spPr>
          <a:xfrm>
            <a:off x="1017720" y="435600"/>
            <a:ext cx="628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т </a:t>
            </a:r>
            <a:r>
              <a:rPr b="1" lang="ru-RU" sz="4800" spc="-1" strike="noStrike">
                <a:solidFill>
                  <a:srgbClr val="00b050"/>
                </a:solidFill>
                <a:latin typeface="Calibri"/>
                <a:ea typeface="Times New Roman"/>
              </a:rPr>
              <a:t>зелёный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вори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шеходам </a:t>
            </a:r>
            <a:r>
              <a:rPr b="1" lang="ru-RU" sz="4800" spc="-1" strike="noStrike">
                <a:solidFill>
                  <a:srgbClr val="00b050"/>
                </a:solidFill>
                <a:latin typeface="Calibri"/>
                <a:ea typeface="Times New Roman"/>
              </a:rPr>
              <a:t>путь открыт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2786040" y="2000160"/>
            <a:ext cx="2876400" cy="433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314640" y="1443960"/>
            <a:ext cx="858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Нужно слушаться без спо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Указаний светофо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Нужно правила движень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Выполнять без возражень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587880" y="1160640"/>
            <a:ext cx="8198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шеход! Пешеход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мни ты про переход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земный, назем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хожий на зеб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й, что только пере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машин тебя спасё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C:\Users\Админ\Desktop\дорожные знаки\35.gif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2800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C:\Users\Админ\Desktop\дорожные знаки\23.gif"/>
          <p:cNvPicPr/>
          <p:nvPr/>
        </p:nvPicPr>
        <p:blipFill>
          <a:blip r:embed="rId2"/>
          <a:stretch/>
        </p:blipFill>
        <p:spPr>
          <a:xfrm>
            <a:off x="0" y="3786120"/>
            <a:ext cx="3022560" cy="3071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C:\Documents and Settings\работа_2\Рабочий стол\ПДД\дорожн  знаки\пешеходный переход.gif"/>
          <p:cNvPicPr/>
          <p:nvPr/>
        </p:nvPicPr>
        <p:blipFill>
          <a:blip r:embed="rId3"/>
          <a:stretch/>
        </p:blipFill>
        <p:spPr>
          <a:xfrm>
            <a:off x="6858000" y="500076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2643120" y="2286000"/>
            <a:ext cx="6072120" cy="43894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230760" y="9720"/>
            <a:ext cx="737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 приучить пешехода к порядк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линовали асфальт, как тетрад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рез дорогу полоски ид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за собой пешехода веду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1655280" y="877680"/>
            <a:ext cx="617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проспекты, и бульва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юду улицы шумн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ходи по тротуа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лько с правой сторон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Тут шалить, мешать нар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 – пре – ща – ет – 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ть прилежным пешех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  <a:ea typeface="Times New Roman"/>
              </a:rPr>
              <a:t>Раз – ре – ша – ет – 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04:18Z</dcterms:created>
  <dc:creator>Админ</dc:creator>
  <dc:description/>
  <dc:language>en-US</dc:language>
  <cp:lastModifiedBy>работа</cp:lastModifiedBy>
  <dcterms:modified xsi:type="dcterms:W3CDTF">2012-05-27T19:24:24Z</dcterms:modified>
  <cp:revision>32</cp:revision>
  <dc:subject/>
  <dc:title>Слайд 1</dc:title>
</cp:coreProperties>
</file>