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9BC-F89E-4660-BA62-F79617C4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24B-2116-45CF-955B-D2077932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F20-CF68-4BC1-9A71-1E9AF822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BA3-4091-4090-81DE-686E47CE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5841-5945-46FE-A351-7117D4EB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3267-80A5-424E-9633-2DD62EC9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7128-233C-4589-8DED-750E8C39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76E1-BFF8-406C-A3FB-3E7B9469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CE39-B2BA-4402-9EEE-73CBA88B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A6C7-2DCA-4D81-9D36-8754E2F0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6345-57BB-4A89-B727-132DB3D4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5FE-5C02-4272-AAA4-0CDFC18B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D260-F089-42C8-BC21-C5A4CCF0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C7EB-D2A1-4763-BFCA-450E2B46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02AF-F41E-4F62-8DC6-088A019B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81CD-2383-43AF-930E-2424DFD9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5769-A2EB-4BDE-B9A6-D613D75B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7675-5128-4799-ABD1-262D81B8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027AD-9FAF-4C56-A64F-E5C2E226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CF0F-4027-4DFD-81D8-399C1F88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CBED-FDDF-4B18-8AD5-2FD50EBE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A6C5-0BFA-46F9-BD17-A944DA6E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D96-24F3-42E1-9F0E-A5A71AB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9E2A-E3E8-4CD4-828B-D176FD0A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ED32-7B3D-4B84-ACA7-D36DBEE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584F-D127-4B32-A97C-FD852BE2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3C904-BDFB-459A-9F90-C0D3A98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A5719-334C-4558-84D6-7503980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FB65-3A78-41AA-A682-39F7CA84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AE73-D355-4F82-B6CD-3A238252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B06E-C054-4DA1-BED6-68FB28CD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AE6ED-0EA4-4263-9C03-D74BB1DC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38F6-4974-45B1-803E-59A525DC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C85-4FFD-4814-AA71-435A474F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159D-30B2-4C31-ABB6-1108E518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7C0D-027A-47AA-A8EF-67C1DB07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A913-00EF-483E-8A7D-1B26A7B0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E9FC-B1C2-4624-A27D-580FE20D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7420C-AC0F-46A4-8495-F419116F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D610-65C5-41CF-B8B4-212EACD8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1BF38-B6D8-4D8E-984E-61969D2C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B2EF-60AC-40AC-BEDC-AA005995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C0DC-B9C9-45C5-88F9-119E0F53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7468-D48F-4CA1-B058-986025B7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442-A94C-4EC9-A2BA-7C95751E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E950F-E40F-4411-A54E-20AD81A6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0DF6-794B-4019-B928-4FDF763F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4542-E132-4A46-9BC2-227A695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06CE-B7D5-4952-8D79-8D25F541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6237-3BE2-4379-B84F-9E39D9C2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F4AA-FD95-4CA0-9D7D-36458C1B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DB0B-BD35-4401-B363-E401A8A7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2E597-EE32-4733-870A-5B9F4402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D0B0A-5619-49D7-BA20-26CCDC2F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656A2-A98A-4799-8590-AF65697D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62F-0EBD-4FE5-98C4-46F2E1A3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06D4-043B-4BC7-B12F-522E4ADC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F1400-8695-4C45-8307-1C20D6EE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5E6D-FC2C-462D-91A6-2F87AE1E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9F98A-E476-4C66-9944-EFF7F481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3A3F4-F210-4B24-81E5-AEC49D36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352AC-6760-49BE-AA89-B8BDCDF3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1385-41AC-48C5-8258-2AA8EBE7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F2BC7-34B3-46B6-9FDE-236C61A0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10E74-F342-4E6E-B1C7-57801894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2112-B51A-40BD-9CB9-31804F5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07F-190A-4152-A957-5FC45BE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50547-F8B7-4C53-9FF9-362BEC22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E977-17EB-4220-9307-EE27BB29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748B9-D285-4F40-B9DB-C4ABEE0E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33357-3128-4DF4-B801-B62500EE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08D7-0648-46A4-B9F7-CA5B3B41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98F4C-E017-4A3D-AEB1-061BC939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A4602-FE94-45CC-9D5F-27358E3C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5FDF3-0448-49B3-BAE1-8070A2B9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4E255-CFC6-4FFA-B81F-7C5BD7BC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5DF06-3F31-43A7-8EEF-60065A87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7E8-3995-4248-840B-D70340C0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372E4-F096-4F58-8EFB-B5EDE215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109BF-CC1F-4BEB-8C35-3DD29C2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E460-C86A-4B4F-ADBF-60E9A30B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3B763-692D-4276-8C7D-E6B223BE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A01E-FA9C-4D3B-A9B3-C77234FA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840-B860-4954-A7E9-3475A6CE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bfbf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cfcf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E89B-399C-46C5-81CE-86DE00EB6BD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bfbf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cfcf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296F-3285-4D9F-B21F-DD810079727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bfbf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cfcf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67A-1591-4663-ABBC-460FBBF4D75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fcfcf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bfbf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CC4E-D5A9-4ED2-A0A3-0C0F89F84FB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F741-60A2-41F9-8DE2-12653826BAF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4C98-EDBC-4E78-8CB2-76122CEF5B48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9647-EB19-45A9-B6D0-232BB4DAA8C9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93560" y="1847880"/>
            <a:ext cx="8541000" cy="2370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2"/>
          <p:cNvPicPr/>
          <p:nvPr/>
        </p:nvPicPr>
        <p:blipFill>
          <a:blip r:embed="rId2"/>
          <a:stretch/>
        </p:blipFill>
        <p:spPr>
          <a:xfrm>
            <a:off x="7500960" y="5286240"/>
            <a:ext cx="12650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13560" y="1082880"/>
            <a:ext cx="604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ты гуляешь прос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ё равно вперёд гляд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т опасный перекрё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торожно проход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C:\Documents and Settings\работа_2\Рабочий стол\ПДД\дорожн  знаки\пешеходный переход.jpg"/>
          <p:cNvPicPr/>
          <p:nvPr/>
        </p:nvPicPr>
        <p:blipFill>
          <a:blip r:embed="rId1"/>
          <a:stretch/>
        </p:blipFill>
        <p:spPr>
          <a:xfrm>
            <a:off x="3571920" y="3929040"/>
            <a:ext cx="47624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22320" y="809280"/>
            <a:ext cx="738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ил дорожных на свете нем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 бы их выучить нам не меш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сновное из правил движ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т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лжны к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у умножен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мостовой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игр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ката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ты хочешь здоровым оста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Нарушения5"/>
          <p:cNvPicPr/>
          <p:nvPr/>
        </p:nvPicPr>
        <p:blipFill>
          <a:blip r:embed="rId1"/>
          <a:stretch/>
        </p:blipFill>
        <p:spPr>
          <a:xfrm>
            <a:off x="5214960" y="2643120"/>
            <a:ext cx="3429000" cy="25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142920" y="31320"/>
            <a:ext cx="450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сто, в котором с тобой мы жив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по праву сравнить с букварё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она, азбука,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 мосто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ки развеша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 голо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Азбукой улиц, проспектов, дор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 даёт нам всё время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C:\Documents and Settings\работа_2\Рабочий стол\ПДД\дорожн  знаки\пешеходный переход2.jpg"/>
          <p:cNvPicPr/>
          <p:nvPr/>
        </p:nvPicPr>
        <p:blipFill>
          <a:blip r:embed="rId1"/>
          <a:stretch/>
        </p:blipFill>
        <p:spPr>
          <a:xfrm>
            <a:off x="4692600" y="0"/>
            <a:ext cx="44514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0" y="2592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  <a:ea typeface="Times New Roman"/>
              </a:rPr>
              <a:t>Азбуку города помни всегда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  <a:ea typeface="Times New Roman"/>
              </a:rPr>
              <a:t>Чтоб не случилась с тобою беда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Users\Админ\Desktop\дорожные знаки\2.jpg"/>
          <p:cNvPicPr/>
          <p:nvPr/>
        </p:nvPicPr>
        <p:blipFill>
          <a:blip r:embed="rId1"/>
          <a:stretch/>
        </p:blipFill>
        <p:spPr>
          <a:xfrm>
            <a:off x="500040" y="1071720"/>
            <a:ext cx="8128080" cy="450036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5" descr=""/>
          <p:cNvPicPr/>
          <p:nvPr/>
        </p:nvPicPr>
        <p:blipFill>
          <a:blip r:embed="rId2"/>
          <a:stretch/>
        </p:blipFill>
        <p:spPr>
          <a:xfrm>
            <a:off x="281160" y="139680"/>
            <a:ext cx="8654760" cy="615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4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57120" y="1643040"/>
            <a:ext cx="670392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Гянджаев Ислам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13 лет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7В класс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МОУ лицей №7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Дзержинского района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C:\Documents and Settings\работа_2\Рабочий стол\ПДД\дорожн  знаки\такс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285840" y="586080"/>
            <a:ext cx="885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пав в большой и шумный горо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Не зная знаков светофор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ожно под машину попа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Кругом машины и трамва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о вдруг автобус на пу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изнаться чест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Надо знать где и как дорогу переход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Чтоб под трамвай не угод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0" y="972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 площадей и перекрёс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 высоты глядит в уп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 виду грозный и серьез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чень важный светоф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524760" y="4559400"/>
            <a:ext cx="560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и вежливый и строг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известен на весь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на улице шир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ый главный команд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C:\Users\Админ\Desktop\дорожные знаки\25.gif"/>
          <p:cNvPicPr/>
          <p:nvPr/>
        </p:nvPicPr>
        <p:blipFill>
          <a:blip r:embed="rId1"/>
          <a:stretch/>
        </p:blipFill>
        <p:spPr>
          <a:xfrm>
            <a:off x="785880" y="2500200"/>
            <a:ext cx="2781360" cy="3857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у0003"/>
          <p:cNvPicPr/>
          <p:nvPr/>
        </p:nvPicPr>
        <p:blipFill>
          <a:blip r:embed="rId2"/>
          <a:stretch/>
        </p:blipFill>
        <p:spPr>
          <a:xfrm>
            <a:off x="6572160" y="500040"/>
            <a:ext cx="2408400" cy="39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1163880" y="363240"/>
            <a:ext cx="6435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свет зажёгся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ас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ит, двигаться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  <a:ea typeface="Times New Roman"/>
              </a:rPr>
              <a:t>опас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3000240" y="1928880"/>
            <a:ext cx="280044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1017720" y="435600"/>
            <a:ext cx="628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  <a:ea typeface="Times New Roman"/>
              </a:rPr>
              <a:t>зелёный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и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шеходам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  <a:ea typeface="Times New Roman"/>
              </a:rPr>
              <a:t>путь откры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786040" y="2000160"/>
            <a:ext cx="2876400" cy="43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14640" y="1443960"/>
            <a:ext cx="858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Нужно слушаться без спо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Указаний светофо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Нужно правила движен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ыполнять без возражень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587880" y="1160640"/>
            <a:ext cx="819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шеход! Пешехо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мни ты про перехо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земный, назем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хожий на зеб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й, что только пере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машин тебя спас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C:\Users\Админ\Desktop\дорожные знаки\35.gif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00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Админ\Desktop\дорожные знаки\23.gif"/>
          <p:cNvPicPr/>
          <p:nvPr/>
        </p:nvPicPr>
        <p:blipFill>
          <a:blip r:embed="rId2"/>
          <a:stretch/>
        </p:blipFill>
        <p:spPr>
          <a:xfrm>
            <a:off x="0" y="3786120"/>
            <a:ext cx="3022560" cy="3071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C:\Documents and Settings\работа_2\Рабочий стол\ПДД\дорожн  знаки\пешеходный переход.gif"/>
          <p:cNvPicPr/>
          <p:nvPr/>
        </p:nvPicPr>
        <p:blipFill>
          <a:blip r:embed="rId3"/>
          <a:stretch/>
        </p:blipFill>
        <p:spPr>
          <a:xfrm>
            <a:off x="6858000" y="500076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6072120" cy="4389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230760" y="9720"/>
            <a:ext cx="737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 приучить пешехода к поряд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линовали асфальт, как тетрад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ез дорогу полоски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за собой пешехода веду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1655280" y="877680"/>
            <a:ext cx="617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роспекты, и бульва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юду улицы шумн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ходи по тротуа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лько с правой сторон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ут шалить, мешать нар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– пре – ща – ет – 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прилежным пешех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Times New Roman"/>
              </a:rPr>
              <a:t>Раз – ре – ша – ет – 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04:18Z</dcterms:created>
  <dc:creator>Админ</dc:creator>
  <dc:description/>
  <dc:language>en-US</dc:language>
  <cp:lastModifiedBy>работа</cp:lastModifiedBy>
  <dcterms:modified xsi:type="dcterms:W3CDTF">2012-05-27T19:24:24Z</dcterms:modified>
  <cp:revision>32</cp:revision>
  <dc:subject/>
  <dc:title>Слайд 1</dc:title>
</cp:coreProperties>
</file>