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C2D-3DCD-4D4C-830C-2B18A34A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8442-A252-4396-9403-F62621E0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39B-EF15-4C8B-85BF-3B567246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1DE-12E8-4397-B92E-6D104626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B58A-E7D4-436A-9580-32377182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860D-768D-4974-B415-831A9DE9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64B0-70D7-4ABD-9718-C94A5B75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3926-262A-4C86-B0AC-8162A9C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A53D-F058-4580-907C-4E38D238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484A-1E62-49DA-8FF0-66CF5A45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494-5D7C-4D94-84A3-8F41631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0613-15EC-47B9-AF14-2BB04782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47B-7141-4265-9EA4-18AD94F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F072-5240-4938-8230-35A4DE80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132C-A5B0-4504-BFB2-1A2E852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2666-436F-44B2-A97C-5F7474EB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FC8-869D-45EE-A641-47C42C1F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AA6-B2DA-4B08-B32C-77C64A56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F1C-FA7D-47E1-A5A6-F7DF6B7F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CF9F-B3F8-489A-93B1-75CD75C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A73-F011-41FB-A123-42147374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A11-6440-428B-BEF7-A5A4F7D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50EA-4DF0-4836-91DB-B9DC1A2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77D-5FC2-4D10-B9E6-D73077E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8B37-E39B-4BC1-AAA2-CDCBF344428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CC9-E034-45E7-AB18-109FF5BF51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Tahoma"/>
              </a:rPr>
              <a:t>Миус-фрон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миус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4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зятие высоты осложнялось тем, что советские войска наступали с крутого склона, а у немецких войск в тылу был пологий склон-это давало немцам использовать бронетехнику. Тем не менее, советское командование приняло решение о лобовом штурме выс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ота была взята утром 31 августу 1943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9" descr="могилапртп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40384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иус-фронт надолго задержал продвижение красной армии на южном направлении. Если Ростов-на-Дону был освобожден в феврале 1943года, то Таганрог- лишь 30 августа 1943г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 Красном Луче сооружен мемориальный комплекс «Миус-фрон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1" descr="ahjyn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5" descr="рост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567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491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Impact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льноукрепленный глубокоэшилонированный оборонительный рубеж, созданный немецкими войсками на реке Миус в декабре 1941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1" descr="сильноукрепленный глубокоэшилонированный оборонительный рубеж созданный немецкими войсками на реке миус в декабре 1941года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ветские войска дважды пытались прорвать этот рубеж. Им это удалось лишь в августе1943 года в ходе Донбасской наступательной операции. Подготовка к прорыву была начата в мае 1943 г. В наступлении участвовали соединения пятой ударной армии Южного фронта. 18 августа 1943 г. Было начато наступление войск. В ночь на 24 августа советские войска пошли в атаку и заняли дорогу на Таганрог, что лишило Германские войска возможности перебрасывать резерв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фронт"/>
          <p:cNvPicPr/>
          <p:nvPr/>
        </p:nvPicPr>
        <p:blipFill>
          <a:blip r:embed="rId1"/>
          <a:stretch/>
        </p:blipFill>
        <p:spPr>
          <a:xfrm>
            <a:off x="0" y="115920"/>
            <a:ext cx="464328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8" name="Object 14"/>
          <p:cNvGraphicFramePr/>
          <p:nvPr/>
        </p:nvGraphicFramePr>
        <p:xfrm>
          <a:off x="250920" y="-2332080"/>
          <a:ext cx="40384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-2332080"/>
                    <a:ext cx="4038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12" descr="танк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у-152 подбитая и захваченная на миус фронте"/>
          <p:cNvPicPr/>
          <p:nvPr/>
        </p:nvPicPr>
        <p:blipFill>
          <a:blip r:embed="rId4"/>
          <a:stretch/>
        </p:blipFill>
        <p:spPr>
          <a:xfrm>
            <a:off x="0" y="3429000"/>
            <a:ext cx="4506840" cy="3429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105520" y="818208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4859280" y="3933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-152 подбитая и захваченная на Миус-фрон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7" descr="уничтоженная германская бронетехника"/>
          <p:cNvPicPr/>
          <p:nvPr/>
        </p:nvPicPr>
        <p:blipFill>
          <a:blip r:embed="rId1"/>
          <a:stretch/>
        </p:blipFill>
        <p:spPr>
          <a:xfrm>
            <a:off x="0" y="620640"/>
            <a:ext cx="4932360" cy="5545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05520" y="333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ничтоженная советскими войсками германская бронетех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карта"/>
          <p:cNvPicPr/>
          <p:nvPr/>
        </p:nvPicPr>
        <p:blipFill>
          <a:blip r:embed="rId1"/>
          <a:stretch/>
        </p:blipFill>
        <p:spPr>
          <a:xfrm>
            <a:off x="108000" y="189000"/>
            <a:ext cx="8820000" cy="64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cc00"/>
                </a:solidFill>
                <a:latin typeface="Tahoma"/>
              </a:rPr>
              <a:t>Саур-могил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3280" y="1341360"/>
            <a:ext cx="450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cc00"/>
                </a:solidFill>
                <a:latin typeface="Tahoma"/>
              </a:rPr>
              <a:t>Саур-могила- курган в Шахтёрском районе Донецкой области. Одна из высочайших точек Донецкого кряжа. На вершине кургана находится сторожевой казацкий пост, укрепления Миус-фронта. После Великой Отечественной Войны на Саур-могиле был создан мемориальный комплекс. Курган входит в состав регионального ландшафтного парка «Донецкий кряж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саур могила"/>
          <p:cNvPicPr/>
          <p:nvPr/>
        </p:nvPicPr>
        <p:blipFill>
          <a:blip r:embed="rId1"/>
          <a:stretch/>
        </p:blipFill>
        <p:spPr>
          <a:xfrm>
            <a:off x="0" y="1125360"/>
            <a:ext cx="4716360" cy="554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32000" y="0"/>
            <a:ext cx="4211640" cy="685800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ff"/>
                </a:solidFill>
                <a:latin typeface="Tahoma"/>
              </a:rPr>
              <a:t>C 1941-1943</a:t>
            </a:r>
            <a:r>
              <a:rPr b="0" i="1" lang="ru-RU" sz="2000" spc="-1" strike="noStrike">
                <a:solidFill>
                  <a:srgbClr val="3366ff"/>
                </a:solidFill>
                <a:latin typeface="Tahoma"/>
              </a:rPr>
              <a:t> год Донбасс был оккупирован немецкими войсками. В течение двух лет в окрестностях Саур- могилы велось строительство оборонительных сооружений первой линии Миус-фронта. Саур-могила -господствующая высота, которая имела важное тактическое значение. На вершине располагался наблюдательгый пункт шестой германской ар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220px-%D0%A1%D0%B0%D1%83%D1%80-%D0%9C%D0%BE%D0%B3%D0%B8%D0%BB%D0%B0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6" descr="cfehv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2:47:48Z</dcterms:created>
  <dc:creator>WiZaRd</dc:creator>
  <dc:description/>
  <dc:language>en-US</dc:language>
  <cp:lastModifiedBy>поиск</cp:lastModifiedBy>
  <dcterms:modified xsi:type="dcterms:W3CDTF">2012-05-27T13:20:32Z</dcterms:modified>
  <cp:revision>12</cp:revision>
  <dc:subject/>
  <dc:title>Миус-фронт! </dc:title>
</cp:coreProperties>
</file>