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E123-3605-41A6-B029-B60D1D82E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C2E4-E8AE-4C38-9E2F-F24C73175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7059-C449-4EDA-85FD-68A9A0707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3FA0-9928-46A9-B5D0-B66ACD142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A2969-136D-412B-BDF9-82B2BD7B7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3F537-6BCA-47AD-ADA0-B09010C75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3513B-D858-4D86-B44C-828B3457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350CB-F9FC-431E-B74D-084A6E8AB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CA997-59D4-4229-8855-E0EDD1622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25342-5110-4F64-82AE-CE4545CD8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3052B-877A-4B76-B423-5AC99BBC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2081-8022-4E84-BEBC-8E54E6C61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44C8C-8322-4BBD-9249-54F80AF3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86478-B8E0-4DAE-B531-E04BADE7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F7B87-90B3-4E63-A1F2-24236ADB9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0281E-AFAD-413A-BABE-0F8F04A71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4566F-5116-4A79-BF53-86785053E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3BD1-6D46-480E-9DC0-66C75BBE9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F9F6-78BF-4C06-9363-37CAFF0B3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80E7-1571-40E8-B760-7F96C46E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5E57-635A-448C-85D0-EF478E339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6E6F-D259-4E35-9A66-D00C2DAA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2D4A-134D-4CB4-9B35-FE310B47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98FA-3FF4-4B81-80D8-C38677C0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03C20-A398-4FA5-828A-BC03FC11AFE3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5BFC4-5C11-43C3-8999-8D6644B0DA4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2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cc"/>
                </a:solidFill>
                <a:latin typeface="Tahoma"/>
              </a:rPr>
              <a:t>Миус-фронт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7432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5" descr="миус"/>
          <p:cNvPicPr/>
          <p:nvPr/>
        </p:nvPicPr>
        <p:blipFill>
          <a:blip r:embed="rId1"/>
          <a:stretch/>
        </p:blipFill>
        <p:spPr>
          <a:xfrm>
            <a:off x="395280" y="1197000"/>
            <a:ext cx="8353440" cy="5472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105520" y="83664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зятие высоты осложнялось тем, что советские войска наступали с крутого склона, а у немецких войск в тылу был пологий склон-это давало немцам использовать бронетехнику. Тем не менее, советское командование приняло решение о лобовом штурме высот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ысота была взята утром 31 августу 1943 го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9" descr="могилапртп"/>
          <p:cNvPicPr/>
          <p:nvPr/>
        </p:nvPicPr>
        <p:blipFill>
          <a:blip r:embed="rId1"/>
          <a:stretch/>
        </p:blipFill>
        <p:spPr>
          <a:xfrm>
            <a:off x="0" y="0"/>
            <a:ext cx="50767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920" y="404640"/>
            <a:ext cx="4038480" cy="66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Миус-фронт надолго задержал продвижение красной армии на южном направлении. Если Ростов-на-Дону был освобожден в феврале 1943года, то Таганрог- лишь 30 августа 1943год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В Красном Луче сооружен мемориальный комплекс «Миус-фронт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11" descr="ahjyn"/>
          <p:cNvPicPr/>
          <p:nvPr/>
        </p:nvPicPr>
        <p:blipFill>
          <a:blip r:embed="rId1"/>
          <a:stretch/>
        </p:blipFill>
        <p:spPr>
          <a:xfrm>
            <a:off x="4427640" y="0"/>
            <a:ext cx="471636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6" name="Picture 5" descr="ростов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75672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8360" y="2491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Impact"/>
              </a:rPr>
              <a:t>СПАСИБО ЗА ВНИМАНИЕ!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-360"/>
            <a:ext cx="822960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ильноукрепленный глубокоэшилонированный оборонительный рубеж, созданный немецкими войсками на реке Миус в декабре 1941год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11" descr="сильноукрепленный глубокоэшилонированный оборонительный рубеж созданный немецкими войсками на реке миус в декабре 1941года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5084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48320" y="-360"/>
            <a:ext cx="40384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ветские войска дважды пытались прорвать этот рубеж. Им это удалось лишь в августе1943 года в ходе Донбасской наступательной операции. Подготовка к прорыву была начата в мае 1943 г. В наступлении участвовали соединения пятой ударной армии Южного фронта. 18 августа 1943 г. Было начато наступление войск. В ночь на 24 августа советские войска пошли в атаку и заняли дорогу на Таганрог, что лишило Германские войска возможности перебрасывать резерв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9" descr="фронт"/>
          <p:cNvPicPr/>
          <p:nvPr/>
        </p:nvPicPr>
        <p:blipFill>
          <a:blip r:embed="rId1"/>
          <a:stretch/>
        </p:blipFill>
        <p:spPr>
          <a:xfrm>
            <a:off x="0" y="115920"/>
            <a:ext cx="4643280" cy="6553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98" name="Object 14"/>
          <p:cNvGraphicFramePr/>
          <p:nvPr/>
        </p:nvGraphicFramePr>
        <p:xfrm>
          <a:off x="250920" y="-2332080"/>
          <a:ext cx="4038480" cy="21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-2332080"/>
                    <a:ext cx="4038480" cy="21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0" name="Picture 12" descr="танк"/>
          <p:cNvPicPr/>
          <p:nvPr/>
        </p:nvPicPr>
        <p:blipFill>
          <a:blip r:embed="rId3"/>
          <a:stretch/>
        </p:blipFill>
        <p:spPr>
          <a:xfrm>
            <a:off x="4500720" y="0"/>
            <a:ext cx="4643280" cy="3429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су-152 подбитая и захваченная на миус фронте"/>
          <p:cNvPicPr/>
          <p:nvPr/>
        </p:nvPicPr>
        <p:blipFill>
          <a:blip r:embed="rId4"/>
          <a:stretch/>
        </p:blipFill>
        <p:spPr>
          <a:xfrm>
            <a:off x="0" y="3429000"/>
            <a:ext cx="4506840" cy="3429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5105520" y="8182080"/>
            <a:ext cx="4038480" cy="21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ext Box 18"/>
          <p:cNvSpPr/>
          <p:nvPr/>
        </p:nvSpPr>
        <p:spPr>
          <a:xfrm>
            <a:off x="4859280" y="3933720"/>
            <a:ext cx="38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у-152 подбитая и захваченная на Миус-фронт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5" name="Picture 7" descr="уничтоженная германская бронетехника"/>
          <p:cNvPicPr/>
          <p:nvPr/>
        </p:nvPicPr>
        <p:blipFill>
          <a:blip r:embed="rId1"/>
          <a:stretch/>
        </p:blipFill>
        <p:spPr>
          <a:xfrm>
            <a:off x="0" y="620640"/>
            <a:ext cx="4932360" cy="55450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105520" y="33336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ничтоженная советскими войсками германская бронетехни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4038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10" descr="карта"/>
          <p:cNvPicPr/>
          <p:nvPr/>
        </p:nvPicPr>
        <p:blipFill>
          <a:blip r:embed="rId1"/>
          <a:stretch/>
        </p:blipFill>
        <p:spPr>
          <a:xfrm>
            <a:off x="108000" y="189000"/>
            <a:ext cx="882000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cc00"/>
                </a:solidFill>
                <a:latin typeface="Tahoma"/>
              </a:rPr>
              <a:t>Саур-могил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3280" y="1341360"/>
            <a:ext cx="45007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cc00"/>
                </a:solidFill>
                <a:latin typeface="Tahoma"/>
              </a:rPr>
              <a:t>Саур-могила- курган в Шахтёрском районе Донецкой области. Одна из высочайших точек Донецкого кряжа. На вершине кургана находится сторожевой казацкий пост, укрепления Миус-фронта. После Великой Отечественной Войны на Саур-могиле был создан мемориальный комплекс. Курган входит в состав регионального ландшафтного парка «Донецкий кряж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8" descr="саур могила"/>
          <p:cNvPicPr/>
          <p:nvPr/>
        </p:nvPicPr>
        <p:blipFill>
          <a:blip r:embed="rId1"/>
          <a:stretch/>
        </p:blipFill>
        <p:spPr>
          <a:xfrm>
            <a:off x="0" y="1125360"/>
            <a:ext cx="4716360" cy="5543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32000" y="0"/>
            <a:ext cx="4211640" cy="6858000"/>
          </a:xfrm>
          <a:prstGeom prst="rect">
            <a:avLst/>
          </a:prstGeom>
          <a:solidFill>
            <a:srgbClr val="8c00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66ff"/>
                </a:solidFill>
                <a:latin typeface="Tahoma"/>
              </a:rPr>
              <a:t>C 1941-1943</a:t>
            </a:r>
            <a:r>
              <a:rPr b="0" i="1" lang="ru-RU" sz="2000" spc="-1" strike="noStrike">
                <a:solidFill>
                  <a:srgbClr val="3366ff"/>
                </a:solidFill>
                <a:latin typeface="Tahoma"/>
              </a:rPr>
              <a:t> год Донбасс был оккупирован немецкими войсками. В течение двух лет в окрестностях Саур- могилы велось строительство оборонительных сооружений первой линии Миус-фронта. Саур-могила -господствующая высота, которая имела важное тактическое значение. На вершине располагался наблюдательгый пункт шестой германской арм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4" descr="220px-%D0%A1%D0%B0%D1%83%D1%80-%D0%9C%D0%BE%D0%B3%D0%B8%D0%BB%D0%B0"/>
          <p:cNvPicPr/>
          <p:nvPr/>
        </p:nvPicPr>
        <p:blipFill>
          <a:blip r:embed="rId1"/>
          <a:stretch/>
        </p:blipFill>
        <p:spPr>
          <a:xfrm>
            <a:off x="0" y="0"/>
            <a:ext cx="493236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8" name="Picture 6" descr="cfehv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6T12:47:48Z</dcterms:created>
  <dc:creator>WiZaRd</dc:creator>
  <dc:description/>
  <dc:language>en-US</dc:language>
  <cp:lastModifiedBy>поиск</cp:lastModifiedBy>
  <dcterms:modified xsi:type="dcterms:W3CDTF">2012-05-27T13:20:32Z</dcterms:modified>
  <cp:revision>12</cp:revision>
  <dc:subject/>
  <dc:title>Миус-фронт! </dc:title>
</cp:coreProperties>
</file>