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5579A-57EF-4777-A49A-B7339C31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FD453-3AEE-4000-A958-B31111E5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38FC-2C2E-4987-9AAB-057CF2A2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AFCB-507C-4879-951E-FFEB0DB9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0C11-9E38-42F3-9AC6-E510ECCE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CD89-692A-4F47-AE8F-72BD47F2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394E-315E-4A8F-AD29-AA5A6679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FC7B-C10C-4DFC-8794-890E2BCD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8EC5-B50E-4909-9774-DF8035C1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E9C9-3671-4CCB-A333-8FD530EE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DB47-7F65-4317-8C85-F8BC59A5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653C6-7D08-46EC-9C5E-32681CA3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F4E6-D652-442B-BE37-17C9DAD2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C80A-F762-4A14-B00B-D2B0098D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3401-7C38-4648-B5D3-2B28880A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2CE0-06B1-4DB8-8259-84724BEA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90C3-02A7-463E-9FBC-776AA62F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6372-EB3A-4BC6-BCA0-92C985FB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E266E-A236-481F-B767-C163EDDE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F6242-05E9-4FB7-8639-B73273B0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E659C-E45E-4213-AAF1-A7322D8C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CF38-87D1-4458-BA96-0BDA49FA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6EFAC-218C-4FFA-B673-A0609DDA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FF161-D196-47A2-B7E2-34ED5C83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8f0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5BC5-E3AA-4248-85C6-302187F6E5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8f0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DB0A-2242-40C0-BE31-E44B2495C5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42720" y="1371600"/>
            <a:ext cx="66200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Monotype Corsiva"/>
              </a:rPr>
              <a:t>Методическое объединение  учителей гуманитарного цикл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11280" y="260280"/>
            <a:ext cx="8064360" cy="576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«Джанайская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book"/>
          <p:cNvPicPr/>
          <p:nvPr/>
        </p:nvPicPr>
        <p:blipFill>
          <a:blip r:embed="rId1"/>
          <a:stretch/>
        </p:blipFill>
        <p:spPr>
          <a:xfrm>
            <a:off x="789120" y="4170240"/>
            <a:ext cx="1838160" cy="141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ручка"/>
          <p:cNvPicPr/>
          <p:nvPr/>
        </p:nvPicPr>
        <p:blipFill>
          <a:blip r:embed="rId2"/>
          <a:stretch/>
        </p:blipFill>
        <p:spPr>
          <a:xfrm>
            <a:off x="1873080" y="4187880"/>
            <a:ext cx="900360" cy="10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6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Сотрудничество с центром внешкольной работы «Подросто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741760"/>
            <a:ext cx="770580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етрушка»-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Абдрахманова Г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Литературное краеведение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»- Салимова Ф.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Юнкор»-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жумамухамедова Г.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Домисолька»-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жиенбулатова Г.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Краеведение»-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Булатова В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Умелые ручки»-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тебаева С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8"/>
          <p:cNvSpPr txBox="1"/>
          <p:nvPr/>
        </p:nvSpPr>
        <p:spPr>
          <a:xfrm>
            <a:off x="857160" y="1824120"/>
            <a:ext cx="33418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ужки по интересам: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2" name="Picture 10" descr="book"/>
          <p:cNvPicPr/>
          <p:nvPr/>
        </p:nvPicPr>
        <p:blipFill>
          <a:blip r:embed="rId1"/>
          <a:stretch/>
        </p:blipFill>
        <p:spPr>
          <a:xfrm>
            <a:off x="6943680" y="5105520"/>
            <a:ext cx="1838520" cy="1419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ручка"/>
          <p:cNvPicPr/>
          <p:nvPr/>
        </p:nvPicPr>
        <p:blipFill>
          <a:blip r:embed="rId2"/>
          <a:stretch/>
        </p:blipFill>
        <p:spPr>
          <a:xfrm>
            <a:off x="8028000" y="512280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29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1476360" y="620640"/>
            <a:ext cx="719928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, конкурс, конкурс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971640" y="1989000"/>
            <a:ext cx="2808360" cy="1224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курс творческих рабо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Я помню, я горжусь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9 участ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067280" y="2278080"/>
            <a:ext cx="3887640" cy="15112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ластной интернет-проек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Защитники Отечеств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 финали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395280" y="3573360"/>
            <a:ext cx="4392720" cy="1368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ластной конкурс «Моя малая родин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 финали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3132000" y="4941720"/>
            <a:ext cx="4535640" cy="12020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ластной конкурс исследовательских рабо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Права ребёнка в новом веке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 лауреа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4" descr="book"/>
          <p:cNvPicPr/>
          <p:nvPr/>
        </p:nvPicPr>
        <p:blipFill>
          <a:blip r:embed="rId1"/>
          <a:stretch/>
        </p:blipFill>
        <p:spPr>
          <a:xfrm>
            <a:off x="395280" y="5283360"/>
            <a:ext cx="1838160" cy="1419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ручка"/>
          <p:cNvPicPr/>
          <p:nvPr/>
        </p:nvPicPr>
        <p:blipFill>
          <a:blip r:embed="rId2"/>
          <a:stretch/>
        </p:blipFill>
        <p:spPr>
          <a:xfrm>
            <a:off x="1479600" y="530064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346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8"/>
          <p:cNvSpPr/>
          <p:nvPr/>
        </p:nvSpPr>
        <p:spPr>
          <a:xfrm>
            <a:off x="755640" y="2781360"/>
            <a:ext cx="3527280" cy="3422520"/>
          </a:xfrm>
          <a:custGeom>
            <a:avLst/>
            <a:gdLst>
              <a:gd name="textAreaLeft" fmla="*/ 804960 w 3527280"/>
              <a:gd name="textAreaRight" fmla="*/ 2722320 w 3527280"/>
              <a:gd name="textAreaTop" fmla="*/ 781200 h 3422520"/>
              <a:gd name="textAreaBottom" fmla="*/ 2641320 h 342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Экологический фору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Зелёная планета-2010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Номина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Многообразие вековых традици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3 место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2012г-2 место (региональный этап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468360" y="439560"/>
            <a:ext cx="4246560" cy="2735280"/>
          </a:xfrm>
          <a:custGeom>
            <a:avLst/>
            <a:gdLst>
              <a:gd name="textAreaLeft" fmla="*/ 969480 w 4246560"/>
              <a:gd name="textAreaRight" fmla="*/ 3277080 w 424656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областной творческий  конкур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на лучший рисунок – проек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Природа родного кр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глазами ребёнк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1 мес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2 финали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995640" y="2781360"/>
            <a:ext cx="3961080" cy="3422520"/>
          </a:xfrm>
          <a:custGeom>
            <a:avLst/>
            <a:gdLst>
              <a:gd name="textAreaLeft" fmla="*/ 904320 w 3961080"/>
              <a:gd name="textAreaRight" fmla="*/ 3056760 w 3961080"/>
              <a:gd name="textAreaTop" fmla="*/ 781200 h 3422520"/>
              <a:gd name="textAreaBottom" fmla="*/ 2641320 h 342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Районный конкур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драматических объедин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Маска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2 мес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3 мес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5234040" y="439560"/>
            <a:ext cx="3241800" cy="2521080"/>
          </a:xfrm>
          <a:custGeom>
            <a:avLst/>
            <a:gdLst>
              <a:gd name="textAreaLeft" fmla="*/ 739800 w 3241800"/>
              <a:gd name="textAreaRight" fmla="*/ 2502000 w 3241800"/>
              <a:gd name="textAreaTop" fmla="*/ 575280 h 2521080"/>
              <a:gd name="textAreaBottom" fmla="*/ 194580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район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слёт краеведов-турис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3 мес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7" descr="book"/>
          <p:cNvPicPr/>
          <p:nvPr/>
        </p:nvPicPr>
        <p:blipFill>
          <a:blip r:embed="rId1"/>
          <a:stretch/>
        </p:blipFill>
        <p:spPr>
          <a:xfrm>
            <a:off x="7380360" y="5465880"/>
            <a:ext cx="1546200" cy="1193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ручка"/>
          <p:cNvPicPr/>
          <p:nvPr/>
        </p:nvPicPr>
        <p:blipFill>
          <a:blip r:embed="rId2"/>
          <a:stretch/>
        </p:blipFill>
        <p:spPr>
          <a:xfrm>
            <a:off x="8278920" y="5511960"/>
            <a:ext cx="75708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39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8"/>
          <p:cNvSpPr/>
          <p:nvPr/>
        </p:nvSpPr>
        <p:spPr>
          <a:xfrm>
            <a:off x="755640" y="2781360"/>
            <a:ext cx="3527280" cy="3422520"/>
          </a:xfrm>
          <a:custGeom>
            <a:avLst/>
            <a:gdLst>
              <a:gd name="textAreaLeft" fmla="*/ 804960 w 3527280"/>
              <a:gd name="textAreaRight" fmla="*/ 2722320 w 3527280"/>
              <a:gd name="textAreaTop" fmla="*/ 781200 h 3422520"/>
              <a:gd name="textAreaBottom" fmla="*/ 2641320 h 342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Районный конкур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литературных произвед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Хрустальная роз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1 место-2 участн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2 место-2 участн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468360" y="439560"/>
            <a:ext cx="4246560" cy="2735280"/>
          </a:xfrm>
          <a:custGeom>
            <a:avLst/>
            <a:gdLst>
              <a:gd name="textAreaLeft" fmla="*/ 969480 w 4246560"/>
              <a:gd name="textAreaRight" fmla="*/ 3277080 w 424656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Районный конкурс чтец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номинация «Художественное слово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1 победитель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3 призё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дипломан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Золотой ключи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95640" y="2781360"/>
            <a:ext cx="3961080" cy="3422520"/>
          </a:xfrm>
          <a:custGeom>
            <a:avLst/>
            <a:gdLst>
              <a:gd name="textAreaLeft" fmla="*/ 904320 w 3961080"/>
              <a:gd name="textAreaRight" fmla="*/ 3056760 w 3961080"/>
              <a:gd name="textAreaTop" fmla="*/ 781200 h 3422520"/>
              <a:gd name="textAreaBottom" fmla="*/ 2641320 h 342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Районный смотр агитацио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бриг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Мы за здоровый образ жизни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1 мес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234040" y="439560"/>
            <a:ext cx="3241800" cy="2521080"/>
          </a:xfrm>
          <a:custGeom>
            <a:avLst/>
            <a:gdLst>
              <a:gd name="textAreaLeft" fmla="*/ 739800 w 3241800"/>
              <a:gd name="textAreaRight" fmla="*/ 2502000 w 3241800"/>
              <a:gd name="textAreaTop" fmla="*/ 575280 h 2521080"/>
              <a:gd name="textAreaBottom" fmla="*/ 194580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йон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танцевально-вока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фестиваль «Стань звездо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3 мес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17" descr="book"/>
          <p:cNvPicPr/>
          <p:nvPr/>
        </p:nvPicPr>
        <p:blipFill>
          <a:blip r:embed="rId1"/>
          <a:stretch/>
        </p:blipFill>
        <p:spPr>
          <a:xfrm>
            <a:off x="7380360" y="5465880"/>
            <a:ext cx="1546200" cy="1193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ручка"/>
          <p:cNvPicPr/>
          <p:nvPr/>
        </p:nvPicPr>
        <p:blipFill>
          <a:blip r:embed="rId2"/>
          <a:stretch/>
        </p:blipFill>
        <p:spPr>
          <a:xfrm>
            <a:off x="8278920" y="5511960"/>
            <a:ext cx="75708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418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9"/>
          <p:cNvSpPr/>
          <p:nvPr/>
        </p:nvSpPr>
        <p:spPr>
          <a:xfrm>
            <a:off x="142920" y="357120"/>
            <a:ext cx="3929040" cy="3021120"/>
          </a:xfrm>
          <a:custGeom>
            <a:avLst/>
            <a:gdLst>
              <a:gd name="textAreaLeft" fmla="*/ 896760 w 3929040"/>
              <a:gd name="textAreaRight" fmla="*/ 3032280 w 3929040"/>
              <a:gd name="textAreaTop" fmla="*/ 689760 h 3021120"/>
              <a:gd name="textAreaBottom" fmla="*/ 2331360 h 3021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Районный фестива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педагогических коллектив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Дорога Побе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Номинац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Всё для фронта, всё для Побе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Диплом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 степен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F:\ХРАНИТЬ ЗДЕСЬ\P1030456.JPG"/>
          <p:cNvPicPr/>
          <p:nvPr/>
        </p:nvPicPr>
        <p:blipFill>
          <a:blip r:embed="rId1"/>
          <a:stretch/>
        </p:blipFill>
        <p:spPr>
          <a:xfrm>
            <a:off x="2571840" y="2500200"/>
            <a:ext cx="63612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Monotype Corsiva"/>
              </a:rPr>
              <a:t>Методическая т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2041560"/>
            <a:ext cx="793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Использование современных информационных технолог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в учебно-воспитательном процессе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0" descr="book"/>
          <p:cNvPicPr/>
          <p:nvPr/>
        </p:nvPicPr>
        <p:blipFill>
          <a:blip r:embed="rId1"/>
          <a:stretch/>
        </p:blipFill>
        <p:spPr>
          <a:xfrm>
            <a:off x="6943680" y="5105520"/>
            <a:ext cx="1838520" cy="1419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ручка"/>
          <p:cNvPicPr/>
          <p:nvPr/>
        </p:nvPicPr>
        <p:blipFill>
          <a:blip r:embed="rId2"/>
          <a:stretch/>
        </p:blipFill>
        <p:spPr>
          <a:xfrm>
            <a:off x="8028000" y="512280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2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a50021"/>
                </a:solidFill>
                <a:latin typeface="Arial"/>
              </a:rPr>
              <a:t>Задачи ШМО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рганизация информационно – методической помощи учител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Активное включение педагогов в      методическую, инновационную, опытно-педагогическую 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оздание информационно-педагогического банка собственных дости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азвитие информационной культуры педагогов и использование информационных технологий в воспитательной рабо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0" descr="book"/>
          <p:cNvPicPr/>
          <p:nvPr/>
        </p:nvPicPr>
        <p:blipFill>
          <a:blip r:embed="rId1"/>
          <a:stretch/>
        </p:blipFill>
        <p:spPr>
          <a:xfrm>
            <a:off x="6943680" y="5105520"/>
            <a:ext cx="1838520" cy="1419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ручка"/>
          <p:cNvPicPr/>
          <p:nvPr/>
        </p:nvPicPr>
        <p:blipFill>
          <a:blip r:embed="rId2"/>
          <a:stretch/>
        </p:blipFill>
        <p:spPr>
          <a:xfrm>
            <a:off x="8028000" y="512280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4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Monotype Corsiva"/>
              </a:rPr>
              <a:t>ШМ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95280" y="1341360"/>
            <a:ext cx="1944720" cy="1800360"/>
          </a:xfrm>
          <a:prstGeom prst="flowChartDocumen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усского я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619280" y="2421000"/>
            <a:ext cx="2160720" cy="1800000"/>
          </a:xfrm>
          <a:prstGeom prst="flowChartDocumen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ществе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исцип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3419640" y="3321000"/>
            <a:ext cx="1944360" cy="1800360"/>
          </a:xfrm>
          <a:prstGeom prst="flowChartDocumen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Х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З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5148360" y="4005360"/>
            <a:ext cx="1944720" cy="1800000"/>
          </a:xfrm>
          <a:prstGeom prst="flowChartDocumen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чи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ча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6804000" y="4905360"/>
            <a:ext cx="2160720" cy="1800360"/>
          </a:xfrm>
          <a:prstGeom prst="flowChartDocumen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ностран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я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2" descr="book"/>
          <p:cNvPicPr/>
          <p:nvPr/>
        </p:nvPicPr>
        <p:blipFill>
          <a:blip r:embed="rId1"/>
          <a:stretch/>
        </p:blipFill>
        <p:spPr>
          <a:xfrm>
            <a:off x="295200" y="4905360"/>
            <a:ext cx="1838520" cy="1419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ручка"/>
          <p:cNvPicPr/>
          <p:nvPr/>
        </p:nvPicPr>
        <p:blipFill>
          <a:blip r:embed="rId2"/>
          <a:stretch/>
        </p:blipFill>
        <p:spPr>
          <a:xfrm>
            <a:off x="1379520" y="4923000"/>
            <a:ext cx="90000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8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1476360" y="620640"/>
            <a:ext cx="719928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58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ышение  квалификации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71640" y="1989000"/>
            <a:ext cx="2808360" cy="1224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став МО-12 педаг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000760" y="1989000"/>
            <a:ext cx="3887640" cy="15112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ысшая категория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395280" y="3573360"/>
            <a:ext cx="4392720" cy="1368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ервая категория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3780000" y="5132520"/>
            <a:ext cx="4535280" cy="12016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торая категория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4" descr="book"/>
          <p:cNvPicPr/>
          <p:nvPr/>
        </p:nvPicPr>
        <p:blipFill>
          <a:blip r:embed="rId1"/>
          <a:stretch/>
        </p:blipFill>
        <p:spPr>
          <a:xfrm>
            <a:off x="395280" y="5283360"/>
            <a:ext cx="1838160" cy="1419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ручка"/>
          <p:cNvPicPr/>
          <p:nvPr/>
        </p:nvPicPr>
        <p:blipFill>
          <a:blip r:embed="rId2"/>
          <a:stretch/>
        </p:blipFill>
        <p:spPr>
          <a:xfrm>
            <a:off x="1479600" y="530064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12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Овал 2"/>
          <p:cNvSpPr/>
          <p:nvPr/>
        </p:nvSpPr>
        <p:spPr>
          <a:xfrm>
            <a:off x="214200" y="214200"/>
            <a:ext cx="3571920" cy="1785960"/>
          </a:xfrm>
          <a:prstGeom prst="ellipse">
            <a:avLst/>
          </a:prstGeom>
          <a:solidFill>
            <a:srgbClr val="b9d6e7"/>
          </a:solidFill>
          <a:ln w="25560">
            <a:solidFill>
              <a:srgbClr val="879d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равственно-эстетическ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Овал 4"/>
          <p:cNvSpPr/>
          <p:nvPr/>
        </p:nvSpPr>
        <p:spPr>
          <a:xfrm>
            <a:off x="5143680" y="142920"/>
            <a:ext cx="3714480" cy="178596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Интеллектуаль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Овал 5"/>
          <p:cNvSpPr/>
          <p:nvPr/>
        </p:nvSpPr>
        <p:spPr>
          <a:xfrm>
            <a:off x="6143760" y="3786120"/>
            <a:ext cx="3000240" cy="1428840"/>
          </a:xfrm>
          <a:prstGeom prst="ellipse">
            <a:avLst/>
          </a:prstGeom>
          <a:solidFill>
            <a:srgbClr val="aabef6"/>
          </a:solidFill>
          <a:ln w="25560">
            <a:solidFill>
              <a:srgbClr val="7c8b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триотиче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Овал 6"/>
          <p:cNvSpPr/>
          <p:nvPr/>
        </p:nvSpPr>
        <p:spPr>
          <a:xfrm>
            <a:off x="214200" y="4000680"/>
            <a:ext cx="3071880" cy="1571400"/>
          </a:xfrm>
          <a:prstGeom prst="ellipse">
            <a:avLst/>
          </a:prstGeom>
          <a:gradFill rotWithShape="0">
            <a:gsLst>
              <a:gs pos="0">
                <a:srgbClr val="7488bf"/>
              </a:gs>
              <a:gs pos="100000">
                <a:srgbClr val="98b3fc"/>
              </a:gs>
            </a:gsLst>
            <a:lin ang="16200000"/>
          </a:gradFill>
          <a:ln w="9360">
            <a:solidFill>
              <a:srgbClr val="a4b9f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Эколог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Овал 7"/>
          <p:cNvSpPr/>
          <p:nvPr/>
        </p:nvSpPr>
        <p:spPr>
          <a:xfrm>
            <a:off x="3286080" y="5000760"/>
            <a:ext cx="2857680" cy="1643040"/>
          </a:xfrm>
          <a:prstGeom prst="ellipse">
            <a:avLst/>
          </a:prstGeom>
          <a:gradFill rotWithShape="0">
            <a:gsLst>
              <a:gs pos="0">
                <a:srgbClr val="7b7b89"/>
              </a:gs>
              <a:gs pos="100000">
                <a:srgbClr val="a3a3b5"/>
              </a:gs>
            </a:gsLst>
            <a:lin ang="16200000"/>
          </a:gradFill>
          <a:ln w="9360">
            <a:solidFill>
              <a:srgbClr val="a6a6b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00"/>
                </a:solidFill>
                <a:latin typeface="Arial"/>
              </a:rPr>
              <a:t>Физическ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Скругленный прямоугольник 16"/>
          <p:cNvSpPr/>
          <p:nvPr/>
        </p:nvSpPr>
        <p:spPr>
          <a:xfrm>
            <a:off x="3000240" y="1643040"/>
            <a:ext cx="3357720" cy="2716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b0c3"/>
              </a:gs>
              <a:gs pos="100000">
                <a:srgbClr val="bee8ff"/>
              </a:gs>
            </a:gsLst>
            <a:lin ang="16200000"/>
          </a:gradFill>
          <a:ln w="9360">
            <a:solidFill>
              <a:srgbClr val="c6e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ые направления работы шк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бразовательную систему  включены пять направлений деятельности всех субъектов образователь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Прямая со стрелкой 20"/>
          <p:cNvCxnSpPr/>
          <p:nvPr/>
        </p:nvCxnSpPr>
        <p:spPr>
          <a:xfrm flipV="1">
            <a:off x="6357960" y="1642680"/>
            <a:ext cx="357840" cy="35784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49" name="Прямая со стрелкой 22"/>
          <p:cNvCxnSpPr/>
          <p:nvPr/>
        </p:nvCxnSpPr>
        <p:spPr>
          <a:xfrm>
            <a:off x="6357600" y="4000320"/>
            <a:ext cx="572040" cy="28620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50" name="Прямая со стрелкой 26"/>
          <p:cNvCxnSpPr/>
          <p:nvPr/>
        </p:nvCxnSpPr>
        <p:spPr>
          <a:xfrm flipH="1" flipV="1">
            <a:off x="2642760" y="1499760"/>
            <a:ext cx="357840" cy="35784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51" name="Прямая со стрелкой 28"/>
          <p:cNvCxnSpPr/>
          <p:nvPr/>
        </p:nvCxnSpPr>
        <p:spPr>
          <a:xfrm flipH="1">
            <a:off x="2428200" y="3999600"/>
            <a:ext cx="500760" cy="28620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52" name="Прямая со стрелкой 30"/>
          <p:cNvCxnSpPr/>
          <p:nvPr/>
        </p:nvCxnSpPr>
        <p:spPr>
          <a:xfrm flipH="1">
            <a:off x="4785480" y="4359240"/>
            <a:ext cx="2520" cy="57240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85920" y="142920"/>
            <a:ext cx="7400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равственно-эстетическо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Рисунок 13" descr="C:\Documents and Settings\Альфия\Мои документы\Мои рисунки\праздники\праздники 206.jpg"/>
          <p:cNvPicPr/>
          <p:nvPr/>
        </p:nvPicPr>
        <p:blipFill>
          <a:blip r:embed="rId1"/>
          <a:stretch/>
        </p:blipFill>
        <p:spPr>
          <a:xfrm>
            <a:off x="5143680" y="4071960"/>
            <a:ext cx="3643200" cy="24289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4" descr="C:\Documents and Settings\Альфия\Мои документы\Мои рисунки\праздники\праздники 243.jpg"/>
          <p:cNvPicPr/>
          <p:nvPr/>
        </p:nvPicPr>
        <p:blipFill>
          <a:blip r:embed="rId2"/>
          <a:stretch/>
        </p:blipFill>
        <p:spPr>
          <a:xfrm>
            <a:off x="5214960" y="1143000"/>
            <a:ext cx="3448080" cy="24890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5" descr="C:\Documents and Settings\Альфия\Мои документы\Мои рисунки\праздники\праздники 313.jpg"/>
          <p:cNvPicPr/>
          <p:nvPr/>
        </p:nvPicPr>
        <p:blipFill>
          <a:blip r:embed="rId3"/>
          <a:stretch/>
        </p:blipFill>
        <p:spPr>
          <a:xfrm>
            <a:off x="785880" y="3786120"/>
            <a:ext cx="3752640" cy="25020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6" descr="C:\Documents and Settings\Альфия\Мои документы\Мои рисунки\праздники\праздники 269.jpg"/>
          <p:cNvPicPr/>
          <p:nvPr/>
        </p:nvPicPr>
        <p:blipFill>
          <a:blip r:embed="rId4"/>
          <a:stretch/>
        </p:blipFill>
        <p:spPr>
          <a:xfrm>
            <a:off x="214200" y="1143000"/>
            <a:ext cx="3791160" cy="2527200"/>
          </a:xfrm>
          <a:prstGeom prst="rect">
            <a:avLst/>
          </a:prstGeom>
          <a:ln w="0">
            <a:noFill/>
          </a:ln>
        </p:spPr>
      </p:pic>
      <p:sp>
        <p:nvSpPr>
          <p:cNvPr id="158" name="Скругленный прямоугольник 18"/>
          <p:cNvSpPr/>
          <p:nvPr/>
        </p:nvSpPr>
        <p:spPr>
          <a:xfrm>
            <a:off x="3071880" y="2928960"/>
            <a:ext cx="3929040" cy="1928880"/>
          </a:xfrm>
          <a:prstGeom prst="roundRect">
            <a:avLst>
              <a:gd name="adj" fmla="val 16667"/>
            </a:avLst>
          </a:prstGeom>
          <a:solidFill>
            <a:srgbClr val="b9d6e7"/>
          </a:solidFill>
          <a:ln w="25560">
            <a:solidFill>
              <a:srgbClr val="879d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роки литературы, музыки, труда, выставки прикладного искусства, концертные программы, библиотека, сотрудничество с  учреждениями культуры и внешкольным центром «Подросто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85560" y="142920"/>
            <a:ext cx="701028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Гражданско-патриотическо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Рисунок 2" descr="C:\Documents and Settings\Альфия\Мои документы\фото 2\P1030413.JPG"/>
          <p:cNvPicPr/>
          <p:nvPr/>
        </p:nvPicPr>
        <p:blipFill>
          <a:blip r:embed="rId1"/>
          <a:stretch/>
        </p:blipFill>
        <p:spPr>
          <a:xfrm>
            <a:off x="428760" y="1214280"/>
            <a:ext cx="3562200" cy="23749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C:\Documents and Settings\Альфия\Мои документы\фото.Ясын-Сокан\P1010359.JPG"/>
          <p:cNvPicPr/>
          <p:nvPr/>
        </p:nvPicPr>
        <p:blipFill>
          <a:blip r:embed="rId2"/>
          <a:stretch/>
        </p:blipFill>
        <p:spPr>
          <a:xfrm>
            <a:off x="5643720" y="4429080"/>
            <a:ext cx="320508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6" descr="C:\Documents and Settings\Альфия\Мои документы\фото.Ясын-Сокан\P1010404.JPG"/>
          <p:cNvPicPr/>
          <p:nvPr/>
        </p:nvPicPr>
        <p:blipFill>
          <a:blip r:embed="rId3"/>
          <a:stretch/>
        </p:blipFill>
        <p:spPr>
          <a:xfrm>
            <a:off x="5357880" y="1214280"/>
            <a:ext cx="3286080" cy="24289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7" descr="G:\IMGP9371.JPG"/>
          <p:cNvPicPr/>
          <p:nvPr/>
        </p:nvPicPr>
        <p:blipFill>
          <a:blip r:embed="rId4"/>
          <a:stretch/>
        </p:blipFill>
        <p:spPr>
          <a:xfrm>
            <a:off x="571680" y="4429080"/>
            <a:ext cx="3455640" cy="2109960"/>
          </a:xfrm>
          <a:prstGeom prst="rect">
            <a:avLst/>
          </a:prstGeom>
          <a:ln w="0">
            <a:noFill/>
          </a:ln>
        </p:spPr>
      </p:pic>
      <p:sp>
        <p:nvSpPr>
          <p:cNvPr id="164" name="Скругленный прямоугольник 8"/>
          <p:cNvSpPr/>
          <p:nvPr/>
        </p:nvSpPr>
        <p:spPr>
          <a:xfrm>
            <a:off x="3071880" y="3143160"/>
            <a:ext cx="3143160" cy="1857600"/>
          </a:xfrm>
          <a:prstGeom prst="roundRect">
            <a:avLst>
              <a:gd name="adj" fmla="val 40449"/>
            </a:avLst>
          </a:prstGeom>
          <a:gradFill rotWithShape="0">
            <a:gsLst>
              <a:gs pos="0">
                <a:srgbClr val="d0fbff"/>
              </a:gs>
              <a:gs pos="100000">
                <a:srgbClr val="f0feff"/>
              </a:gs>
            </a:gsLst>
            <a:lin ang="16200000"/>
          </a:gradFill>
          <a:ln w="9360">
            <a:solidFill>
              <a:srgbClr val="c6e7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роки ОБЖ, права, классные часы,  сотрудничество с клубом «Мужество», участие в исследовательских конкурс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a50021"/>
                </a:solidFill>
                <a:latin typeface="Monotype Corsiva"/>
              </a:rPr>
              <a:t>Участие в методической работ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00040" y="1752480"/>
          <a:ext cx="7243920" cy="4626000"/>
        </p:xfrm>
        <a:graphic>
          <a:graphicData uri="http://schemas.openxmlformats.org/drawingml/2006/table">
            <a:tbl>
              <a:tblPr/>
              <a:tblGrid>
                <a:gridCol w="2414520"/>
                <a:gridCol w="2414520"/>
                <a:gridCol w="241488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09-2010 уч.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10-2011 уч.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ыступления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а ШМ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а РМ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Мероприятия (конкурсы, фестивали, семинар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школь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йо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бласт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Picture 10" descr="book"/>
          <p:cNvPicPr/>
          <p:nvPr/>
        </p:nvPicPr>
        <p:blipFill>
          <a:blip r:embed="rId1"/>
          <a:stretch/>
        </p:blipFill>
        <p:spPr>
          <a:xfrm>
            <a:off x="7305840" y="3686040"/>
            <a:ext cx="1838160" cy="1419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ручка"/>
          <p:cNvPicPr/>
          <p:nvPr/>
        </p:nvPicPr>
        <p:blipFill>
          <a:blip r:embed="rId2"/>
          <a:stretch/>
        </p:blipFill>
        <p:spPr>
          <a:xfrm>
            <a:off x="7786800" y="368604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28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1:22:33Z</dcterms:created>
  <dc:creator>User</dc:creator>
  <dc:description/>
  <dc:language>en-US</dc:language>
  <cp:lastModifiedBy>1</cp:lastModifiedBy>
  <dcterms:modified xsi:type="dcterms:W3CDTF">2012-05-27T17:20:26Z</dcterms:modified>
  <cp:revision>88</cp:revision>
  <dc:subject/>
  <dc:title>Методическое объединение классных руководителей</dc:title>
</cp:coreProperties>
</file>