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Emblema shkoli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9"/>
          <p:cNvSpPr/>
          <p:nvPr/>
        </p:nvSpPr>
        <p:spPr>
          <a:xfrm>
            <a:off x="0" y="657072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жская основная школа «ПАРДАУГАВА»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Рига, 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,  e-mail: lazareva@pdps.l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8.xml"/><Relationship Id="rId25" Type="http://schemas.openxmlformats.org/officeDocument/2006/relationships/slide" Target="slide27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6.png"/><Relationship Id="rId58" Type="http://schemas.openxmlformats.org/officeDocument/2006/relationships/audio" Target="../media/chimes.wav"/><Relationship Id="rId5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115640" y="691920"/>
            <a:ext cx="6985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рави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о русскому язы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Book Antiqua"/>
              </a:rPr>
              <a:t>д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4" descr="6ce8903bff01"/>
          <p:cNvPicPr/>
          <p:nvPr/>
        </p:nvPicPr>
        <p:blipFill>
          <a:blip r:embed="rId1"/>
          <a:stretch/>
        </p:blipFill>
        <p:spPr>
          <a:xfrm>
            <a:off x="2627280" y="2637000"/>
            <a:ext cx="1822320" cy="3724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a30707c5276d"/>
          <p:cNvPicPr/>
          <p:nvPr/>
        </p:nvPicPr>
        <p:blipFill>
          <a:blip r:embed="rId2"/>
          <a:stretch/>
        </p:blipFill>
        <p:spPr>
          <a:xfrm>
            <a:off x="5003640" y="3284640"/>
            <a:ext cx="1420920" cy="292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ПРОПИСНАЯ БУ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Помни: пишутся все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С большой буквы гор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Реки, страны и мор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И фамилия тво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страна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город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река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уг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Б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алтийское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СОСТАВ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Корен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бщая часть родственных слов.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Приставка и суффик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-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значим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слов, образуют новые слова.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Окончание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изменяемая  часть слова,  служит для связи слов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рень, приставка и суффикс – это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основа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сочетаниях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ЧК   ЧН   НЧ   НЩ   РЩ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ягкий знак не пиш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о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чк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а        каме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нщ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ик        спо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рщ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делительный мягкий знак пишется после согласных перед гласными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Е  Ё  И  Ю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лать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ручь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обезь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делительный твердый знак пишется после приставки, оканчивающейся на согласную перед гласными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Е   Ё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д</a:t>
            </a:r>
            <a:r>
              <a:rPr b="0" lang="ru-RU" sz="2800" spc="-1" strike="noStrike">
                <a:solidFill>
                  <a:srgbClr val="008000"/>
                </a:solidFill>
                <a:latin typeface="Book Antiqua"/>
              </a:rPr>
              <a:t>ъ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д      под</a:t>
            </a:r>
            <a:r>
              <a:rPr b="0" lang="ru-RU" sz="2800" spc="-1" strike="noStrike">
                <a:solidFill>
                  <a:srgbClr val="008000"/>
                </a:solidFill>
                <a:latin typeface="Book Antiqua"/>
              </a:rPr>
              <a:t>ъ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         об</a:t>
            </a:r>
            <a:r>
              <a:rPr b="0" lang="ru-RU" sz="2800" spc="-1" strike="noStrike">
                <a:solidFill>
                  <a:srgbClr val="008000"/>
                </a:solidFill>
                <a:latin typeface="Book Antiqua"/>
              </a:rPr>
              <a:t>ъ</a:t>
            </a:r>
            <a:r>
              <a:rPr b="0" lang="ru-RU" sz="2800" spc="-1" strike="noStrike">
                <a:solidFill>
                  <a:srgbClr val="ff0000"/>
                </a:solidFill>
                <a:latin typeface="Book Antiqu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ПРАВОПИСАНИЕ ПРИСТА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иставки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без-   воз-   вз-  из-   низ-  раз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шутся перед гласными и звонк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вз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лет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без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водный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раз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а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иставки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бес-   вос-   вс-   ис-   нис-  рас-   чрез-   через-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шутся перед глухими соглас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во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итание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в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омнит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 ис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угат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ПРАВОПИСАНИЕ ПРИСТАВОК И ПРЕДЛ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Приставка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– это часть слова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слитно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Предлог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– это часть речи и пишется </a:t>
            </a: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отдельно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С глаголами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едлоги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Book Antiqua"/>
              </a:rPr>
              <a:t>не употребляются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Ребята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на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авились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рогул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ЧАСТИ 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твечает на вопросы 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кто? 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знача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Book Antiqua"/>
              </a:rPr>
              <a:t>предм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твечает на вопросы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какой? какая? какое? 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знача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Book Antiqua"/>
              </a:rPr>
              <a:t>признак предмета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твечает на вопрос </a:t>
            </a: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что делать? чт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значае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Book Antiqua"/>
              </a:rPr>
              <a:t>действие предмета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МЕСТОИМ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указывает на предметы, но не называет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ИМЯ СУЩЕСТВ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РОД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мужской ро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он    мой – 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женский ро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она   моя – к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средний ро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оно   моё – живот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ЧИСЛО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един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, арбу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множественное числ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берёз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ы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, арбуз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ПАДЕЖИ ИМЁН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052640"/>
          <a:ext cx="7921440" cy="5411520"/>
        </p:xfrm>
        <a:graphic>
          <a:graphicData uri="http://schemas.openxmlformats.org/drawingml/2006/table">
            <a:tbl>
              <a:tblPr/>
              <a:tblGrid>
                <a:gridCol w="1380960"/>
                <a:gridCol w="2252880"/>
                <a:gridCol w="1525320"/>
                <a:gridCol w="2762280"/>
              </a:tblGrid>
              <a:tr h="771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пад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спомогательные сл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адежн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Р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ез, возле, до, из, около, от, подле, с, 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ойти 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ж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о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д, за, про, через, в, 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Т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во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к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а, между, над, под,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.  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овори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 ко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 че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, о, об, на, п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Picture 7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ТРИ СКЛОНЕНИЯ ИМЁН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43000" y="1981080"/>
          <a:ext cx="6934320" cy="4280040"/>
        </p:xfrm>
        <a:graphic>
          <a:graphicData uri="http://schemas.openxmlformats.org/drawingml/2006/table">
            <a:tbl>
              <a:tblPr/>
              <a:tblGrid>
                <a:gridCol w="1733400"/>
                <a:gridCol w="1733760"/>
                <a:gridCol w="1733400"/>
                <a:gridCol w="173376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ЕРВ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А, - 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НОШ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ЯД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ТИЦ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ЕМЛ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ТОРО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Н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О, - 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ЕН</a:t>
                      </a: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Book Antiqu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ЕРН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ЧАСТЬ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ТРЕТЬЕ СКЛО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cc00"/>
                          </a:solidFill>
                          <a:latin typeface="Book Antiqua"/>
                        </a:rPr>
                        <a:t>- 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Ч</a:t>
                      </a: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ОЖ</a:t>
                      </a: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Book Antiqua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Line 50"/>
          <p:cNvSpPr/>
          <p:nvPr/>
        </p:nvSpPr>
        <p:spPr>
          <a:xfrm>
            <a:off x="289548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3"/>
          <p:cNvSpPr/>
          <p:nvPr/>
        </p:nvSpPr>
        <p:spPr>
          <a:xfrm>
            <a:off x="2895480" y="43434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3"/>
          <p:cNvSpPr/>
          <p:nvPr/>
        </p:nvSpPr>
        <p:spPr>
          <a:xfrm>
            <a:off x="640080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4"/>
          <p:cNvSpPr/>
          <p:nvPr/>
        </p:nvSpPr>
        <p:spPr>
          <a:xfrm>
            <a:off x="6095880" y="4343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1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РОД ИМЁН ПРИЛАГ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Род имён прилагательных определяется по роду имён существительных, с которыми они употребл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3880" y="3200400"/>
          <a:ext cx="6096240" cy="3090960"/>
        </p:xfrm>
        <a:graphic>
          <a:graphicData uri="http://schemas.openxmlformats.org/drawingml/2006/table">
            <a:tbl>
              <a:tblPr/>
              <a:tblGrid>
                <a:gridCol w="2743200"/>
                <a:gridCol w="33530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Узк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ереу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ов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й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у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уп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а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ры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рев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яя</a:t>
                      </a:r>
                      <a:r>
                        <a:rPr b="0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стор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редний 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е</a:t>
                      </a:r>
                      <a:r>
                        <a:rPr b="1" lang="ru-RU" sz="2800" spc="-1" strike="noStrike">
                          <a:solidFill>
                            <a:srgbClr val="cc00cc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еч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асн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сол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3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538200" y="1197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сные бук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>
            <a:hlinkClick r:id="rId2" action="ppaction://hlinksldjump"/>
          </p:cNvPr>
          <p:cNvSpPr/>
          <p:nvPr/>
        </p:nvSpPr>
        <p:spPr>
          <a:xfrm>
            <a:off x="538200" y="17002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гласные зву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>
            <a:hlinkClick r:id="rId3" action="ppaction://hlinksldjump"/>
          </p:cNvPr>
          <p:cNvSpPr/>
          <p:nvPr/>
        </p:nvSpPr>
        <p:spPr>
          <a:xfrm>
            <a:off x="538200" y="22035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етический разб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>
            <a:hlinkClick r:id="rId4" action="ppaction://hlinksldjump"/>
          </p:cNvPr>
          <p:cNvSpPr/>
          <p:nvPr/>
        </p:nvSpPr>
        <p:spPr>
          <a:xfrm>
            <a:off x="538200" y="27082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рные соглас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конц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rId5" action="ppaction://hlinksldjump"/>
          </p:cNvPr>
          <p:cNvSpPr/>
          <p:nvPr/>
        </p:nvSpPr>
        <p:spPr>
          <a:xfrm>
            <a:off x="538200" y="32115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зударные 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>
            <a:hlinkClick r:id="rId6" action="ppaction://hlinksldjump"/>
          </p:cNvPr>
          <p:cNvSpPr/>
          <p:nvPr/>
        </p:nvSpPr>
        <p:spPr>
          <a:xfrm>
            <a:off x="538200" y="37162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омн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-ши,ча-ща, чу-щ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>
            <a:hlinkClick r:id="rId7" action="ppaction://hlinksldjump"/>
          </p:cNvPr>
          <p:cNvSpPr/>
          <p:nvPr/>
        </p:nvSpPr>
        <p:spPr>
          <a:xfrm>
            <a:off x="538200" y="42195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писная бу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>
            <a:hlinkClick r:id="rId8" action="ppaction://hlinksldjump"/>
          </p:cNvPr>
          <p:cNvSpPr/>
          <p:nvPr/>
        </p:nvSpPr>
        <p:spPr>
          <a:xfrm>
            <a:off x="538200" y="472428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тав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>
            <a:hlinkClick r:id="rId9" action="ppaction://hlinksldjump"/>
          </p:cNvPr>
          <p:cNvSpPr/>
          <p:nvPr/>
        </p:nvSpPr>
        <p:spPr>
          <a:xfrm>
            <a:off x="538200" y="522756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омн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чк-, -чн-, -нч-, -нщ-, -рщ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rId10" action="ppaction://hlinksldjump"/>
          </p:cNvPr>
          <p:cNvSpPr/>
          <p:nvPr/>
        </p:nvSpPr>
        <p:spPr>
          <a:xfrm>
            <a:off x="538200" y="5734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авописание приста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rId11" action="ppaction://hlinksldjump"/>
          </p:cNvPr>
          <p:cNvSpPr/>
          <p:nvPr/>
        </p:nvSpPr>
        <p:spPr>
          <a:xfrm>
            <a:off x="3274920" y="1701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ставки и предл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>
            <a:hlinkClick r:id="rId12" action="ppaction://hlinksldjump"/>
          </p:cNvPr>
          <p:cNvSpPr/>
          <p:nvPr/>
        </p:nvSpPr>
        <p:spPr>
          <a:xfrm>
            <a:off x="3276720" y="2205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асти р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rId13" action="ppaction://hlinksldjump"/>
          </p:cNvPr>
          <p:cNvSpPr/>
          <p:nvPr/>
        </p:nvSpPr>
        <p:spPr>
          <a:xfrm>
            <a:off x="3276720" y="2709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я существ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>
            <a:hlinkClick r:id="rId14" action="ppaction://hlinksldjump"/>
          </p:cNvPr>
          <p:cNvSpPr/>
          <p:nvPr/>
        </p:nvSpPr>
        <p:spPr>
          <a:xfrm>
            <a:off x="3276720" y="3213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адеж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существ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3276720" y="3718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и скло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существ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>
            <a:hlinkClick r:id="rId16" action="ppaction://hlinksldjump"/>
          </p:cNvPr>
          <p:cNvSpPr/>
          <p:nvPr/>
        </p:nvSpPr>
        <p:spPr>
          <a:xfrm>
            <a:off x="3276720" y="4221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>
            <a:hlinkClick r:id="rId17" action="ppaction://hlinksldjump"/>
          </p:cNvPr>
          <p:cNvSpPr/>
          <p:nvPr/>
        </p:nvSpPr>
        <p:spPr>
          <a:xfrm>
            <a:off x="3276720" y="4726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ис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ён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>
            <a:hlinkClick r:id="rId18" action="ppaction://hlinksldjump"/>
          </p:cNvPr>
          <p:cNvSpPr/>
          <p:nvPr/>
        </p:nvSpPr>
        <p:spPr>
          <a:xfrm>
            <a:off x="3276720" y="52293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пределённая фор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г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>
            <a:hlinkClick r:id="rId19" action="ppaction://hlinksldjump"/>
          </p:cNvPr>
          <p:cNvSpPr/>
          <p:nvPr/>
        </p:nvSpPr>
        <p:spPr>
          <a:xfrm>
            <a:off x="6012000" y="1197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менени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време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3">
            <a:hlinkClick r:id="rId20" action="ppaction://hlinksldjump"/>
          </p:cNvPr>
          <p:cNvSpPr/>
          <p:nvPr/>
        </p:nvSpPr>
        <p:spPr>
          <a:xfrm>
            <a:off x="6012000" y="1701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менени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числам и лиц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>
            <a:hlinkClick r:id="rId21" action="ppaction://hlinksldjump"/>
          </p:cNvPr>
          <p:cNvSpPr/>
          <p:nvPr/>
        </p:nvSpPr>
        <p:spPr>
          <a:xfrm>
            <a:off x="6012000" y="220500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яжени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5">
            <a:hlinkClick r:id="rId22" action="ppaction://hlinksldjump"/>
          </p:cNvPr>
          <p:cNvSpPr/>
          <p:nvPr/>
        </p:nvSpPr>
        <p:spPr>
          <a:xfrm>
            <a:off x="6012000" y="270972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ые оконч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6">
            <a:hlinkClick r:id="rId23" action="ppaction://hlinksldjump"/>
          </p:cNvPr>
          <p:cNvSpPr/>
          <p:nvPr/>
        </p:nvSpPr>
        <p:spPr>
          <a:xfrm>
            <a:off x="6012000" y="3213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стоим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>
            <a:hlinkClick r:id="rId24" action="ppaction://hlinksldjump"/>
          </p:cNvPr>
          <p:cNvSpPr/>
          <p:nvPr/>
        </p:nvSpPr>
        <p:spPr>
          <a:xfrm>
            <a:off x="6012000" y="4221000"/>
            <a:ext cx="259236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еч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>
            <a:hlinkClick r:id="rId25" action="ppaction://hlinksldjump"/>
          </p:cNvPr>
          <p:cNvSpPr/>
          <p:nvPr/>
        </p:nvSpPr>
        <p:spPr>
          <a:xfrm>
            <a:off x="6012000" y="3718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я числите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9">
            <a:hlinkClick r:id="rId26" action="ppaction://hlinksldjump"/>
          </p:cNvPr>
          <p:cNvSpPr/>
          <p:nvPr/>
        </p:nvSpPr>
        <p:spPr>
          <a:xfrm>
            <a:off x="6012000" y="472608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ю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0">
            <a:hlinkClick r:id="rId27" action="ppaction://hlinksldjump"/>
          </p:cNvPr>
          <p:cNvSpPr/>
          <p:nvPr/>
        </p:nvSpPr>
        <p:spPr>
          <a:xfrm>
            <a:off x="6012000" y="5229360"/>
            <a:ext cx="259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ды предло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1">
            <a:hlinkClick r:id="rId28" action="ppaction://hlinksldjump"/>
          </p:cNvPr>
          <p:cNvSpPr/>
          <p:nvPr/>
        </p:nvSpPr>
        <p:spPr>
          <a:xfrm>
            <a:off x="6010200" y="5732640"/>
            <a:ext cx="2592360" cy="50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лены предло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2" descr="021"/>
          <p:cNvPicPr/>
          <p:nvPr/>
        </p:nvPicPr>
        <p:blipFill>
          <a:blip r:embed="rId29"/>
          <a:stretch/>
        </p:blipFill>
        <p:spPr>
          <a:xfrm>
            <a:off x="6083280" y="1270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3" descr="021"/>
          <p:cNvPicPr/>
          <p:nvPr/>
        </p:nvPicPr>
        <p:blipFill>
          <a:blip r:embed="rId30"/>
          <a:stretch/>
        </p:blipFill>
        <p:spPr>
          <a:xfrm>
            <a:off x="6083280" y="177336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4" descr="021"/>
          <p:cNvPicPr/>
          <p:nvPr/>
        </p:nvPicPr>
        <p:blipFill>
          <a:blip r:embed="rId31"/>
          <a:stretch/>
        </p:blipFill>
        <p:spPr>
          <a:xfrm>
            <a:off x="6083280" y="2278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5" descr="021"/>
          <p:cNvPicPr/>
          <p:nvPr/>
        </p:nvPicPr>
        <p:blipFill>
          <a:blip r:embed="rId32"/>
          <a:stretch/>
        </p:blipFill>
        <p:spPr>
          <a:xfrm>
            <a:off x="6083280" y="2781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6" descr="021"/>
          <p:cNvPicPr/>
          <p:nvPr/>
        </p:nvPicPr>
        <p:blipFill>
          <a:blip r:embed="rId33"/>
          <a:stretch/>
        </p:blipFill>
        <p:spPr>
          <a:xfrm>
            <a:off x="6083280" y="3286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7" descr="021"/>
          <p:cNvPicPr/>
          <p:nvPr/>
        </p:nvPicPr>
        <p:blipFill>
          <a:blip r:embed="rId34"/>
          <a:stretch/>
        </p:blipFill>
        <p:spPr>
          <a:xfrm>
            <a:off x="6083280" y="3789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8" descr="021"/>
          <p:cNvPicPr/>
          <p:nvPr/>
        </p:nvPicPr>
        <p:blipFill>
          <a:blip r:embed="rId35"/>
          <a:stretch/>
        </p:blipFill>
        <p:spPr>
          <a:xfrm>
            <a:off x="6083280" y="4294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9" descr="021"/>
          <p:cNvPicPr/>
          <p:nvPr/>
        </p:nvPicPr>
        <p:blipFill>
          <a:blip r:embed="rId36"/>
          <a:stretch/>
        </p:blipFill>
        <p:spPr>
          <a:xfrm>
            <a:off x="6083280" y="4797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0" descr="021"/>
          <p:cNvPicPr/>
          <p:nvPr/>
        </p:nvPicPr>
        <p:blipFill>
          <a:blip r:embed="rId37"/>
          <a:stretch/>
        </p:blipFill>
        <p:spPr>
          <a:xfrm>
            <a:off x="6083280" y="530208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1" descr="021"/>
          <p:cNvPicPr/>
          <p:nvPr/>
        </p:nvPicPr>
        <p:blipFill>
          <a:blip r:embed="rId38"/>
          <a:stretch/>
        </p:blipFill>
        <p:spPr>
          <a:xfrm>
            <a:off x="6083280" y="5805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2" descr="021"/>
          <p:cNvPicPr/>
          <p:nvPr/>
        </p:nvPicPr>
        <p:blipFill>
          <a:blip r:embed="rId39"/>
          <a:stretch/>
        </p:blipFill>
        <p:spPr>
          <a:xfrm>
            <a:off x="608040" y="1266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3" descr="021"/>
          <p:cNvPicPr/>
          <p:nvPr/>
        </p:nvPicPr>
        <p:blipFill>
          <a:blip r:embed="rId40"/>
          <a:stretch/>
        </p:blipFill>
        <p:spPr>
          <a:xfrm>
            <a:off x="608040" y="1770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4" descr="021"/>
          <p:cNvPicPr/>
          <p:nvPr/>
        </p:nvPicPr>
        <p:blipFill>
          <a:blip r:embed="rId41"/>
          <a:stretch/>
        </p:blipFill>
        <p:spPr>
          <a:xfrm>
            <a:off x="608040" y="2274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5" descr="021"/>
          <p:cNvPicPr/>
          <p:nvPr/>
        </p:nvPicPr>
        <p:blipFill>
          <a:blip r:embed="rId42"/>
          <a:stretch/>
        </p:blipFill>
        <p:spPr>
          <a:xfrm>
            <a:off x="608040" y="2778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6" descr="021"/>
          <p:cNvPicPr/>
          <p:nvPr/>
        </p:nvPicPr>
        <p:blipFill>
          <a:blip r:embed="rId43"/>
          <a:stretch/>
        </p:blipFill>
        <p:spPr>
          <a:xfrm>
            <a:off x="608040" y="3282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7" descr="021"/>
          <p:cNvPicPr/>
          <p:nvPr/>
        </p:nvPicPr>
        <p:blipFill>
          <a:blip r:embed="rId44"/>
          <a:stretch/>
        </p:blipFill>
        <p:spPr>
          <a:xfrm>
            <a:off x="608040" y="3786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8" descr="021"/>
          <p:cNvPicPr/>
          <p:nvPr/>
        </p:nvPicPr>
        <p:blipFill>
          <a:blip r:embed="rId45"/>
          <a:stretch/>
        </p:blipFill>
        <p:spPr>
          <a:xfrm>
            <a:off x="608040" y="42908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9" descr="021"/>
          <p:cNvPicPr/>
          <p:nvPr/>
        </p:nvPicPr>
        <p:blipFill>
          <a:blip r:embed="rId46"/>
          <a:stretch/>
        </p:blipFill>
        <p:spPr>
          <a:xfrm>
            <a:off x="608040" y="47941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0" descr="021"/>
          <p:cNvPicPr/>
          <p:nvPr/>
        </p:nvPicPr>
        <p:blipFill>
          <a:blip r:embed="rId47"/>
          <a:stretch/>
        </p:blipFill>
        <p:spPr>
          <a:xfrm>
            <a:off x="608040" y="529920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2" descr="021"/>
          <p:cNvPicPr/>
          <p:nvPr/>
        </p:nvPicPr>
        <p:blipFill>
          <a:blip r:embed="rId48"/>
          <a:stretch/>
        </p:blipFill>
        <p:spPr>
          <a:xfrm>
            <a:off x="609480" y="58053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3" descr="021"/>
          <p:cNvPicPr/>
          <p:nvPr/>
        </p:nvPicPr>
        <p:blipFill>
          <a:blip r:embed="rId49"/>
          <a:stretch/>
        </p:blipFill>
        <p:spPr>
          <a:xfrm>
            <a:off x="3346560" y="17715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4" descr="021"/>
          <p:cNvPicPr/>
          <p:nvPr/>
        </p:nvPicPr>
        <p:blipFill>
          <a:blip r:embed="rId50"/>
          <a:stretch/>
        </p:blipFill>
        <p:spPr>
          <a:xfrm>
            <a:off x="3346560" y="227664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5" descr="021"/>
          <p:cNvPicPr/>
          <p:nvPr/>
        </p:nvPicPr>
        <p:blipFill>
          <a:blip r:embed="rId51"/>
          <a:stretch/>
        </p:blipFill>
        <p:spPr>
          <a:xfrm>
            <a:off x="3346560" y="277956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6" descr="021"/>
          <p:cNvPicPr/>
          <p:nvPr/>
        </p:nvPicPr>
        <p:blipFill>
          <a:blip r:embed="rId52"/>
          <a:stretch/>
        </p:blipFill>
        <p:spPr>
          <a:xfrm>
            <a:off x="3346560" y="3284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7" descr="021"/>
          <p:cNvPicPr/>
          <p:nvPr/>
        </p:nvPicPr>
        <p:blipFill>
          <a:blip r:embed="rId53"/>
          <a:stretch/>
        </p:blipFill>
        <p:spPr>
          <a:xfrm>
            <a:off x="3346560" y="3787920"/>
            <a:ext cx="363600" cy="36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021"/>
          <p:cNvPicPr/>
          <p:nvPr/>
        </p:nvPicPr>
        <p:blipFill>
          <a:blip r:embed="rId54"/>
          <a:stretch/>
        </p:blipFill>
        <p:spPr>
          <a:xfrm>
            <a:off x="3346560" y="429264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9" descr="021"/>
          <p:cNvPicPr/>
          <p:nvPr/>
        </p:nvPicPr>
        <p:blipFill>
          <a:blip r:embed="rId55"/>
          <a:stretch/>
        </p:blipFill>
        <p:spPr>
          <a:xfrm>
            <a:off x="3346560" y="4795920"/>
            <a:ext cx="363600" cy="36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0" descr="021"/>
          <p:cNvPicPr/>
          <p:nvPr/>
        </p:nvPicPr>
        <p:blipFill>
          <a:blip r:embed="rId56"/>
          <a:stretch/>
        </p:blipFill>
        <p:spPr>
          <a:xfrm>
            <a:off x="3346560" y="5300640"/>
            <a:ext cx="363600" cy="36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ff"/>
                </a:solidFill>
                <a:latin typeface="Monotype Corsiva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2" descr="stop">
            <a:hlinkClick r:id="" action="ppaction://hlinkshowjump?jump=endshow"/>
          </p:cNvPr>
          <p:cNvPicPr/>
          <p:nvPr/>
        </p:nvPicPr>
        <p:blipFill>
          <a:blip r:embed="rId57">
            <a:grayscl/>
          </a:blip>
          <a:stretch/>
        </p:blipFill>
        <p:spPr>
          <a:xfrm>
            <a:off x="8748720" y="6573960"/>
            <a:ext cx="395280" cy="2840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58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ЧИСЛО ИМЁН ПРИЛАГ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Число имён прилагательных определяется по числу имени существительного, с которым оно употребл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066680" y="3048120"/>
          <a:ext cx="7162920" cy="3170160"/>
        </p:xfrm>
        <a:graphic>
          <a:graphicData uri="http://schemas.openxmlformats.org/drawingml/2006/table">
            <a:tbl>
              <a:tblPr/>
              <a:tblGrid>
                <a:gridCol w="1600200"/>
                <a:gridCol w="2743200"/>
                <a:gridCol w="281952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исл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дин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ужско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й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л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ото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пел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отол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Женск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и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я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блуз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азов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ы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блу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редний 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о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рас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е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ат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ротк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рассто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тн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Book Antiqua"/>
                        </a:rPr>
                        <a:t>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пл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51"/>
          <p:cNvSpPr/>
          <p:nvPr/>
        </p:nvSpPr>
        <p:spPr>
          <a:xfrm>
            <a:off x="1066680" y="304812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НЕОПРЕДЕЛЁННАЯ ФОРМА ГЛАГ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Глаголы бывают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и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есовершенног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действие уже сделано, закончено, то есть соверш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Что сделал?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 написал, выуч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есовершенный вид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действие еще незаконч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 Antiqua"/>
              </a:rPr>
              <a:t>Что делает?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пишет, уч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ЗАПОМНИ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. Частица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 н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с глаголами пишется всегда отдельно: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выуч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ИЗМЕНЕНИЕ ГЛАГОЛОВ ПО ВРЕМЕН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1905120"/>
          <a:ext cx="7925040" cy="4343400"/>
        </p:xfrm>
        <a:graphic>
          <a:graphicData uri="http://schemas.openxmlformats.org/drawingml/2006/table">
            <a:tbl>
              <a:tblPr/>
              <a:tblGrid>
                <a:gridCol w="2590920"/>
                <a:gridCol w="2819520"/>
                <a:gridCol w="2514600"/>
              </a:tblGrid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астоящ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делает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мот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и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ис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рошедш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мотр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ил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исов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Будущее врем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будет 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сделал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удет смотр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смотр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удет рисов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рису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63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ИЗМЕНЕНИЕ ГЛАГОЛОВ ПО ЧИСЛАМ И ЛИЦ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2209680"/>
          <a:ext cx="7696440" cy="3886200"/>
        </p:xfrm>
        <a:graphic>
          <a:graphicData uri="http://schemas.openxmlformats.org/drawingml/2006/table">
            <a:tbl>
              <a:tblPr/>
              <a:tblGrid>
                <a:gridCol w="2438640"/>
                <a:gridCol w="1600200"/>
                <a:gridCol w="1600200"/>
                <a:gridCol w="205740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 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1 – е  лиц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2 – е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лиц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3 – е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лиц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дин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ш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н, она,о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ножестве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т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бота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тдыха</a:t>
                      </a:r>
                      <a:r>
                        <a:rPr b="0" lang="ru-RU" sz="2000" spc="-1" strike="noStrike">
                          <a:solidFill>
                            <a:srgbClr val="3333cc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Line 61"/>
          <p:cNvSpPr/>
          <p:nvPr/>
        </p:nvSpPr>
        <p:spPr>
          <a:xfrm>
            <a:off x="685800" y="2286000"/>
            <a:ext cx="2362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2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СПРЯЖЕНИЕ ГЛАГО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38080" y="2133720"/>
          <a:ext cx="7239240" cy="4038480"/>
        </p:xfrm>
        <a:graphic>
          <a:graphicData uri="http://schemas.openxmlformats.org/drawingml/2006/table">
            <a:tbl>
              <a:tblPr/>
              <a:tblGrid>
                <a:gridCol w="3505320"/>
                <a:gridCol w="37339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се глаголы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еть, -ать, о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уть, -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кроме 11 глаголов исключений), а также глаголы 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–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: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рить, зиждиться, стел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лаголы на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–ить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в неопределенной форме), а также 11 глаголов: гнать, дышать, держать, завис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деть, слышать и  обид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 ещё терпеть, вертеть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енавидеть и смотр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31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ЛИЧНЫЕ ОКОНЧАНИЯ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0948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3962520"/>
                <a:gridCol w="380988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II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пря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д. ч.           мн. ч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д. ч.        мн. ч.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У (- Ю)   - 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ЕШЬ       - 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ЕТ           - УТ (-Ю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У (Ю)    - 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ИШЬ     - 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- ИТ         - АТ (-ЯТ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52"/>
          <p:cNvSpPr/>
          <p:nvPr/>
        </p:nvSpPr>
        <p:spPr>
          <a:xfrm>
            <a:off x="6172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236232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0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МЕСТОИМ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естоимения указывают на предметы, признаки и качества, но не называют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Лич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я, мы, ты, вы, он, она, оно,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Указатель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этот, это, эта, э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Вопроситель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то, что, какой, который, чей, 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Отрицатель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икто, ничто, никакой, ни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Неопределенные местоим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то-то, что-то, кто-нибудь, что-нибуд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е-что, кое-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ИМЯ ЧИСЛ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мена числительные обозначают количество или порядок предметов при сч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Числи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оличественные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пять книг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)      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Порядковые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пятый этаж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Числи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Простые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Сложные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Составные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Дроб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(семь)           (тридцать)          (тридцать два)         (три пят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6"/>
          <p:cNvSpPr/>
          <p:nvPr/>
        </p:nvSpPr>
        <p:spPr>
          <a:xfrm flipH="1">
            <a:off x="1980720" y="2666880"/>
            <a:ext cx="251460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4500720" y="2637000"/>
            <a:ext cx="93492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0"/>
          <p:cNvSpPr/>
          <p:nvPr/>
        </p:nvSpPr>
        <p:spPr>
          <a:xfrm flipH="1">
            <a:off x="1142640" y="4724280"/>
            <a:ext cx="3505320" cy="762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3"/>
          <p:cNvSpPr/>
          <p:nvPr/>
        </p:nvSpPr>
        <p:spPr>
          <a:xfrm flipH="1">
            <a:off x="2771280" y="4724280"/>
            <a:ext cx="187668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643280" y="472428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4648320" y="4724280"/>
            <a:ext cx="17240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7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НАРЕЧ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речие – неизменяемая часть речи, обозначающая признак действия или ка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речия, образованные от кратких прилагательных с пристав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На конце наречий после шипящих пишется 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: настеж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, проч</a:t>
            </a:r>
            <a:r>
              <a:rPr b="1" lang="ru-RU" sz="2000" spc="-1" strike="noStrike">
                <a:solidFill>
                  <a:srgbClr val="3333cc"/>
                </a:solidFill>
                <a:latin typeface="Book Antiqua"/>
              </a:rPr>
              <a:t>ь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. (кроме: замуж, невтерпеж, у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62120" y="2971800"/>
          <a:ext cx="7315200" cy="21337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-, за-, на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-, из-, с-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меют на конце букв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а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лев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из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авн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л</a:t>
                      </a: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Picture 45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СОЮ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юзы – это служебные части речи,которые связывают однородные члены в составе простого предложения и простые предложения в составе слож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зошло солнце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осветило все вокр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альчик побежал за собакой,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но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не догнал 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идит око,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да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зуб ней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лесу растут грибы </a:t>
            </a:r>
            <a:r>
              <a:rPr b="1" lang="ru-RU" sz="2800" spc="-1" strike="noStrike">
                <a:solidFill>
                  <a:srgbClr val="3333cc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Book Antiqua"/>
              </a:rPr>
              <a:t>Данное пособие содержит все основные правила по русскому языку и составлено таким образом, чтобы было легче и интереснее усвоить школьную программу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ВИДЫ ПРЕДЛОЖ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11280" y="1397160"/>
          <a:ext cx="7921440" cy="5082840"/>
        </p:xfrm>
        <a:graphic>
          <a:graphicData uri="http://schemas.openxmlformats.org/drawingml/2006/table">
            <a:tbl>
              <a:tblPr/>
              <a:tblGrid>
                <a:gridCol w="2979720"/>
                <a:gridCol w="981000"/>
                <a:gridCol w="1563840"/>
                <a:gridCol w="23968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 интон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евосклицатель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не подарили щенк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не подарили щен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 цели высказы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вествова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опрос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будите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 дворе прекрасная погод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чему вы не гуляете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дите скоре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 наличию второстепенных чле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Не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Распространённ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есна пришла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шла долгожданная вес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66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58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ЧЛЕНЫ 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1397160"/>
          <a:ext cx="8070840" cy="4868640"/>
        </p:xfrm>
        <a:graphic>
          <a:graphicData uri="http://schemas.openxmlformats.org/drawingml/2006/table">
            <a:tbl>
              <a:tblPr/>
              <a:tblGrid>
                <a:gridCol w="2787840"/>
                <a:gridCol w="1393920"/>
                <a:gridCol w="1027080"/>
                <a:gridCol w="2862000"/>
              </a:tblGrid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Глав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Подлежа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Сказуем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то? Что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существительное, местоим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то делает?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(глаг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альч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ису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Второстеп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преде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До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Book Antiqua"/>
                        </a:rPr>
                        <a:t>Обстоятель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щест-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речие, сущ-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Я читаю интересную книг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Я встретил друг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Мы пошли быстр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8" name="Picture 84" descr="strelochka4"/>
          <p:cNvPicPr/>
          <p:nvPr/>
        </p:nvPicPr>
        <p:blipFill>
          <a:blip r:embed="rId1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9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Гласные  бук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   Е   Ё   И   О   У   Ы   Э   Ю  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А   О   У   Ы   Э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и гласные обозначают твёрд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1" lang="ru-RU" sz="28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означает мягкость согласных зву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Е   Ё   Ю   Я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эти гласные обозначают мягкость</a:t>
            </a:r>
            <a:r>
              <a:rPr b="0" lang="ru-RU" sz="28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огласных звуков, а в начале слова или после другой гласной – два звука.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Согласные зву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404640"/>
            <a:ext cx="82436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вонкие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Б   В    Г   Д   Ж   З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Парные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лухие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П   Ф   К   Т   Ш  С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вонкие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Л   М   Н  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епарные</a:t>
            </a: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лухие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Х   Ц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сегда твердые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Ж   Ш   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сегда мягкие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Й   Ч   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Буквы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cc00"/>
                </a:solidFill>
                <a:latin typeface="Book Antiqua"/>
              </a:rPr>
              <a:t>Ь, Ъ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звуков не обозначают, а обознач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ягкость или твердость согласной, после которой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то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2268360" y="1483920"/>
            <a:ext cx="1219320" cy="762480"/>
            <a:chOff x="2268360" y="1483920"/>
            <a:chExt cx="1219320" cy="762480"/>
          </a:xfrm>
        </p:grpSpPr>
        <p:sp>
          <p:nvSpPr>
            <p:cNvPr id="108" name="Line 4"/>
            <p:cNvSpPr/>
            <p:nvPr/>
          </p:nvSpPr>
          <p:spPr>
            <a:xfrm flipV="1">
              <a:off x="2268360" y="1483920"/>
              <a:ext cx="121932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5"/>
            <p:cNvSpPr/>
            <p:nvPr/>
          </p:nvSpPr>
          <p:spPr>
            <a:xfrm>
              <a:off x="2268360" y="1789200"/>
              <a:ext cx="1219320" cy="45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9"/>
          <p:cNvGrpSpPr/>
          <p:nvPr/>
        </p:nvGrpSpPr>
        <p:grpSpPr>
          <a:xfrm>
            <a:off x="2411280" y="3068640"/>
            <a:ext cx="1062000" cy="762120"/>
            <a:chOff x="2411280" y="3068640"/>
            <a:chExt cx="1062000" cy="762120"/>
          </a:xfrm>
        </p:grpSpPr>
        <p:sp>
          <p:nvSpPr>
            <p:cNvPr id="111" name="Line 6"/>
            <p:cNvSpPr/>
            <p:nvPr/>
          </p:nvSpPr>
          <p:spPr>
            <a:xfrm flipV="1">
              <a:off x="2411280" y="3068640"/>
              <a:ext cx="10620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"/>
            <p:cNvSpPr/>
            <p:nvPr/>
          </p:nvSpPr>
          <p:spPr>
            <a:xfrm>
              <a:off x="2411280" y="3449520"/>
              <a:ext cx="99072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10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 Antiqua"/>
              </a:rPr>
              <a:t>ФОНЕТИЧЕСКИЙ РАЗБОР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Book Antiqua"/>
              </a:rPr>
              <a:t>Ком – пью – тер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--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9 звуков, 9 букв, 3 с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парный 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гласный, безуд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непарный звон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мягкий, парный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Book Antiqua"/>
              </a:rPr>
              <a:t>Ь</a:t>
            </a:r>
            <a:r>
              <a:rPr b="0" lang="ru-RU" sz="24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гласный, уд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парный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4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гласный, безуда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Book Antiqua"/>
              </a:rPr>
              <a:t>Р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– согласный, твердый, непарный звон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ПРАВОПИСАНИЕ ПАРНЫХ СОГЛАСНЫХ НА КОНЦ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конце слов парные согласные надо писать так же, как они пишутся в однокоренных словах или в другом падеже перед глас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– ду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– луг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о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– р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гру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- гру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БЕЗУДАРНЫЕ ГЛАСНЫЕ В КОР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41632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Безударные гласные в корне проверяются удар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ы – с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ст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 – ст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а – з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я – м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я – п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к</a:t>
            </a:r>
            <a:r>
              <a:rPr b="0" lang="ru-RU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а - к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ЗАПОМНИ</a:t>
            </a:r>
            <a:r>
              <a:rPr b="1" lang="en-US" sz="4400" spc="-1" strike="noStrike">
                <a:solidFill>
                  <a:srgbClr val="ff0000"/>
                </a:solidFill>
                <a:latin typeface="Book Antiqu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ЖИ – ШИ</a:t>
            </a:r>
            <a:r>
              <a:rPr b="1" lang="ru-RU" sz="3200" spc="-1" strike="noStrike">
                <a:solidFill>
                  <a:srgbClr val="cc00cc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пиши с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буквой 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мы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у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лыж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ш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ЧА – ЩА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а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     ту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све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 саран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ЧУ – ЩУ</a:t>
            </a: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 пиши с буквой 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щ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а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лок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еса     ч</a:t>
            </a:r>
            <a:r>
              <a:rPr b="0" lang="ru-RU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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вищ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strelochka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flipH="1">
            <a:off x="8802720" y="6670800"/>
            <a:ext cx="341280" cy="187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2T06:56:00Z</dcterms:created>
  <dc:creator>L. Lazareva</dc:creator>
  <dc:description/>
  <dc:language>en-US</dc:language>
  <cp:lastModifiedBy>Der komp</cp:lastModifiedBy>
  <dcterms:modified xsi:type="dcterms:W3CDTF">2012-05-27T15:42:24Z</dcterms:modified>
  <cp:revision>244</cp:revision>
  <dc:subject/>
  <dc:title>Pravila po russkomu jaziku</dc:title>
</cp:coreProperties>
</file>