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C14-8FE2-489F-9339-1CDE67B7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09D-FDF7-4011-A5D3-673569C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332-3004-4BA5-A4DF-C1343BF1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80F9-F948-4DDC-B0F6-09CF17AD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80CA-673D-4998-82D8-A35A66AB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4184-EE61-4D5C-829B-43861839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F48D-962E-49AA-85C9-3AF81006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3BB3-354A-479F-94D3-58609BB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0DAC-2459-46D4-AC3D-82A0CE88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811D-6363-419F-BE74-AB47C5A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8F9C-1028-4FEF-8FDE-4BDC9975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E8E-A974-4EE0-BF49-57D66EAA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FC6-60CD-4AD6-857B-8BC1AC3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98AC-4A20-4F5B-BCA8-24FE8371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82E2-D012-4F79-BD35-FF65CB4A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E40D-464D-411A-A375-5904A3BC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BF23-CD11-4FC1-95C1-B0CF181B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6F5C-C502-48FA-840F-C098656BB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CA2B9-8A08-4E2B-B2F2-A703B92A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4A16-CBB2-410F-A402-D87E977C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0CAC-FC54-42BB-8E23-10E31F15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8768-E6E7-4111-B23A-5801C0A8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3F61-9ADB-46CF-BE5E-DA8EDF1C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ACAD2-083A-4E2C-AD0B-F87F3B5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E4BF-3910-439B-9127-947625D1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B692-3D3D-4621-950F-93FA193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B2B0-FED0-4F7F-A57E-DC6AFC5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9D72-D7C5-4C98-B3BE-4433DF0B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E8A2-11C3-4878-818E-F12E305A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8126-74CB-44E2-9A1F-7102696D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9AFBC-F6A4-43D0-B990-009495A0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9AA56-DF22-4093-A0B5-0FCCA36D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78477-E78D-4FF3-8CF9-2DC9EFC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36B-32FB-4A78-954D-3C0FD6B3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511F5-16DA-4F35-A79D-D40F9E64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697D3C-9BE0-42C4-97CF-755116A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B04F1-84CC-4D9C-9194-69D87C77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71D19-9DE9-4525-BCE3-6B17E77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27ACC-1D67-4D11-8BE0-BB5B3C1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B571F-0B32-4EC7-9517-9F4BB14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7D598-1269-4B25-83B2-D0E387DA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AAB40-403E-4DFE-9F23-7223CD39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9F007-726F-4DCC-976A-47EA298D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8666E-6A71-48CE-A64F-4EC0444C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0E7-C9AE-4DBB-BA52-68D17DE1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E0FC2-E805-4EA8-8B71-F97619F8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D7DE-2D30-430F-B0CD-FF569EC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D19A9-7FC1-4484-809F-0D9A1BCB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13B39-A18C-4EE0-A825-0D1B0A8E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4EF90-741C-47C1-A065-B3828ED6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DFA8-D455-4B34-8578-906085E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CB16E-E537-4646-B56C-B9218A7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36AF-852A-48A4-BE6B-343BE9A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0E39-D0DC-4273-B1CE-4298520F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636E-7723-4C08-B8BA-ECA798F6D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C13-D9DD-4295-9C33-53B7E901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04F4-EC70-4C8B-9985-2040B6E3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1C27A-F6C0-49B3-94F5-5FA28D1F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2054-EA54-409C-935D-84E6F86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C1C8D-3141-4CE2-AF78-7D6314D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7DF70-B9FC-48EF-9C31-9E9020B5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D30F5-30C3-4303-9782-E348C5BB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B9EF1-DDB1-49E2-9C1C-C984446B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70842-A40C-4187-9822-ECE4D7D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A2EAF-A2C1-4062-85FE-E35C353C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D6BF1-8454-464D-BAED-5168775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52E-0583-4AD1-A6AD-7778F984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52BF-0A45-495E-B761-1716A23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4FC12-DE51-4E88-A526-2E1D5846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04D4-11B1-4502-9D1F-2C71BC1C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FFF8-1E2D-42DB-A94A-4521C152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C8C4-319D-400C-AD0A-A72EC926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830A5-7E3D-4F48-ABCC-49057F88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D928-FCB1-498D-A051-9DE25DF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4921C-11D4-4B23-8634-76D61D8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47D7B-5ECE-4E50-8E3F-FE5C82F1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C94C-72A0-480D-B042-2D704AA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10D-0905-44FF-B205-11A2E9F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3BECA-7487-474E-9796-C87D60AB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64B2-4231-4E2B-8333-B8A7456A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62887-9623-484C-940D-7331F09B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C19D-B715-4873-B03F-331FAAC2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6C32B-9289-4D7B-878B-432DD3CD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106FF-2F45-4336-97B4-4A34136D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C1097-81D8-405A-A795-BF899CF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FBD8A-ACA9-457C-B7AD-47C9D96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13BA-60DA-4EC7-BFB2-FB42AA5F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915AB-AD11-4E01-B05E-1F64E88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E12-5270-43A9-9002-CACE9D7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A29D-CFA2-42F1-9145-3174972E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BAB1F-0751-4B5F-9D85-62EC66B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BF8D3-FBE2-4784-80A9-0832ABE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E25C1-9919-4574-A76F-948B9D6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6E989-CF48-45C4-9FC3-6B6AB104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79C9E-A169-4AD6-A38F-FC115D42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5804-923F-437D-ABB0-CAEB2BD5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6D2A-4CD0-459F-BA07-717E3237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5C68-338D-4478-BB52-3C593B509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282-AE2F-4A4C-92B9-4A4F70299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BE8E-033B-459B-8EE2-EE9CD9069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903-1673-4AEC-868D-48EB96D8B83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49D-DB54-40DA-8AB4-ABC508F77DC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713-B780-4039-A2ED-7DA473B7B4D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2534-5F23-4424-B808-1148588E41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0" y="549360"/>
            <a:ext cx="914400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378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ДОУ  д/с  №  19  "Родничок" комбинированного вида 2 категори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Чувашская  Республика г  Шумерл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03280" y="1773360"/>
            <a:ext cx="6337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Здоровячок"</a:t>
            </a:r>
            <a:endParaRPr b="0" lang="en-US" sz="3200" spc="1" strike="noStrike">
              <a:ln w="19080">
                <a:solidFill>
                  <a:srgbClr val="0000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4360" y="4653000"/>
            <a:ext cx="770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Оздоровительная  программа  для  детей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"/>
              </a:rPr>
              <a:t>4 - 7ле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900000" y="26028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9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  разде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Релаксация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6"/>
          <a:stretch/>
        </p:blipFill>
        <p:spPr>
          <a:xfrm>
            <a:off x="179280" y="3500280"/>
            <a:ext cx="4176720" cy="317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7"/>
          <a:stretch/>
        </p:blipFill>
        <p:spPr>
          <a:xfrm>
            <a:off x="2268360" y="2133720"/>
            <a:ext cx="2881440" cy="21603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076720" y="2852640"/>
            <a:ext cx="44640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Этот  раздел  учит  детей  расслабляться,  отдых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после  физической  и  умственной  нагру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Этому  помог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дыхательная  гимнастика,  аутогенная  тренировка,  расслаблению  помогает системная  гимнастика  старославянская  методика  оздоро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35640" cy="29973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5075280" y="0"/>
            <a:ext cx="4068720" cy="305100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4"/>
          <a:stretch/>
        </p:blipFill>
        <p:spPr>
          <a:xfrm>
            <a:off x="2556000" y="3522600"/>
            <a:ext cx="4321080" cy="33354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11280" y="301140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01140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“”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Физкультура  с  мамой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32000" y="6491160"/>
            <a:ext cx="28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059280" y="6381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День здоровья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03640" y="2924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Путешествие  в  страну  здоровья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3429000"/>
            <a:ext cx="5761080" cy="3240000"/>
          </a:xfrm>
          <a:prstGeom prst="rect">
            <a:avLst/>
          </a:prstGeom>
          <a:solidFill>
            <a:srgbClr val="3366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Автор  и  разработчик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лячкина  Лидия  Николаевна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воспита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по  физической  культур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высш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валификационной 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МДОУ  д/с  №  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омбинированного  в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Verdan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Категории г Шумер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Чувашская  Республ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684360" y="2421000"/>
            <a:ext cx="72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ель  программы: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11280" y="3789360"/>
            <a:ext cx="7561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действовать  оздоровлению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ей   дошкольного  возраста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ез танцевально-игровую 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ь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35640" y="76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84920" y="852480"/>
            <a:ext cx="18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635280" y="54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Движение – рад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Движение – здоров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Движение – развитие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535120" y="279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9640" y="2421000"/>
            <a:ext cx="2376720" cy="865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Verdana"/>
              </a:rPr>
              <a:t>Игротан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43280" y="5445000"/>
            <a:ext cx="2822760" cy="863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Игровой массаж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и самомасса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47640" y="5300640"/>
            <a:ext cx="2521080" cy="93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Пальчик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51640" y="3573360"/>
            <a:ext cx="3168360" cy="1366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Кинезиолог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Verdana"/>
              </a:rPr>
              <a:t>гимна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920" y="3645000"/>
            <a:ext cx="2665440" cy="1296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Креатив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партер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Verdana"/>
              </a:rPr>
              <a:t>гимна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00360" y="1268280"/>
            <a:ext cx="2787480" cy="1346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Семейный  клу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Здоровячок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”</a:t>
            </a: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508720" y="2060640"/>
            <a:ext cx="2665440" cy="1079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Verdana"/>
              </a:rPr>
              <a:t>Релакс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32000" y="2997360"/>
            <a:ext cx="2376720" cy="1873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Разде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55640" y="260280"/>
            <a:ext cx="7632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дель  программы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Здоровячок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47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219640" y="2923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21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2700000" y="3068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2843280" y="4221000"/>
            <a:ext cx="288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419640" y="479736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932360" y="479736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08720" y="4005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4824360" cy="38592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4140360" y="321300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79280" y="3789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Все  на  карнавал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88000" y="242100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утешествие в  страну  танца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24000" y="-603360"/>
            <a:ext cx="84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 Раздел 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реативная  партерная  гимнастика"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476360" y="278136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76360" y="344340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4000" y="2492280"/>
            <a:ext cx="82087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сновывается  на  нетрадиционной  методике  развития  мышечной  силы  гибкости, познавательной  активности,  свободного  самовыражения  и  раскрепощенност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Он  состоит  из  музыкально-творческих  заданий,  специального  комплекса  упражнений  на  коррекцию  и  профилактику  опорно-двигательного  аппарата,  фитбол  и  оздоровительной  гимнастики  по  системе  Кацудзо  Ниши,  системе  йоговских  упражнений  по  Игнатье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4211640" cy="31575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35040"/>
            <a:ext cx="30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32000" y="33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99"/>
                </a:solidFill>
                <a:uFillTx/>
                <a:latin typeface="Verdana"/>
              </a:rPr>
              <a:t>Фи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5080" cy="340344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4968720" y="3774960"/>
            <a:ext cx="4175280" cy="30830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5364000" y="62064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5"/>
          <a:stretch/>
        </p:blipFill>
        <p:spPr>
          <a:xfrm>
            <a:off x="61128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4000" y="35002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Хатха-йога  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Прямое  дерево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88000" y="3429000"/>
            <a:ext cx="43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Хатха-йога  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600" spc="-1" strike="noStrike">
                <a:solidFill>
                  <a:srgbClr val="000099"/>
                </a:solidFill>
                <a:latin typeface="Verdana"/>
              </a:rPr>
              <a:t>Кошка  показывет хвост</a:t>
            </a:r>
            <a:r>
              <a:rPr b="1" i="1" lang="en-US" sz="1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28526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2484360" y="1916280"/>
            <a:ext cx="3851280" cy="273816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5443560" y="4083120"/>
            <a:ext cx="3700440" cy="27748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895480" y="423540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11280" y="472428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Гордый олень</a:t>
            </a:r>
            <a:r>
              <a:rPr b="1" i="1" lang="en-US" sz="20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2205000"/>
            <a:ext cx="13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39640" y="229248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8036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8360" y="2997360"/>
            <a:ext cx="147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85264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Птица  в полете</a:t>
            </a:r>
            <a:r>
              <a:rPr b="1" i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04000" y="35877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Ожерелье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92720" cy="3483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2195640" y="4076640"/>
            <a:ext cx="3744720" cy="27813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619280" y="364500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Гимнастика  для укрепления  гл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84560" y="380376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7:08:55Z</dcterms:created>
  <dc:creator>User</dc:creator>
  <dc:description/>
  <dc:language>en-US</dc:language>
  <cp:lastModifiedBy>Клячкина</cp:lastModifiedBy>
  <dcterms:modified xsi:type="dcterms:W3CDTF">2012-05-27T09:41:44Z</dcterms:modified>
  <cp:revision>33</cp:revision>
  <dc:subject/>
  <dc:title>Слайд 1</dc:title>
</cp:coreProperties>
</file>