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C8F-F516-4BDF-8BEA-37D22315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4D3-C135-4341-BFE8-C8C0B19E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34A-C860-457E-8C89-AD4112D9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441-F7F5-49B6-ACB8-F7EE9F11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2B49-3985-48DD-A179-3C4B57BD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03A4-14BD-4D50-BFC2-A9DA3C9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7439-FFA1-4F32-B97E-CF5B8FD8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DEFE-4958-45BA-B33B-82CB364F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C2A5-4E13-48E2-A3B6-8B5D3880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C7D9-F3C6-4317-ACAE-D3CFB252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38E1-A73E-4BD8-BF8E-1F78A335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EB0-12C0-4582-9FD2-5BCDEE8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8C0A-E360-43BA-8060-0278DDC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C47F-2901-4B01-9700-DAC93A44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C5A0-B1AB-466E-A87C-77CA2BF8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AF79-46D5-4809-9D78-CC59A22B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DEC3-A7AC-42E8-9C98-0E19254D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3A05-0840-49C4-A6BA-E16B09A1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53E1-2549-4392-91BC-6E4AB8EC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58044-B3E2-4D13-83B1-D665D2C4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A568-C67F-474D-8CC0-68B33551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EFFE-2F20-470A-9E2B-6F9AECF7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87A-4FC9-4EF6-B1E0-2C14DC73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0ED3-4029-4F1C-893C-8087A87A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58B02-6EF0-4C1E-AEDB-60134F5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1E24-8BE9-40BC-987F-1DA30F68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5C3F-1FED-44D2-B322-39F94A22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487F-C4F3-4EE7-B6F8-B382C909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4379-54E0-4C61-BE87-A179130E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6EF4-E658-4529-B578-E586264A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649CE-6249-43E2-9285-EF651BD3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8A31D-8485-4AD8-A0CE-38DD2943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19CE07-32D8-4BC6-B303-C20CBC28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6BC-0B14-44D8-80DC-6FBF5A8E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CE8C5-168A-4A80-B11E-4E73F1CA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87B93-D920-484B-BE2F-1C4A6502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E4093-54D3-46FA-B72B-5038AD6B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AAF86-04D2-428B-9C50-C7BD6EE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95DEB-6DB9-4096-8145-856B613D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6DD57-CC19-4563-B7E4-9DB549A4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655AD-68F7-4F50-B960-0A53EE45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C4A79-02B8-44EC-AEF4-671FDF9F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CBF5D-8AD0-4E76-BC70-B158ABB1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3ECA-46EC-488D-965E-FCAF3856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8EA-D263-4EA6-B495-36BD4235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DCCB-717C-43D8-BAC5-09BAC2B5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DA7BB-8EA5-4CA8-A1CE-35AAF087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8E9B1-5E52-481F-A90D-22E3A832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ABD0-8A64-49A7-808F-770AAD81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E896B-DF3A-43DD-A4E8-CD2636CC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AE7B-EAF2-4A10-A55D-C7EF59E2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04F8-461E-41C8-A604-C665B206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A74B-58AB-45CE-AD40-9C48E427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6498-F2BE-4453-9D0F-1B2C9889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433F8-DFF6-49C6-AF99-02D3B37E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47D-69E6-42F8-B2A9-AF901B90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95B9-870E-4F60-AADC-F30F0D3A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E7326-8476-4158-ABAF-84BB64C8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4637-57B2-4123-A61F-2D5289C3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41AD8-763A-4016-9A9E-F347292C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5BF17-31B0-4D2F-8428-47A5793E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E7075-6E07-4CC1-84FB-803F685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F9113-1279-4BD0-BB3F-D67DFF28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261C7-2F3D-492A-8F76-3F12B0F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887BB-FF39-4DBD-B767-621C451C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F0438-CF25-4CD6-986F-C40D108E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FD9-A545-4BAA-B6D1-03DF582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E7564-0D8B-469F-9DA6-A0E3AC1D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96182-1994-4EEC-BB16-B6B11768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8B9A-BF51-413D-932F-15D20B36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EAE6B-5A26-4AE2-B333-D99587E9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BFFE9-C9A7-4D11-9BE6-B894569A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396A-8028-4B24-A5A3-348FD1BC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16C5-D6A0-4270-9178-EC4DBF9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EABB2-F213-4DFF-B17C-E5D6CE72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EE809-A878-48C9-AB52-90C3A4DC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4A0C-8E54-4F97-A816-521A8CFB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C94-4AF4-44F2-A2E8-06F0A348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45BAF-5431-4DBD-BB21-50DBA3C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98ED3-A4A9-4D37-BBCD-87293712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A5C52-F2F1-410E-A0B6-EA6F8317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D4124-95D4-47CF-B25C-A1EECA12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6D222-A6BF-4F4B-ACA9-5B70C311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F5B0D-768E-4567-8BE1-74A82226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5B494-7084-480F-BA3A-68B6995A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E1DD6-644C-438F-8D27-D1C9B7CA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E98A9-3014-44BC-B526-C59D22CA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9FC8-EF93-423A-83CF-1BDCAF7D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36E-DCA8-4B4A-B2B6-5A2AA26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9399C-CC19-4C2F-8EA8-DB691D4B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92152-FD5E-4FA1-A5CC-C77E86D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F417D-32E3-4369-A018-13D46046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52136-FBF1-47F0-BE3E-1E344289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8C9A9-5B05-4B3E-BC77-47F2D607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95817-8527-4703-A268-07829547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AB1D5-36A5-4ED6-A18A-CA6A80EE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A5AD-46EA-4B3B-A1E4-9CC62004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DD61-3A78-48E3-A072-1335B0B0B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BF2F-7A9C-4C9D-AC71-FE4B70C78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71F-A9BD-49B5-BEAD-B2B68CF1B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ACC0-E6E3-4475-8FA7-E0D30E4507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ECAE-6300-42A2-899E-53801B651E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4DCE-E2CA-4BF0-8FAB-2C375F5F1A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0D74-02E4-4FB4-823B-08EB1D646D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0" y="549360"/>
            <a:ext cx="914400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378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ДОУ  д/с  №  19  "Родничок" комбинированного вида 2 категор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Чувашская  Республика г  Шумерл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403280" y="1773360"/>
            <a:ext cx="6337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Здоровячок"</a:t>
            </a:r>
            <a:endParaRPr b="0" lang="en-US" sz="3200" spc="1" strike="noStrike">
              <a:ln w="19080">
                <a:solidFill>
                  <a:srgbClr val="0000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84360" y="465300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Оздоровительная  программа  для  детей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ff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4 - 7ле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90000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9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  разде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Релаксаци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179280" y="3500280"/>
            <a:ext cx="4176720" cy="317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2268360" y="2133720"/>
            <a:ext cx="2881440" cy="2160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076720" y="2852640"/>
            <a:ext cx="44640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Этот  раздел  учит  детей  расслабляться,  отдых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после  физической  и  умственной  на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Этому  помог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дыхательная  гимнастика,  аутогенная  тренировка,  расслаблению  помогает системная  гимнастика  старославянская  методика  оздоро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35640" cy="29973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5075280" y="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2556000" y="3522600"/>
            <a:ext cx="4321080" cy="33354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11280" y="301140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01140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“”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Физкультура  с  мамой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32000" y="649116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59280" y="63817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День здоровья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03640" y="2924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Путешествие  в  страну  здоровья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3429000"/>
            <a:ext cx="5761080" cy="3240000"/>
          </a:xfrm>
          <a:prstGeom prst="rect">
            <a:avLst/>
          </a:prstGeom>
          <a:solidFill>
            <a:srgbClr val="3366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Автор  и  разработчик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Клячкина  Лидия  Николаевн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воспита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по  физической  культур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высш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квалификационной  катег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МДОУ  д/с  №  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комбинированного  в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Verdan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Категории г Шумер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Чувашская  Республ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684360" y="242100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ель  программы: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11280" y="3789360"/>
            <a:ext cx="7561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действовать  оздоровлению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ей   дошкольного  возраста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рез танцевально-игровую 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ь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35640" y="765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84920" y="852480"/>
            <a:ext cx="18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35280" y="549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Движение – радо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Движение – здоровь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Движение – развити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535120" y="279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9640" y="2421000"/>
            <a:ext cx="2376720" cy="865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Игротан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43280" y="5445000"/>
            <a:ext cx="2822760" cy="863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Игровой масса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и самомасс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47640" y="5300640"/>
            <a:ext cx="2521080" cy="93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Пальчик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51640" y="3573360"/>
            <a:ext cx="3168360" cy="1366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Кинезиолог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гимнаст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920" y="3645000"/>
            <a:ext cx="2665440" cy="129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реатив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партер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700360" y="1268280"/>
            <a:ext cx="2787480" cy="1346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Семейный  клу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Здоровячок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”</a:t>
            </a: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508720" y="2060640"/>
            <a:ext cx="2665440" cy="1079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</a:rPr>
              <a:t>Релакс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32000" y="2997360"/>
            <a:ext cx="2376720" cy="18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Разде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55640" y="260280"/>
            <a:ext cx="7632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ь  программ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Здоровячок"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219640" y="2923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211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2700000" y="3068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2843280" y="4221000"/>
            <a:ext cx="288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419640" y="479736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932360" y="479736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08720" y="4005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4824360" cy="3859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4140360" y="321300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79280" y="378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Все  на  карнавал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88000" y="2421000"/>
            <a:ext cx="24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утешествие в  страну  танца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24000" y="-603360"/>
            <a:ext cx="84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 Раздел 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реативная  партерная  гимнастика"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76360" y="2781360"/>
            <a:ext cx="57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76360" y="344340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4000" y="2492280"/>
            <a:ext cx="82087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Основывается  на  нетрадиционной  методике  развития  мышечной  силы  гибкости, познавательной  активности,  свободного  самовыражения  и  раскрепощенност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Он  состоит  из  музыкально-творческих  заданий,  специального  комплекса  упражнений  на  коррекцию  и  профилактику  опорно-двигательного  аппарата,  фитбол  и  оздоровительной  гимнастики  по  системе  Кацудзо  Ниши,  системе  йоговских  упражнений  по  Игнатье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1908000" y="1484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4211640" cy="31575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35040"/>
            <a:ext cx="30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32000" y="333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Verdana"/>
              </a:rPr>
              <a:t>Фи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34034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4968720" y="3774960"/>
            <a:ext cx="4175280" cy="30830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5364000" y="620640"/>
            <a:ext cx="3384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5"/>
          <a:stretch/>
        </p:blipFill>
        <p:spPr>
          <a:xfrm>
            <a:off x="611280" y="4211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24000" y="3500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Хатха-йога  </a:t>
            </a:r>
            <a:r>
              <a:rPr b="1" i="1" lang="en-US" sz="1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Прямое  дерево</a:t>
            </a:r>
            <a:r>
              <a:rPr b="1" i="1" lang="en-US" sz="1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88000" y="342900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Хатха-йога  </a:t>
            </a:r>
            <a:r>
              <a:rPr b="1" i="1" lang="en-US" sz="1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Кошка  показывет хвост</a:t>
            </a:r>
            <a:r>
              <a:rPr b="1" i="1" lang="en-US" sz="1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28526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2484360" y="1916280"/>
            <a:ext cx="3851280" cy="27381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5443560" y="4083120"/>
            <a:ext cx="3700440" cy="27748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95480" y="423540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411280" y="472428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2000" spc="-1" strike="noStrike">
                <a:solidFill>
                  <a:srgbClr val="000099"/>
                </a:solidFill>
                <a:latin typeface="Verdana"/>
              </a:rPr>
              <a:t>Гордый олень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4000" y="2205000"/>
            <a:ext cx="13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9640" y="229248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8036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68360" y="2997360"/>
            <a:ext cx="147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85264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Птица  в полете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04000" y="35877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Ожерелье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2720" cy="3483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2195640" y="4076640"/>
            <a:ext cx="3744720" cy="27813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619280" y="364500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Гимнастика  для укрепления  г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84560" y="380376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7:08:55Z</dcterms:created>
  <dc:creator>User</dc:creator>
  <dc:description/>
  <dc:language>en-US</dc:language>
  <cp:lastModifiedBy>Клячкина</cp:lastModifiedBy>
  <dcterms:modified xsi:type="dcterms:W3CDTF">2012-05-27T09:41:44Z</dcterms:modified>
  <cp:revision>33</cp:revision>
  <dc:subject/>
  <dc:title>Слайд 1</dc:title>
</cp:coreProperties>
</file>