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B4F-665B-4C16-99A8-3D5A96B8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016-308A-4920-95C9-84E6642E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DB0-EB89-46BC-9B6C-FE221970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C27-5A94-42FB-87EE-CE0B9E9F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935-F1C1-4C22-AA83-8D75169E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B19-B4F8-4CFB-AE36-A5AD91A6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796-AF21-43AE-8965-D679D667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588-B185-45C1-BB49-1CE3A132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96A-B876-43F3-BFCD-4E049549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540-5A02-4CCA-ADDF-B45D5152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215-CDE0-4CFE-A1E8-7524D91D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D11-8215-40F9-9A34-E3376B5E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E878-D741-4202-937A-02BEA3CC7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ричастие </a:t>
            </a: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как часть ре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интаксический разбор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М..розы не(могут) ск..вать бушующую водную стих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1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Темный лес – </a:t>
            </a: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темнеющий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иний горизо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Желтая кувш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олючий е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Шумный п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лзущее,ползуч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орящее, горяч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елая,спеющ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обрать к данным словам подходящие по смыслу имена существ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3(часть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стретили старика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отор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л в избе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отор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яла на опушке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стретили старика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отор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жил в избе,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тоящ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пушке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3(часть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За столом сидят ученики и читают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столом сидят ученики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итающ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4 (образец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олодный ветер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прогнал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статки ночного тумана и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растрепал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нашу палат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олодный ветер,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прогнавший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статки ночного тумана, растрепал нашу палат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нце еще не вошло в силу и греет бережно и ласково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дух еще не стал знойным и приятно освежает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авним словосоче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леньки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углы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ннисны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тящи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дающи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авши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299736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411280" y="299736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000" y="45813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45813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6000" y="126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042560" y="1268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155736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6836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042920" y="278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62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971280" y="42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588000" y="148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148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51672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148000" y="1197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11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659640" y="278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48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588000" y="4581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4581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516720" y="4292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76720" y="429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876720" y="306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306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155736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ризнаки прилагатель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твечает на вопрос ка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бозначает постоянный приз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изменяется по родам, числам и падеж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ричас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тящий мяч  - мяч,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отор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лет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(н.в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авший мяч  - мяч,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отор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упа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(пр.в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87280" y="2133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916360" y="184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476360" y="1844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2133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987280" y="3789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3789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1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47636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ризнаки причас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твечает на вопрос ка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ременной признак (настоящее и прошедшее врем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изменяется по родам, числам и падеж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авн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лагательн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ннисный          тенни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от сущ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част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ящий            лете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от глаго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98764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97128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2708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43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5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4437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70000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43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95280" y="450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437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ризнаки причастий и прилага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твечает на вопрос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означает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постоянны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меняется по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одам, числам и пад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твечает на вопрос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временно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знак (настоящее и прошедш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меняется по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одам, числам и пад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ризнаки, отличающие причастие от прилага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лагательное можно заменить синони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редки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лес –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негусто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ле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частие – сочетанием с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ОТОРЫЙ+ГЛАГ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редеющи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лес-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лес, который редее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 морфемному призн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лагательные могут иметь суффиксы –уч-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юч-,-ач-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яч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й зам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уч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частия могут иметь суффик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ащ-,-ящ-,-ущ-,-ющ-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ящ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е ки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ящ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й ш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364000" y="4221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422100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508720" y="515772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515772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187280" y="414972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4149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58920" y="515736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157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3:41:26Z</dcterms:created>
  <dc:creator>Рома и Света</dc:creator>
  <dc:description/>
  <dc:language>en-US</dc:language>
  <cp:lastModifiedBy>Света</cp:lastModifiedBy>
  <dcterms:modified xsi:type="dcterms:W3CDTF">2011-04-19T16:59:51Z</dcterms:modified>
  <cp:revision>3</cp:revision>
  <dc:subject/>
  <dc:title>Причастие как часть речи</dc:title>
</cp:coreProperties>
</file>