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76B-266A-4A81-90C8-5E64CCBB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9F4-7D21-4D37-AF22-7C0A863C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0D4F-1C60-444E-9686-13371B3E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3A2-622E-4323-8FF9-64F5E933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2C4-AF13-4119-A4EC-A93862C1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C1C-3D55-4028-99D0-16495BA3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0BB-8F0D-40EB-889D-BB317BB7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8D8-B9D6-420D-9FDA-B201EDA0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94A3-F6E0-4E20-8434-51F78F98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30DA-8486-4FDE-BDCE-7C16FACC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680-10A7-4E1C-BD3E-35E9DDEC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402-BF26-4311-999E-99C6E0C1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DC6E-5BD9-44AD-B671-BDEAD59EE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Причастие </a:t>
            </a:r>
            <a:br>
              <a:rPr sz="5400"/>
            </a:b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как часть реч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Синтаксический разбор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М..розы не(могут) ск..вать бушующую водную стихию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Задание 1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Темный лес – </a:t>
            </a:r>
            <a:r>
              <a:rPr b="1" i="1" lang="en-US" sz="4400" spc="-1" strike="noStrike">
                <a:solidFill>
                  <a:srgbClr val="333399"/>
                </a:solidFill>
                <a:latin typeface="Times New Roman"/>
              </a:rPr>
              <a:t>темнеющий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л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иний горизо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Желтая кувши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Колючий е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Шумный по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дание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лзущее,ползуч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орящее, горяч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пелая,спеюща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добрать к данным словам подходящие по смыслу имена существитель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Задание 3(часть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встретили старика,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оторы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л в избе,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отор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тояла на опушке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встретили старика,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которы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жил в избе,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тояще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опушке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Задание 3(часть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За столом сидят ученики и читают кни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 столом сидят ученики,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читающ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ни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Задание 4 (образец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Холодный ветер </a:t>
            </a: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прогнал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статки ночного тумана и </a:t>
            </a: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растрепал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нашу палат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Холодный ветер, </a:t>
            </a:r>
            <a:r>
              <a:rPr b="1" i="1" lang="en-US" sz="3600" spc="-1" strike="noStrike">
                <a:solidFill>
                  <a:srgbClr val="333399"/>
                </a:solidFill>
                <a:latin typeface="Times New Roman"/>
              </a:rPr>
              <a:t>прогнавший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статки ночного тумана, растрепал нашу палат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Задание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лнце еще не вошло в силу и греет бережно и ласково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дух еще не стал знойным и приятно освежает лиц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равним словосоче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ленький мя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углый мя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еннисный мя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етящий мя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адающий мя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павший мя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299736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411280" y="299736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00000" y="458136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458136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556000" y="126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042560" y="1268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155736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26836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042920" y="278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6272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971280" y="422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588000" y="1484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88000" y="1484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51672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148000" y="1197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119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659640" y="278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48360" y="2708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588000" y="4581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458136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516720" y="4292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076720" y="4292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720" y="429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876720" y="3068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7080" y="3068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71640" y="155736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Признаки прилагатель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твечает на вопрос как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бозначает постоянный призн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изменяется по родам, числам и падеж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Причас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етящий мяч  - мяч,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отор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лети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(н.в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павший мяч  - мяч,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отор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упа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(пр.в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987280" y="213372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916360" y="184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476360" y="1844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636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7640" y="213372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987280" y="3789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3789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91636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47636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Признаки причас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отвечает на вопрос как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ременной признак (настоящее и прошедшее врем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изменяется по родам, числам и падеж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равни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лагательно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ннисный          тенни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от сущ.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част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ящий            лете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от глаго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987640" y="2492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26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11280" y="2637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971280" y="2708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2637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2637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67280" y="270828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64000" y="2637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4365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45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4437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70000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4365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95280" y="450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95640" y="4437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Признаки причастий и прилага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твечает на вопрос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ка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бозначает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постоянны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изн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зменяется по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родам, числам и падеж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твечает на вопрос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ка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временно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изнак (настоящее и прошедшее врем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зменяется по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родам, числам и падеж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Признаки, отличающие причастие от прилагатель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лагательное можно заменить синони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редки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лес –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негусто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ле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ичастие – сочетанием сл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ОТОРЫЙ+ГЛАГО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редеющий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лес-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лес, который редеет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По морфемному призна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лагательные могут иметь суффиксы –уч-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юч-,-ач-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ис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яч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й зам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ет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уч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частия могут иметь суффик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ащ-,-ящ-,-ущ-,-ющ-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ис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ящ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е ки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ет</a:t>
            </a: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ящ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й ш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364000" y="4221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422100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508720" y="515772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1640" y="515772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187280" y="414972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414972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258920" y="515736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5157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13:41:26Z</dcterms:created>
  <dc:creator>Рома и Света</dc:creator>
  <dc:description/>
  <dc:language>en-US</dc:language>
  <cp:lastModifiedBy>Света</cp:lastModifiedBy>
  <dcterms:modified xsi:type="dcterms:W3CDTF">2011-04-19T16:59:51Z</dcterms:modified>
  <cp:revision>3</cp:revision>
  <dc:subject/>
  <dc:title>Причастие как часть речи</dc:title>
</cp:coreProperties>
</file>