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CAA-FDD9-4C0A-B982-BEB7646A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930-C194-4F0A-968F-02A468B2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AB9-4CF2-41B0-82E6-03677EFF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D7B-34C3-4A4C-9371-0EB7B855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265D1-B4B0-4A0E-A03D-F3214A47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7AA12-4659-45CE-A13D-BABF5BAB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E07FC-1122-45A1-B3EF-E0E49FFD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7BFF1-329C-4FD4-BD55-45182B93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F430-7014-47AC-842A-4645AC31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4F0F0-FBC2-4910-866E-20F3F759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50062-164A-4847-B5B7-F75D58F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8FB-6A0F-48CC-95E1-B56B505C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9BEE5-59B5-41B7-9781-0110875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898C-B701-42D3-9FE4-4B15011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2A2B-10DF-494A-AD9B-FF608CD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1183-A239-4D01-A6AD-BEFB00A5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3777D-C34D-467C-8C23-86A56527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617-6314-4F37-97AC-BE54F598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C49-218E-4BFB-A83D-345A328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8B0-98B1-4BDE-AD56-231CEFE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7EF-4382-4479-8BA8-86C79306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CC3-9353-4389-8661-D2C5D930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E31-5C69-493D-854C-FEC9A76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B3E-10F4-47A1-B365-7EB6FA1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BD01-A724-4DD9-A326-FECDDD2E6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77A-4C74-446A-BE37-A9F95DD43C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олубое золот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 rot="16200000">
            <a:off x="647640" y="951840"/>
            <a:ext cx="3886200" cy="4114800"/>
          </a:xfrm>
          <a:prstGeom prst="cloudCallout">
            <a:avLst>
              <a:gd name="adj1" fmla="val -88425"/>
              <a:gd name="adj2" fmla="val 58902"/>
            </a:avLst>
          </a:prstGeom>
          <a:blipFill rotWithShape="0">
            <a:blip r:embed="rId2">
              <a:alphaModFix amt="21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ан- 98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мологи метан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8"/>
          <p:cNvSpPr/>
          <p:nvPr/>
        </p:nvSpPr>
        <p:spPr>
          <a:xfrm rot="16444200">
            <a:off x="5067000" y="1104480"/>
            <a:ext cx="3809880" cy="3886200"/>
          </a:xfrm>
          <a:prstGeom prst="cloudCallout">
            <a:avLst>
              <a:gd name="adj1" fmla="val -81203"/>
              <a:gd name="adj2" fmla="val -29800"/>
            </a:avLst>
          </a:prstGeom>
          <a:blipFill rotWithShape="0">
            <a:blip r:embed="rId3">
              <a:alphaModFix amt="1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глеводородные вещест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оксид угле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л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962520" y="228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омными запасами природного газа обладают Россия, Иран, большинство стран Персидского залива, США, Канада, Нидерланды, и иногда упоминают Норвегию, но её запасы невелики. Среди бывших республик Советского Союза большими запасами газа владеет Туркмения, а также Казахс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6dab3d3c8754548f361a0e18db09f83d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595080" y="1698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3" descr="gazoprovod2"/>
          <p:cNvPicPr/>
          <p:nvPr/>
        </p:nvPicPr>
        <p:blipFill>
          <a:blip r:embed="rId3"/>
          <a:stretch/>
        </p:blipFill>
        <p:spPr>
          <a:xfrm>
            <a:off x="5715000" y="152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торой половине XX века   были открыты природные  гидраты метана (Это соединение метана с водой, устойчивы при низких температурах и повышенном  давлении). Позже выяснилось, что запасы природного газа в данном состоянии огромны. Они располагаются как под землёй, так и на незначительном углублении под морским д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2" descr="hydrateburn"/>
          <p:cNvPicPr/>
          <p:nvPr/>
        </p:nvPicPr>
        <p:blipFill>
          <a:blip r:embed="rId2"/>
          <a:stretch/>
        </p:blipFill>
        <p:spPr>
          <a:xfrm>
            <a:off x="441000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ан — третий по распространённости газ вселенной, после водорода и гелия. В виде метанового льда он участвует в строении многих удалённых от солнца планет и астероидов, однако такие скопления, как правило, не относят к залежам природного газа, и они до сих пор не нашли практического применения. Значительное количество углеводородов присутствует в мантии Земли, однако они тоже не представляют интере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universe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7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65570697_dying_1"/>
          <p:cNvPicPr/>
          <p:nvPr/>
        </p:nvPicPr>
        <p:blipFill>
          <a:blip r:embed="rId3"/>
          <a:stretch/>
        </p:blipFill>
        <p:spPr>
          <a:xfrm>
            <a:off x="5257800" y="3130560"/>
            <a:ext cx="38862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k_lamp"/>
          <p:cNvPicPr/>
          <p:nvPr/>
        </p:nvPicPr>
        <p:blipFill>
          <a:blip r:embed="rId2"/>
          <a:stretch/>
        </p:blipFill>
        <p:spPr>
          <a:xfrm>
            <a:off x="6276960" y="1676520"/>
            <a:ext cx="286704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2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09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zil_100_1"/>
          <p:cNvPicPr/>
          <p:nvPr/>
        </p:nvPicPr>
        <p:blipFill>
          <a:blip r:embed="rId4"/>
          <a:stretch/>
        </p:blipFill>
        <p:spPr>
          <a:xfrm>
            <a:off x="0" y="2284560"/>
            <a:ext cx="6400800" cy="457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grad2"/>
          <p:cNvPicPr/>
          <p:nvPr/>
        </p:nvPicPr>
        <p:blipFill>
          <a:blip r:embed="rId5"/>
          <a:stretch/>
        </p:blipFill>
        <p:spPr>
          <a:xfrm>
            <a:off x="4038480" y="0"/>
            <a:ext cx="231804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09480" y="444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5" descr="99117306334360278de5fd74b917a69b_600"/>
          <p:cNvPicPr/>
          <p:nvPr/>
        </p:nvPicPr>
        <p:blipFill>
          <a:blip r:embed="rId6"/>
          <a:stretch/>
        </p:blipFill>
        <p:spPr>
          <a:xfrm>
            <a:off x="0" y="0"/>
            <a:ext cx="4114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440" y="0"/>
            <a:ext cx="29718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экологическом отношении природный газ является самым чистым видом минерального топлива. Однако сжигание человечеством огромного количества различных видов топлива, в том числе природного газа, за последние полвека привело к некоторому незначительному увеличению содержания углекислого газа в атмосфере, который является парниковым газом. Некоторые учёные делают вывод, что это ведёт к глобальному потеплению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ekologiya"/>
          <p:cNvPicPr/>
          <p:nvPr/>
        </p:nvPicPr>
        <p:blipFill>
          <a:blip r:embed="rId2"/>
          <a:stretch/>
        </p:blipFill>
        <p:spPr>
          <a:xfrm>
            <a:off x="685800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big_7914"/>
          <p:cNvPicPr/>
          <p:nvPr/>
        </p:nvPicPr>
        <p:blipFill>
          <a:blip r:embed="rId3"/>
          <a:stretch/>
        </p:blipFill>
        <p:spPr>
          <a:xfrm>
            <a:off x="304920" y="2971800"/>
            <a:ext cx="5105160" cy="361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mages"/>
          <p:cNvPicPr/>
          <p:nvPr/>
        </p:nvPicPr>
        <p:blipFill>
          <a:blip r:embed="rId4"/>
          <a:stretch/>
        </p:blipFill>
        <p:spPr>
          <a:xfrm>
            <a:off x="228600" y="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global warming candle"/>
          <p:cNvPicPr/>
          <p:nvPr/>
        </p:nvPicPr>
        <p:blipFill>
          <a:blip r:embed="rId2"/>
          <a:stretch/>
        </p:blipFill>
        <p:spPr>
          <a:xfrm>
            <a:off x="7040520" y="0"/>
            <a:ext cx="21034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46424969_5960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обальное потепл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это процесс постепенного увеличения среднегодовой температуры атмосферы Земли и 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480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интенсивное выпадение осад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высокие максимальные температуры, увеличение числа жарких дней и уменьшение числа морозных дней почти во всех регионах Земли; при этом в большинстве континентальных районов волны тепла станут более часты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разброса температ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9:34:54Z</dcterms:created>
  <dc:creator>Ксюн</dc:creator>
  <dc:description/>
  <dc:language>en-US</dc:language>
  <cp:lastModifiedBy>Давид Писной</cp:lastModifiedBy>
  <dcterms:modified xsi:type="dcterms:W3CDTF">2011-02-04T13:4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