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2.jpeg" ContentType="image/jpeg"/>
  <Override PartName="/ppt/media/image7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1.jpeg" ContentType="image/jpeg"/>
  <Override PartName="/ppt/media/image9.jpeg" ContentType="image/jpeg"/>
  <Override PartName="/ppt/media/image1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92214-A078-4371-BBE9-B99585DFE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A4DF7-45F6-4B28-B2C6-7ABF64D80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01F49-5492-4718-B72D-A9C0E9E77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BD75F-18F4-45DF-933F-D909CF3B2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5D24AF-D9DD-4549-BBB8-B19FC264E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6F5360-188D-44CA-8FDB-3AAA1A99F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C76321-7BC3-488E-816C-4A24960B3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5395E9-7CA0-4C25-9407-45956BEDA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D27813-2039-4E04-BF13-3A6F15D04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7FCAEE-61A1-451A-9B4D-7D3FC0914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9B5E8A-5177-42A1-B375-B55F9A9AF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C2519-772B-4504-903E-BF15EB18B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BA4653-8F74-4161-8FF0-6F1268A59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9A221D-173B-4E60-BA9A-545DC3428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EDF6E7-2433-479F-8560-A6AFE8BDD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A6906D-A8A8-4A0F-82CF-ACC77E407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AC2389-33C2-40EA-8881-850E18BA5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ED4E9-FE5C-41FD-B563-EE91FB3A9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57735-5DE6-4C1C-8FF3-B019A6414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C426C-CE70-4EA7-8569-44B2F0FC2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C5FDA-28F5-4692-A941-0807159BD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FF910-E17A-4C73-B183-6A6BCEAC7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08881-9D92-4F0A-BDC6-D6C297B2F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BF25D-218B-4232-8730-670A20D28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DA6B0-E039-4514-9673-A4C32179F75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>
              <a:gd name="textAreaLeft" fmla="*/ 0 w 1440"/>
              <a:gd name="textAreaRight" fmla="*/ 1800 w 1440"/>
              <a:gd name="textAreaTop" fmla="*/ 0 h 3035160"/>
              <a:gd name="textAreaBottom" fmla="*/ 3035520 h 3035160"/>
            </a:gdLst>
            <a:ahLst/>
            <a:rect l="textAreaLeft" t="textAreaTop" r="textAreaRight" b="textAreaBottom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556DE-2F7A-44F0-9837-1FF07F5376F6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209680" y="1143000"/>
            <a:ext cx="69343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«Голубое золото»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AutoShape 5"/>
          <p:cNvSpPr/>
          <p:nvPr/>
        </p:nvSpPr>
        <p:spPr>
          <a:xfrm rot="16200000">
            <a:off x="647640" y="951840"/>
            <a:ext cx="3886200" cy="4114800"/>
          </a:xfrm>
          <a:prstGeom prst="cloudCallout">
            <a:avLst>
              <a:gd name="adj1" fmla="val -88425"/>
              <a:gd name="adj2" fmla="val 58902"/>
            </a:avLst>
          </a:prstGeom>
          <a:blipFill rotWithShape="0">
            <a:blip r:embed="rId2">
              <a:alphaModFix amt="21000"/>
            </a:blip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етан- 98 %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омологи метана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этан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опан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утан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AutoShape 8"/>
          <p:cNvSpPr/>
          <p:nvPr/>
        </p:nvSpPr>
        <p:spPr>
          <a:xfrm rot="16444200">
            <a:off x="5067000" y="1104480"/>
            <a:ext cx="3809880" cy="3886200"/>
          </a:xfrm>
          <a:prstGeom prst="cloudCallout">
            <a:avLst>
              <a:gd name="adj1" fmla="val -81203"/>
              <a:gd name="adj2" fmla="val -29800"/>
            </a:avLst>
          </a:prstGeom>
          <a:blipFill rotWithShape="0">
            <a:blip r:embed="rId3">
              <a:alphaModFix amt="18000"/>
            </a:blip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еуглеводородные вещества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одород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ероводород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иоксид углерод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зот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елий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Rectangle 10"/>
          <p:cNvSpPr/>
          <p:nvPr/>
        </p:nvSpPr>
        <p:spPr>
          <a:xfrm>
            <a:off x="3962520" y="22860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оста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57200" y="380880"/>
            <a:ext cx="4038480" cy="609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громными запасами природного газа обладают Россия, Иран, большинство стран Персидского залива, США, Канада, Нидерланды, и иногда упоминают Норвегию, но её запасы невелики. Среди бывших республик Советского Союза большими запасами газа владеет Туркмения, а также Казахстан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8" name="Picture 9" descr="6dab3d3c8754548f361a0e18db09f83d"/>
          <p:cNvPicPr/>
          <p:nvPr/>
        </p:nvPicPr>
        <p:blipFill>
          <a:blip r:embed="rId2"/>
          <a:stretch/>
        </p:blipFill>
        <p:spPr>
          <a:xfrm>
            <a:off x="4724280" y="3543480"/>
            <a:ext cx="4419720" cy="331452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11"/>
          <p:cNvSpPr/>
          <p:nvPr/>
        </p:nvSpPr>
        <p:spPr>
          <a:xfrm>
            <a:off x="595080" y="169848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Picture 13" descr="gazoprovod2"/>
          <p:cNvPicPr/>
          <p:nvPr/>
        </p:nvPicPr>
        <p:blipFill>
          <a:blip r:embed="rId3"/>
          <a:stretch/>
        </p:blipFill>
        <p:spPr>
          <a:xfrm>
            <a:off x="5715000" y="152280"/>
            <a:ext cx="342900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4000"/>
                            </p:stCondLst>
                            <p:childTnLst>
                              <p:par>
                                <p:cTn id="4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304920" y="228240"/>
            <a:ext cx="41148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о второй половине XX века   были открыты природные  гидраты метана (Это соединение метана с водой, устойчивы при низких температурах и повышенном  давлении). Позже выяснилось, что запасы природного газа в данном состоянии огромны. Они располагаются как под землёй, так и на незначительном углублении под морским дно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Picture 12" descr="hydrateburn"/>
          <p:cNvPicPr/>
          <p:nvPr/>
        </p:nvPicPr>
        <p:blipFill>
          <a:blip r:embed="rId2"/>
          <a:stretch/>
        </p:blipFill>
        <p:spPr>
          <a:xfrm>
            <a:off x="4410000" y="0"/>
            <a:ext cx="473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2000"/>
                            </p:stCondLst>
                            <p:childTnLst>
                              <p:par>
                                <p:cTn id="5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457200" y="457200"/>
            <a:ext cx="40384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етан — третий по распространённости газ вселенной, после водорода и гелия. В виде метанового льда он участвует в строении многих удалённых от солнца планет и астероидов, однако такие скопления, как правило, не относят к залежам природного газа, и они до сих пор не нашли практического применения. Значительное количество углеводородов присутствует в мантии Земли, однако они тоже не представляют интерес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4" name="Picture 7" descr="universe"/>
          <p:cNvPicPr/>
          <p:nvPr/>
        </p:nvPicPr>
        <p:blipFill>
          <a:blip r:embed="rId2"/>
          <a:stretch/>
        </p:blipFill>
        <p:spPr>
          <a:xfrm>
            <a:off x="4876920" y="0"/>
            <a:ext cx="4267080" cy="30798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8" descr="65570697_dying_1"/>
          <p:cNvPicPr/>
          <p:nvPr/>
        </p:nvPicPr>
        <p:blipFill>
          <a:blip r:embed="rId3"/>
          <a:stretch/>
        </p:blipFill>
        <p:spPr>
          <a:xfrm>
            <a:off x="5257800" y="3130560"/>
            <a:ext cx="3886200" cy="37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2000"/>
                            </p:stCondLst>
                            <p:childTnLst>
                              <p:par>
                                <p:cTn id="7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4000"/>
                            </p:stCondLst>
                            <p:childTnLst>
                              <p:par>
                                <p:cTn id="7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8" descr="k_lamp"/>
          <p:cNvPicPr/>
          <p:nvPr/>
        </p:nvPicPr>
        <p:blipFill>
          <a:blip r:embed="rId2"/>
          <a:stretch/>
        </p:blipFill>
        <p:spPr>
          <a:xfrm>
            <a:off x="6276960" y="1676520"/>
            <a:ext cx="2867040" cy="51814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9" descr="Рисунок2"/>
          <p:cNvPicPr/>
          <p:nvPr/>
        </p:nvPicPr>
        <p:blipFill>
          <a:blip r:embed="rId3"/>
          <a:stretch/>
        </p:blipFill>
        <p:spPr>
          <a:xfrm>
            <a:off x="6324480" y="0"/>
            <a:ext cx="2819520" cy="20937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0" descr="zil_100_1"/>
          <p:cNvPicPr/>
          <p:nvPr/>
        </p:nvPicPr>
        <p:blipFill>
          <a:blip r:embed="rId4"/>
          <a:stretch/>
        </p:blipFill>
        <p:spPr>
          <a:xfrm>
            <a:off x="0" y="2284560"/>
            <a:ext cx="6400800" cy="45734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1" descr="grad2"/>
          <p:cNvPicPr/>
          <p:nvPr/>
        </p:nvPicPr>
        <p:blipFill>
          <a:blip r:embed="rId5"/>
          <a:stretch/>
        </p:blipFill>
        <p:spPr>
          <a:xfrm>
            <a:off x="4038480" y="0"/>
            <a:ext cx="2318040" cy="236232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1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Rectangle 14"/>
          <p:cNvSpPr/>
          <p:nvPr/>
        </p:nvSpPr>
        <p:spPr>
          <a:xfrm>
            <a:off x="609480" y="444600"/>
            <a:ext cx="822960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3" name="Picture 15" descr="99117306334360278de5fd74b917a69b_600"/>
          <p:cNvPicPr/>
          <p:nvPr/>
        </p:nvPicPr>
        <p:blipFill>
          <a:blip r:embed="rId6"/>
          <a:stretch/>
        </p:blipFill>
        <p:spPr>
          <a:xfrm>
            <a:off x="0" y="0"/>
            <a:ext cx="411480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2000"/>
                            </p:stCondLst>
                            <p:childTnLst>
                              <p:par>
                                <p:cTn id="9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4000"/>
                            </p:stCondLst>
                            <p:childTnLst>
                              <p:par>
                                <p:cTn id="9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6000"/>
                            </p:stCondLst>
                            <p:childTnLst>
                              <p:par>
                                <p:cTn id="10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8000"/>
                            </p:stCondLst>
                            <p:childTnLst>
                              <p:par>
                                <p:cTn id="11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114440" y="0"/>
            <a:ext cx="2971800" cy="130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Экология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181120" y="1142640"/>
            <a:ext cx="39625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экологическом отношении природный газ является самым чистым видом минерального топлива. Однако сжигание человечеством огромного количества различных видов топлива, в том числе природного газа, за последние полвека привело к некоторому незначительному увеличению содержания углекислого газа в атмосфере, который является парниковым газом. Некоторые учёные делают вывод, что это ведёт к глобальному потеплению.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6" name="Picture 6" descr="ekologiya"/>
          <p:cNvPicPr/>
          <p:nvPr/>
        </p:nvPicPr>
        <p:blipFill>
          <a:blip r:embed="rId2"/>
          <a:stretch/>
        </p:blipFill>
        <p:spPr>
          <a:xfrm>
            <a:off x="6858000" y="15228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big_7914"/>
          <p:cNvPicPr/>
          <p:nvPr/>
        </p:nvPicPr>
        <p:blipFill>
          <a:blip r:embed="rId3"/>
          <a:stretch/>
        </p:blipFill>
        <p:spPr>
          <a:xfrm>
            <a:off x="304920" y="2971800"/>
            <a:ext cx="5105160" cy="36162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1" descr="images"/>
          <p:cNvPicPr/>
          <p:nvPr/>
        </p:nvPicPr>
        <p:blipFill>
          <a:blip r:embed="rId4"/>
          <a:stretch/>
        </p:blipFill>
        <p:spPr>
          <a:xfrm>
            <a:off x="228600" y="0"/>
            <a:ext cx="38862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2000"/>
                            </p:stCondLst>
                            <p:childTnLst>
                              <p:par>
                                <p:cTn id="12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4000"/>
                            </p:stCondLst>
                            <p:childTnLst>
                              <p:par>
                                <p:cTn id="1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6000"/>
                            </p:stCondLst>
                            <p:childTnLst>
                              <p:par>
                                <p:cTn id="13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8000"/>
                            </p:stCondLst>
                            <p:childTnLst>
                              <p:par>
                                <p:cTn id="14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8" descr="global warming candle"/>
          <p:cNvPicPr/>
          <p:nvPr/>
        </p:nvPicPr>
        <p:blipFill>
          <a:blip r:embed="rId2"/>
          <a:stretch/>
        </p:blipFill>
        <p:spPr>
          <a:xfrm>
            <a:off x="7040520" y="0"/>
            <a:ext cx="2103480" cy="22860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46424969_5960"/>
          <p:cNvPicPr/>
          <p:nvPr/>
        </p:nvPicPr>
        <p:blipFill>
          <a:blip r:embed="rId3"/>
          <a:stretch/>
        </p:blipFill>
        <p:spPr>
          <a:xfrm>
            <a:off x="0" y="3429000"/>
            <a:ext cx="4572000" cy="342900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  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огноз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52280" y="-360"/>
            <a:ext cx="4114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Глобальное потепление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 — это процесс постепенного увеличения среднегодовой температуры атмосферы Земли и Мирового океан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114800" y="1218960"/>
            <a:ext cx="4572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олее интенсивное выпадение осадков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олее высокие максимальные температуры, увеличение числа жарких дней и уменьшение числа морозных дней почти во всех регионах Земли; при этом в большинстве континентальных районов волны тепла станут более частыми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меньшение разброса температур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2000"/>
                            </p:stCondLst>
                            <p:childTnLst>
                              <p:par>
                                <p:cTn id="15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4000"/>
                            </p:stCondLst>
                            <p:childTnLst>
                              <p:par>
                                <p:cTn id="16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6000"/>
                            </p:stCondLst>
                            <p:childTnLst>
                              <p:par>
                                <p:cTn id="17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8000"/>
                            </p:stCondLst>
                            <p:childTnLst>
                              <p:par>
                                <p:cTn id="17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10000"/>
                            </p:stCondLst>
                            <p:childTnLst>
                              <p:par>
                                <p:cTn id="18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4T09:34:54Z</dcterms:created>
  <dc:creator>Ксюн</dc:creator>
  <dc:description/>
  <dc:language>en-US</dc:language>
  <cp:lastModifiedBy>Давид Писной</cp:lastModifiedBy>
  <dcterms:modified xsi:type="dcterms:W3CDTF">2011-02-04T13:45:18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