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046-CBF2-4A84-AA52-DCFB6F4A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E79-77FA-446F-BAB6-D1BE3C1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D0-E1E6-4DFF-B6FB-7A8752C3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EA7-B57D-41C2-AB42-6F576796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85F0-DDA3-48BE-B7DC-17978E3C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6D9-AACC-4306-9009-1DDE8D1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294-7344-42AF-8203-11D9F219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7FEB-AB39-4AF1-9F9B-EB831901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F02-AE37-4B7E-8697-B61F2100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B35-0CF1-4014-B50E-63614CF7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AA89-9D3E-4BE8-8CBA-38C7810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5354-C23F-4B88-8990-55D60F08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6790-9C4C-463E-8091-E62FF374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09D7-EDB9-4C2F-A7E4-EE99767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8759-1A9D-47F3-A262-2C8A7284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33B5-2242-4FC0-91E3-621B17F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9B7C-4B37-4A3B-9ADA-E34EBE78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628-2075-4C21-BD5F-4724844C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C60-33E4-4A4C-BB87-81C72F1C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3E1-05D5-4599-ADAB-BAEA0C1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C42-9EA1-4E33-8F0D-9C8FD247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F97-E8E9-46B3-9AAE-C21E0B4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310-67E9-4A58-B7A3-C6205ED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E72-FCA1-439A-85A7-3C3298E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9B5-5776-41BA-8048-C42672A085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A7EE-D536-4CC1-9EE2-541E89CC06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9efee"/>
                </a:solidFill>
                <a:latin typeface="Garamond"/>
              </a:rPr>
              <a:t>ШКОЛА «МОЛОДОГО ВОСПИТАТЕЛЯ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3600" spc="-1" strike="noStrike">
                <a:solidFill>
                  <a:srgbClr val="b9efee"/>
                </a:solidFill>
                <a:latin typeface="Garamond"/>
              </a:rPr>
              <a:t>ВЛИЯНИЕ  ПАЛЬЦЕВ  НА РАЗВИТИЕ  РЕЧИ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770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итель-логопе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хова З.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АДОУ Д/С 1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Василёк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лореченск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Развитию ручной моторики способствуют также: 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Занятия с пластилином, глиной, соленым тестом, мелким строительным материалом, конструктором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низывание бус, бисероплетение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кладывание из спичек рисунков, букв, складывание колодце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дновременно левой и правой рукой складывать в коробку пуговицы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исование по трафарету букв, геометрических фигур, штриховка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исование по точкам, пунктирным линия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Массаж рук проводится сначала на одной руке, затем на друго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глаживание от кончиков пальцев до середины руки с внешней и тыльной сторон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минание пальцев: интенсивные круговые движения вокруг каждого пальц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пражнение "Сорока-белобока"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тенсивные движения большого пальца вперед-назад, вверх-вниз, по круг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гибание-разгибание всех пальцев одновремен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гибание-разгибание руки в кистевом сустав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тенсивное растирание каждого пальц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очечный массаж каждого пальца между фалангами с боковых и фронтально-тыльных сторон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"Пальцы ложатся спать": поочередное загибание пальцев, затем их одновременное выпрямление в сопровождении стихотворения: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Этот пальчик хочет спать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прыг в кровать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прикорну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Этот пальчик уж уснул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Тише, пальчик, не шум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Братиков не разбуд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Встали пальчики, ура!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В детский сад идти пора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Простые движения рук помогают убрать напряжение не только с самих рук, но и с губ, снимают умственную усталость.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414936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ни способны улучшить произношение многих звуков, а значит – развивать речь ребенк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9efee"/>
                </a:solidFill>
                <a:latin typeface="Garamond"/>
              </a:rPr>
              <a:t>«Рука – это человеческий мозг,</a:t>
            </a:r>
            <a:br>
              <a:rPr sz="4800"/>
            </a:br>
            <a:r>
              <a:rPr b="1" i="1" lang="ru-RU" sz="4800" spc="-1" strike="noStrike">
                <a:solidFill>
                  <a:srgbClr val="b9efee"/>
                </a:solidFill>
                <a:latin typeface="Garamond"/>
              </a:rPr>
              <a:t>вышедший наружу»</a:t>
            </a: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b9efee"/>
                </a:solidFill>
                <a:latin typeface="Garamond"/>
              </a:rPr>
              <a:t>                           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Иммануил Кант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2920" y="4220640"/>
            <a:ext cx="67294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68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68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68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движения организма и речевая моторика имеют единые механизмы, поэтому развитие тонкой моторики рук благотворно сказывается на развитии речи малыша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362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Точное динамическое движение для ног, туловища, рук, головы подготавливает совершенствование движений артикуляционных органов: губ, языка, нижней челюсти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Известный исследователь детской речи </a:t>
            </a:r>
            <a:r>
              <a:rPr b="1" lang="en-US" sz="2000" spc="-1" strike="noStrike">
                <a:solidFill>
                  <a:srgbClr val="00ff99"/>
                </a:solidFill>
                <a:latin typeface="Garamond"/>
              </a:rPr>
              <a:t>М.М. Кольцова</a:t>
            </a: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 пишет: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«Движение пальцев рук исторически, в ходе развития человечества, оказались тесно связаны с речевой функцией. Первой формой общения первобытных людей были жесты, особенно важна здесь была роль руки. Развитие функций руки  и речи у людей шло параллельно. Примерно таков же ход развития речи ребенка. Сначала развиваются тонкие движения пальцев рук, затем появляется артикуляция слогов, все последующие совершенствования речевых реакций стоит в прямой зависимости от степени тренировки движений пальцев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исти рук как орган речи – такой же, как артикуляционный аппарат.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Если развитие движений пальцев соответствует возрасту, то и речевое развитие находится в пределах нормы.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270792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Если же развитие движений пальцев отстает. То задерживается и речевое развитие, хотя общая моторика при этом может быть нормальной и даже выше нормы (Л.В.Фомина)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Работу по развитию мелкой моторики рук желательно проводить систематически, уделяя ей по 5-10 минут ежедневно. С этой целью могут быть использованы разнообразные игры и упражнения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Для формирования тонких движений пальцев рук могут быть использованы игры с пальчиками, сопровождаемые чтением народных стих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5" name="cepochka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168720" cy="3600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1618560"/>
            <a:ext cx="57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Цеп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альчики перебираем                                                       И цепочку получаем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ончик большого пальца правой руки поочередно касается кончиков указательного, среднего, безымянного пальцев и мизинц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о же упражнение выполнять пальцами левой ру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те же движения производить одновременно пальцами правой и левой руки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Наряду с подобными играми могут быть использованы разнообразные упражнения без речевого сопровождения: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"Сгибание-разгибание пальцев"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оочередно сгибать пальцы правой руки, начиная с большого паль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то же упражнение, только сгибать пальцы, начиная с мизин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два предыдущих упражнения пальцами левой руки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огнуть пальцы правой руки в кулак, поочередно выпрямлять их, начиная с большого паль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то же упражнение, только выпрямлять пальцы, начиная с мизинц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ыполнить два предыдущих упражнения пальцами левой ру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8:27:46Z</dcterms:created>
  <dc:creator>Admin</dc:creator>
  <dc:description/>
  <dc:language>en-US</dc:language>
  <cp:lastModifiedBy>Admin</cp:lastModifiedBy>
  <dcterms:modified xsi:type="dcterms:W3CDTF">2012-02-06T09:32:22Z</dcterms:modified>
  <cp:revision>3</cp:revision>
  <dc:subject/>
  <dc:title>ШКОЛА «МОЛОДОГО ВОСПИТАТЕЛЯ»     ВЛИЯНИЕ  ПАЛЬЦЕВ  НА РАЗВИТИЕ  РЕЧИ </dc:title>
</cp:coreProperties>
</file>