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A80-764B-4B33-8177-1143E116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BEC-719B-415F-A340-5574C716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309-4ABC-4FC2-A14A-DA8AA1CE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442-13E0-481E-9E54-95F71FFD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4330-7085-4DEE-8541-7653FA39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9B23-031B-4AC3-91D1-A839F61E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6163-4345-4280-9383-8AC53814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721F-CA3F-40E5-A6D3-E51BCC53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48FB-B919-4F3D-B545-BAC588B6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B973-EB4B-45FC-9D9F-3EDB4679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6F06-4B1D-4FD6-8902-6998F193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918-6D2D-43C2-930D-C0C48BD4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CDDE-0992-431E-9088-B8D51316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3C01-2CAA-4758-B214-F9452CF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898F-E03D-485E-822B-F5208AE8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9983-52C9-465C-B1C6-00B14E4D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9D3C-F7A0-46B5-96B5-2FD58E21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45E-DBD6-4EE8-B200-9B5055FE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4C9-2F0F-4A93-895D-9E5AF900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1A6-6A68-43B3-A2A1-7B3F927B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469-5882-4DC4-9131-CCD4A46C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BC2-667C-4179-85C2-D3F01689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0C6-21AD-4859-A8D7-4E07B24F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43A-0D80-432B-B1B5-BFA336EB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9233-BD0B-447B-84BE-687F22219A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6ACD-D8C8-459C-BB4A-D8E2DB4142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ШКОЛА «МОЛОДОГО ВОСПИТАТЕЛЯ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3600" spc="-1" strike="noStrike">
                <a:solidFill>
                  <a:srgbClr val="b9efee"/>
                </a:solidFill>
                <a:latin typeface="Garamond"/>
              </a:rPr>
              <a:t>ВЛИЯНИЕ  ПАЛЬЦЕВ  НА РАЗВИТИЕ  РЕЧИ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770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-логопе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хова З.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ДОУ Д/С 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асилёк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лореченск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Развитию ручной моторики способствуют также: 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анятия с пластилином, глиной, соленым тестом, мелким строительным материалом, конструктором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низывание бус, бисероплетение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кладывание из спичек рисунков, букв, складывание колодце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дновременно левой и правой рукой складывать в коробку пуговицы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исование по трафарету букв, геометрических фигур, штриховк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исование по точкам, пунктирным линия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Массаж рук проводится сначала на одной руке, затем на другой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глаживание от кончиков пальцев до середины руки с внешней и тыльной сторон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зминание пальцев: интенсивные круговые движения вокруг каждого пальц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пражнение "Сорока-белобока"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тенсивные движения большого пальца вперед-назад, вверх-вниз, по круг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гибание-разгибание всех пальцев одновременн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гибание-разгибание руки в кистевом сустав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тенсивное растирание каждого пальц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чечный массаж каждого пальца между фалангами с боковых и фронтально-тыльных сторон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"Пальцы ложатся спать": поочередное загибание пальцев, затем их одновременное выпрямление в сопровождении стихотворения: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Этот пальчик хочет спать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Этот пальчик прыг в кровать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Этот пальчик прикорну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Этот пальчик уж уснул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Тише, пальчик, не шум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Братиков не разбуд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Встали пальчики, ура!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В детский сад идти пора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Простые движения рук помогают убрать напряжение не только с самих рук, но и с губ, снимают умственную усталость.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4149360"/>
            <a:ext cx="9144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ни способны улучшить произношение многих звуков, а значит – развивать речь ребенк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9efee"/>
                </a:solidFill>
                <a:latin typeface="Garamond"/>
              </a:rPr>
              <a:t>«Рука – это человеческий мозг,</a:t>
            </a:r>
            <a:br>
              <a:rPr sz="4800"/>
            </a:br>
            <a:r>
              <a:rPr b="1" i="1" lang="ru-RU" sz="4800" spc="-1" strike="noStrike">
                <a:solidFill>
                  <a:srgbClr val="b9efee"/>
                </a:solidFill>
                <a:latin typeface="Garamond"/>
              </a:rPr>
              <a:t>вышедший наружу»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b9efee"/>
                </a:solidFill>
                <a:latin typeface="Garamond"/>
              </a:rPr>
              <a:t>                           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Иммануил Кант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2920" y="4220640"/>
            <a:ext cx="6729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движения организма и речевая моторика имеют единые механизмы, поэтому развитие тонкой моторики рук благотворно сказывается на развитии речи малыша.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362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Точное динамическое движение для ног, туловища, рук, головы подготавливает совершенствование движений артикуляционных органов: губ, языка, нижней челюсти.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Известный исследователь детской речи </a:t>
            </a:r>
            <a:r>
              <a:rPr b="1" lang="en-US" sz="2000" spc="-1" strike="noStrike">
                <a:solidFill>
                  <a:srgbClr val="00ff99"/>
                </a:solidFill>
                <a:latin typeface="Garamond"/>
              </a:rPr>
              <a:t>М.М. Кольцова</a:t>
            </a: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 пишет: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«Движение пальцев рук исторически, в ходе развития человечества, оказались тесно связаны с речевой функцией. Первой формой общения первобытных людей были жесты, особенно важна здесь была роль руки. Развитие функций руки  и речи у людей шло параллельно. Примерно таков же ход развития речи ребенка. Сначала развиваются тонкие движения пальцев рук, затем появляется артикуляция слогов, все последующие совершенствования речевых реакций стоит в прямой зависимости от степени тренировки движений пальцев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исти рук как орган речи – такой же, как артикуляционный аппарат.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Если развитие движений пальцев соответствует возрасту, то и речевое развитие находится в пределах нормы.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Если же развитие движений пальцев отстает. То задерживается и речевое развитие, хотя общая моторика при этом может быть нормальной и даже выше нормы (Л.В.Фомина)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Работу по развитию мелкой моторики рук желательно проводить систематически, уделяя ей по 5-10 минут ежедневно. С этой целью могут быть использованы разнообразные игры и упражнения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Для формирования тонких движений пальцев рук могут быть использованы игры с пальчиками, сопровождаемые чтением народных стих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cepochka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168720" cy="3600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19640" y="1618560"/>
            <a:ext cx="57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Цеп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альчики перебираем                                                       И цепочку получаем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Кончик большого пальца правой руки поочередно касается кончиков указательного, среднего, безымянного пальцев и мизинц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то же упражнение выполнять пальцами левой ру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те же движения производить одновременно пальцами правой и левой руки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Наряду с подобными играми могут быть использованы разнообразные упражнения без речевого сопровождения: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"Сгибание-разгибание пальцев"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очередно сгибать пальцы правой руки, начиная с большого пальц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полнить то же упражнение, только сгибать пальцы, начиная с мизинц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полнить два предыдущих упражнения пальцами левой рук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огнуть пальцы правой руки в кулак, поочередно выпрямлять их, начиная с большого пальц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полнить то же упражнение, только выпрямлять пальцы, начиная с мизинц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полнить два предыдущих упражнения пальцами левой ру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8:27:46Z</dcterms:created>
  <dc:creator>Admin</dc:creator>
  <dc:description/>
  <dc:language>en-US</dc:language>
  <cp:lastModifiedBy>Admin</cp:lastModifiedBy>
  <dcterms:modified xsi:type="dcterms:W3CDTF">2012-02-06T09:32:22Z</dcterms:modified>
  <cp:revision>3</cp:revision>
  <dc:subject/>
  <dc:title>ШКОЛА «МОЛОДОГО ВОСПИТАТЕЛЯ»     ВЛИЯНИЕ  ПАЛЬЦЕВ  НА РАЗВИТИЕ  РЕЧИ </dc:title>
</cp:coreProperties>
</file>