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8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7.wmf" ContentType="image/x-wmf"/>
  <Override PartName="/ppt/media/image30.jpeg" ContentType="image/jpeg"/>
  <Override PartName="/ppt/media/image34.png" ContentType="image/png"/>
  <Override PartName="/ppt/media/image12.jpeg" ContentType="image/jpeg"/>
  <Override PartName="/ppt/media/image53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51.gif" ContentType="image/gif"/>
  <Override PartName="/ppt/media/image13.jpeg" ContentType="image/jpeg"/>
  <Override PartName="/ppt/media/image29.jpeg" ContentType="image/jpeg"/>
  <Override PartName="/ppt/media/image52.jpeg" ContentType="image/jpeg"/>
  <Override PartName="/ppt/media/image40.wmf" ContentType="image/x-wmf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698-9E84-4DC3-8CB7-86B5E9FC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FE5-DA23-4118-B480-A014069C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787-8421-4954-AB59-40F8C802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A4B-9410-4C92-A926-D9B09FB4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171-3329-47C9-8A5A-E7149A1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B50-9772-4ECF-B2CC-253A4D8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1D3-E29B-4C38-A056-39150BE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F53-6B8F-48C5-A23C-3C30020E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E13-FC93-4C8F-9D99-917DE6F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03D-CC61-4836-A9CB-E8B29D48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360-CE5D-4E4C-9AAB-5857A145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66A-6F6B-453B-8226-2DCFB56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0F1E-0A2C-4508-959D-6C3D322D8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297180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дные привыч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276720" cy="3027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3962520"/>
            <a:ext cx="609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Отклонения от общепринятых норм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поведения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( а также терпимость к таким отклонениям со стороны взрослых)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и поиски необычайных ощу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Первый</a:t>
            </a:r>
            <a:r>
              <a:rPr b="1" lang="en-US" sz="2400" spc="-1" strike="noStrike">
                <a:solidFill>
                  <a:srgbClr val="008080"/>
                </a:solidFill>
                <a:latin typeface="Stenci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69704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533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Второ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9625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Stencil"/>
              </a:rPr>
              <a:t>Факторы влияния сверстников</a:t>
            </a: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 (употребление алкоголя ровесниками и одобрение с их сторон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504960" cy="231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6858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Трети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50532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Факторы, связанные с отношениями в семье, такие как употребление алкоголя родителями и протест против власти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О наркоти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05740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1514520" cy="213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3733920"/>
            <a:ext cx="8382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Наркотики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– это те или иные вещества, котор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эйфорию (приподнятое настроен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зависимость (психическую или физическую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наносят существенный вред, приносимый психическому и физическому здоровью регулярно употребляющих 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оздают опасность широкого распространения этих веществ среди насе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Классификация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90440" cy="2210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Производные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6576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Опиатные нар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098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Психостимуля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1523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Галлюциног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5257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Летучие наркотически действующие ве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514600" y="19807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1148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62720" y="19810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312408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1240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Производны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165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362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tencil"/>
              </a:rPr>
              <a:t>Марихуана</a:t>
            </a:r>
            <a:r>
              <a:rPr b="1" lang="en-US" sz="24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– высушенная или не высушенная зеленая травянистая часть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648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tencil"/>
              </a:rPr>
              <a:t>Анаша, гашиш, план</a:t>
            </a: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 – прессованная часть смолы, пыльцы и мелко измельченных верхушек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пиатные нарко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2210040" cy="13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337520" y="4495680"/>
            <a:ext cx="157932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248520" y="106668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04920" y="1143000"/>
            <a:ext cx="12762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16002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«Маковая соломка»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- мелко размолотые коричневато-желтые сухие части раст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51460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Геро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светлый серовато-коричневый порошок в виде мелких кристалликов с неприятным запах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8769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Коде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встречается в виде официальных таблеток от кашля и головной боли, как правило импорт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886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tencil"/>
              </a:rPr>
              <a:t>Метадон </a:t>
            </a: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– синтетический наркотик, выглядит как геро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05200">
            <a:off x="3886200" y="2895120"/>
            <a:ext cx="1523880" cy="1600200"/>
          </a:xfrm>
          <a:custGeom>
            <a:avLst/>
            <a:gdLst>
              <a:gd name="textAreaLeft" fmla="*/ 571320 w 1523880"/>
              <a:gd name="textAreaRight" fmla="*/ 952560 w 1523880"/>
              <a:gd name="textAreaTop" fmla="*/ 600120 h 1600200"/>
              <a:gd name="textAreaBottom" fmla="*/ 1000080 h 160020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9400" y="81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8100"/>
                </a:lnTo>
                <a:lnTo>
                  <a:pt x="13500" y="8100"/>
                </a:lnTo>
                <a:lnTo>
                  <a:pt x="135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3500" y="12200"/>
                </a:lnTo>
                <a:lnTo>
                  <a:pt x="13500" y="13500"/>
                </a:lnTo>
                <a:lnTo>
                  <a:pt x="12200" y="135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3500"/>
                </a:lnTo>
                <a:lnTo>
                  <a:pt x="8100" y="13500"/>
                </a:lnTo>
                <a:lnTo>
                  <a:pt x="81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8100" y="9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0" t="0" r="0" b="8642"/>
          <a:stretch/>
        </p:blipFill>
        <p:spPr>
          <a:xfrm>
            <a:off x="6095880" y="10666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сихостимуля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2819520" cy="173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457360" cy="327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3505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Stencil"/>
              </a:rPr>
              <a:t>Кокаин </a:t>
            </a:r>
            <a:r>
              <a:rPr b="1" lang="en-US" sz="2400" spc="-1" strike="noStrike">
                <a:solidFill>
                  <a:srgbClr val="0000ff"/>
                </a:solidFill>
                <a:latin typeface="Stencil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Stencil"/>
              </a:rPr>
              <a:t> белый кристаллический порошок, по виду похож на питьевую с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342900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Stencil"/>
              </a:rPr>
              <a:t>Экстази</a:t>
            </a:r>
            <a:r>
              <a:rPr b="1" lang="ru-RU" sz="2400" spc="-1" strike="noStrike">
                <a:solidFill>
                  <a:srgbClr val="0000ff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Stencil"/>
              </a:rPr>
              <a:t>– производятся в виде разноцветных таблеточек различной формы, иногда с рисунками на поверх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Галлюциноге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1981440" cy="150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2819520" cy="2108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38098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Stencil"/>
              </a:rPr>
              <a:t>Грибы рода </a:t>
            </a:r>
            <a:r>
              <a:rPr b="1" i="1" lang="en-US" sz="2400" spc="-1" strike="noStrike">
                <a:solidFill>
                  <a:srgbClr val="003366"/>
                </a:solidFill>
                <a:latin typeface="Arbat-Bold"/>
              </a:rPr>
              <a:t>Psilotsibum</a:t>
            </a:r>
            <a:r>
              <a:rPr b="0" lang="en-US" sz="2400" spc="-1" strike="noStrike">
                <a:solidFill>
                  <a:srgbClr val="003366"/>
                </a:solidFill>
                <a:latin typeface="Arbat-Bold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Stencil"/>
              </a:rPr>
              <a:t>выглядят как маленькие коричневые поганки на тонкой ножке, шляпка имеет фиолетовый отт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371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172200" y="5029200"/>
            <a:ext cx="1257480" cy="124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Stencil"/>
              </a:rPr>
              <a:t>ЛСД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– существует в виде прозрачного раствора, порошка и в виде разноцветных марок, напоминающих поч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Летучие наркотически действующие вещ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157968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2286000" cy="1896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530360" cy="2286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0" y="2057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Бен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4572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Ацет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29718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Клей «Момен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изнь дается один р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83860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48320" y="43430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00800" y="518112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904760" y="5181120"/>
            <a:ext cx="99036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72200" y="2666880"/>
            <a:ext cx="2666880" cy="193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О вреде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3213000"/>
            <a:ext cx="441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249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45086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5373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907920"/>
            <a:ext cx="65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84720" y="292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28472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869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185" name="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952880" y="4292640"/>
            <a:ext cx="1143000" cy="1081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потребление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пиатных наркот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196" name="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3733920"/>
            <a:ext cx="15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11480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048120"/>
            <a:ext cx="152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Употребление психостимуляторо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213" name="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24000" y="32004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4365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Употребление галлюциноге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230" name="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ЛНД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246" name="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962520"/>
            <a:ext cx="23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О   СПИ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2209680" cy="1230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62120" y="2819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«Чума </a:t>
            </a:r>
            <a:r>
              <a:rPr b="0" lang="en-US" sz="3600" spc="-1" strike="noStrike">
                <a:solidFill>
                  <a:srgbClr val="660066"/>
                </a:solidFill>
                <a:latin typeface="Stencil"/>
              </a:rPr>
              <a:t>XX</a:t>
            </a: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9718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Stencil"/>
              </a:rPr>
              <a:t>Всемирный день борьбы со СПИДом – 1 декаб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248520" y="4114800"/>
            <a:ext cx="1560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– НЕ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7238880" y="3049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2616120" cy="2276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346560" cy="216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838080"/>
            <a:ext cx="234792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8120" y="2895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О</a:t>
            </a:r>
            <a:r>
              <a:rPr b="0" lang="en-US" sz="4800" spc="-1" strike="noStrike">
                <a:solidFill>
                  <a:srgbClr val="8a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куре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6765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000"/>
                </a:solidFill>
                <a:latin typeface="Times New Roman"/>
              </a:rPr>
              <a:t>Почему молодые люди начинают кури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8913"/>
            </a:gs>
            <a:gs pos="100000">
              <a:srgbClr val="753f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49696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05320" y="160020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0666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з любопы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419112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Потому что все мои друзья кур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Чтобы выглядеть более взросл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57150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346560" cy="216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мне нравится кур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53341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я чувствовал себя беспокойно и нервоз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О вреде кур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297180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105360" cy="276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438280" y="4191120"/>
            <a:ext cx="2248200" cy="236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8288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124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ак – один из наиболее распространенных наркот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3920" y="4343400"/>
            <a:ext cx="22100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ервы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5334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оследни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0400" y="29718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1981080" cy="182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17683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1120" y="213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633800">
            <a:off x="2742840" y="4572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3290600">
            <a:off x="5257800" y="457164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33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048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2247840" cy="2362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81532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"/>
              </a:rPr>
              <a:t>О пьянстве и алкоголиз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438280" cy="2252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5880" y="4648320"/>
            <a:ext cx="256536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655040" y="380880"/>
            <a:ext cx="124128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134136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Пьянство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 - чрезмерное употребление алкоголя, разрушительно действующее на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Алкоголизм 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– химическая зависимость от алкоголя, приводящая к вынужденному и неумеренному его употребл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666880" y="167616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04812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3341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581280"/>
            <a:ext cx="685800" cy="6098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23623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60199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3716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Stencil"/>
              </a:rPr>
              <a:t>Выявлено три важных фактора, связанных с высоким риском развития алкогол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Андрей</cp:lastModifiedBy>
  <dcterms:modified xsi:type="dcterms:W3CDTF">2008-12-11T16:46:58Z</dcterms:modified>
  <cp:revision>22</cp:revision>
  <dc:subject/>
  <dc:title>Жизнь дается один раз</dc:title>
</cp:coreProperties>
</file>