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39.gif" ContentType="image/gif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3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2.jpeg" ContentType="image/jpeg"/>
  <Override PartName="/ppt/media/image25.jpeg" ContentType="image/jpeg"/>
  <Override PartName="/ppt/media/image3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35.jpeg" ContentType="image/jpeg"/>
  <Override PartName="/ppt/media/image8.jpeg" ContentType="image/jpeg"/>
  <Override PartName="/ppt/media/image36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38.gif" ContentType="image/gif"/>
  <Override PartName="/ppt/media/image48.jpeg" ContentType="image/jpeg"/>
  <Override PartName="/ppt/media/image49.jpeg" ContentType="image/jpeg"/>
  <Override PartName="/ppt/media/image54.jpeg" ContentType="image/jpeg"/>
  <Override PartName="/ppt/media/image33.jpeg" ContentType="image/jpeg"/>
  <Override PartName="/ppt/media/image55.jpeg" ContentType="image/jpeg"/>
  <Override PartName="/ppt/media/image37.wmf" ContentType="image/x-wmf"/>
  <Override PartName="/ppt/media/image30.jpeg" ContentType="image/jpeg"/>
  <Override PartName="/ppt/media/image34.png" ContentType="image/png"/>
  <Override PartName="/ppt/media/image12.jpeg" ContentType="image/jpeg"/>
  <Override PartName="/ppt/media/image53.jpeg" ContentType="image/jpeg"/>
  <Override PartName="/ppt/media/image10.gif" ContentType="image/gif"/>
  <Override PartName="/ppt/media/image9.jpeg" ContentType="image/jpeg"/>
  <Override PartName="/ppt/media/image11.jpeg" ContentType="image/jpeg"/>
  <Override PartName="/ppt/media/image51.gif" ContentType="image/gif"/>
  <Override PartName="/ppt/media/image13.jpeg" ContentType="image/jpeg"/>
  <Override PartName="/ppt/media/image29.jpeg" ContentType="image/jpeg"/>
  <Override PartName="/ppt/media/image52.jpeg" ContentType="image/jpeg"/>
  <Override PartName="/ppt/media/image40.wmf" ContentType="image/x-wmf"/>
  <Override PartName="/ppt/media/image7.png" ContentType="image/pn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B373-1BB6-4362-AC7A-D2B8FF5B9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AEFD-CD0F-4437-9F0A-3C6C72612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A958-6641-4ED5-AFAF-7EC095927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31CF-738F-428C-923A-22B61D50E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64C3-EFBF-4F63-9332-176C44CF4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71BB-7067-434A-AD93-3F39C97A1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0786-197A-44CD-8B8F-138833816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9F8E-7226-4076-B1C0-B33EB172A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D492-EDD0-47AF-BAD1-3A0AB423B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92D6-01BA-467A-9EAE-DE8D8D24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0122-0EF8-44A8-A237-D1CE629C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5B8A-3CEC-4777-82B0-7D5B3BA4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A0BB0-CA77-418F-AE39-8BC2BA3323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wmf"/><Relationship Id="rId3" Type="http://schemas.openxmlformats.org/officeDocument/2006/relationships/image" Target="../media/image38.gif"/><Relationship Id="rId4" Type="http://schemas.openxmlformats.org/officeDocument/2006/relationships/image" Target="../media/image39.gif"/><Relationship Id="rId5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wmf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1.gif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4.xml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Презентация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14400" y="2971800"/>
            <a:ext cx="640080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36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редные привычк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895480" y="304920"/>
            <a:ext cx="3276720" cy="30272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523880" y="3962520"/>
            <a:ext cx="6096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ff"/>
                </a:solidFill>
                <a:uFillTx/>
                <a:latin typeface="Stencil"/>
              </a:rPr>
              <a:t>Отклонения от общепринятых норм</a:t>
            </a:r>
            <a:r>
              <a:rPr b="1" lang="en-US" sz="2800" spc="-1" strike="noStrike">
                <a:solidFill>
                  <a:srgbClr val="6600ff"/>
                </a:solidFill>
                <a:latin typeface="Stencil"/>
              </a:rPr>
              <a:t> </a:t>
            </a:r>
            <a:r>
              <a:rPr b="1" lang="en-US" sz="2800" spc="-1" strike="noStrike" u="sng">
                <a:solidFill>
                  <a:srgbClr val="6600ff"/>
                </a:solidFill>
                <a:uFillTx/>
                <a:latin typeface="Stencil"/>
              </a:rPr>
              <a:t>поведения</a:t>
            </a:r>
            <a:r>
              <a:rPr b="1" lang="en-US" sz="2800" spc="-1" strike="noStrike">
                <a:solidFill>
                  <a:srgbClr val="6600ff"/>
                </a:solidFill>
                <a:latin typeface="Stencil"/>
              </a:rPr>
              <a:t> ( а также терпимость к таким отклонениям со стороны взрослых) </a:t>
            </a:r>
            <a:r>
              <a:rPr b="1" lang="en-US" sz="2800" spc="-1" strike="noStrike" u="sng">
                <a:solidFill>
                  <a:srgbClr val="6600ff"/>
                </a:solidFill>
                <a:uFillTx/>
                <a:latin typeface="Stencil"/>
              </a:rPr>
              <a:t>и поиски необычайных ощуще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533520"/>
            <a:ext cx="243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Stencil"/>
              </a:rPr>
              <a:t>Первый</a:t>
            </a:r>
            <a:r>
              <a:rPr b="1" lang="en-US" sz="2400" spc="-1" strike="noStrike">
                <a:solidFill>
                  <a:srgbClr val="008080"/>
                </a:solidFill>
                <a:latin typeface="Stencil"/>
              </a:rPr>
              <a:t> </a:t>
            </a:r>
            <a:r>
              <a:rPr b="1" lang="en-US" sz="2800" spc="-1" strike="noStrike">
                <a:solidFill>
                  <a:srgbClr val="008080"/>
                </a:solidFill>
                <a:latin typeface="Stencil"/>
              </a:rPr>
              <a:t>факто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077320" y="609588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10807"/>
                </a:moveTo>
                <a:lnTo>
                  <a:pt x="17806" y="3801"/>
                </a:lnTo>
                <a:lnTo>
                  <a:pt x="17806" y="17814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733920" y="228600"/>
            <a:ext cx="1697040" cy="3124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85800" y="53352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Stencil"/>
              </a:rPr>
              <a:t>Второй факто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3962520"/>
            <a:ext cx="685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Stencil"/>
              </a:rPr>
              <a:t>Факторы влияния сверстников</a:t>
            </a:r>
            <a:r>
              <a:rPr b="1" lang="en-US" sz="2800" spc="-1" strike="noStrike">
                <a:solidFill>
                  <a:srgbClr val="0000ff"/>
                </a:solidFill>
                <a:latin typeface="Stencil"/>
              </a:rPr>
              <a:t> (употребление алкоголя ровесниками и одобрение с их стороны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924680" y="5867280"/>
            <a:ext cx="533520" cy="60984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688">
                <a:moveTo>
                  <a:pt x="0" y="0"/>
                </a:moveTo>
                <a:lnTo>
                  <a:pt x="21600" y="0"/>
                </a:lnTo>
                <a:lnTo>
                  <a:pt x="21600" y="24688"/>
                </a:lnTo>
                <a:lnTo>
                  <a:pt x="0" y="24688"/>
                </a:lnTo>
                <a:close/>
              </a:path>
              <a:path fill="lightenLess" w="21600" h="246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88">
                <a:moveTo>
                  <a:pt x="21600" y="0"/>
                </a:moveTo>
                <a:lnTo>
                  <a:pt x="21600" y="24688"/>
                </a:lnTo>
                <a:lnTo>
                  <a:pt x="20200" y="23288"/>
                </a:lnTo>
                <a:lnTo>
                  <a:pt x="20200" y="1400"/>
                </a:lnTo>
                <a:close/>
              </a:path>
              <a:path fill="darkenLess" w="21600" h="24688">
                <a:moveTo>
                  <a:pt x="21600" y="24688"/>
                </a:moveTo>
                <a:lnTo>
                  <a:pt x="0" y="24688"/>
                </a:lnTo>
                <a:lnTo>
                  <a:pt x="1400" y="23288"/>
                </a:lnTo>
                <a:lnTo>
                  <a:pt x="20200" y="23288"/>
                </a:lnTo>
                <a:close/>
              </a:path>
              <a:path fill="lighten" w="21600" h="24688">
                <a:moveTo>
                  <a:pt x="0" y="246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88"/>
                </a:lnTo>
                <a:close/>
              </a:path>
              <a:path fill="darken" w="21600" h="24688">
                <a:moveTo>
                  <a:pt x="3794" y="12344"/>
                </a:moveTo>
                <a:lnTo>
                  <a:pt x="17806" y="5337"/>
                </a:lnTo>
                <a:lnTo>
                  <a:pt x="17806" y="1935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819520" y="685800"/>
            <a:ext cx="3504960" cy="23144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09480" y="685800"/>
            <a:ext cx="1752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Stencil"/>
              </a:rPr>
              <a:t>Третий факто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05120" y="3505320"/>
            <a:ext cx="5486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Stencil"/>
              </a:rPr>
              <a:t>Факторы, связанные с отношениями в семье, такие как употребление алкоголя родителями и протест против власти родител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229600" y="6019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10800"/>
                </a:moveTo>
                <a:lnTo>
                  <a:pt x="17814" y="3794"/>
                </a:lnTo>
                <a:lnTo>
                  <a:pt x="17814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Times New Roman"/>
              </a:rPr>
              <a:t>О наркотика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400800" y="3048120"/>
            <a:ext cx="2057400" cy="1468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3581280" y="1676520"/>
            <a:ext cx="1676520" cy="13906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533520" y="685800"/>
            <a:ext cx="1514520" cy="21337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80880" y="3733920"/>
            <a:ext cx="838224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tencil"/>
              </a:rPr>
              <a:t>Наркотики </a:t>
            </a:r>
            <a:r>
              <a:rPr b="0" lang="en-US" sz="1800" spc="-1" strike="noStrike">
                <a:solidFill>
                  <a:srgbClr val="000000"/>
                </a:solidFill>
                <a:latin typeface="Stencil"/>
              </a:rPr>
              <a:t>– это те или иные вещества, которые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tenci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tenci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tencil"/>
              </a:rPr>
              <a:t>способны вызывать эйфорию (приподнятое настроение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tenci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tenci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tencil"/>
              </a:rPr>
              <a:t>способны вызывать зависимость (психическую или физическую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tenci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tenci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tencil"/>
              </a:rPr>
              <a:t>наносят существенный вред, приносимый психическому и физическому здоровью регулярно употребляющих их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tenci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tenci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tencil"/>
              </a:rPr>
              <a:t>создают опасность широкого распространения этих веществ среди населени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4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500"/>
                            </p:stCondLst>
                            <p:childTnLst>
                              <p:par>
                                <p:cTn id="34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Классификация наркотик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505320" y="1752480"/>
            <a:ext cx="1990440" cy="22100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28600" y="160020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tencil"/>
              </a:rPr>
              <a:t>Производные коноп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48520" y="3657600"/>
            <a:ext cx="213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tencil"/>
              </a:rPr>
              <a:t>Опиатные наркот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3809880"/>
            <a:ext cx="281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tencil"/>
              </a:rPr>
              <a:t>Психостимулято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81480" y="15238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tencil"/>
              </a:rPr>
              <a:t>Галлюциноге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5257800"/>
            <a:ext cx="312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tencil"/>
              </a:rPr>
              <a:t>Летучие наркотически действующие веще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2514600" y="1980720"/>
            <a:ext cx="91440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19720" y="41148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5562720" y="1981080"/>
            <a:ext cx="10666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1981080" y="3124080"/>
            <a:ext cx="137160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62720" y="3124080"/>
            <a:ext cx="106668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500"/>
                            </p:stCondLst>
                            <p:childTnLst>
                              <p:par>
                                <p:cTn id="37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3000"/>
                            </p:stCondLst>
                            <p:childTnLst>
                              <p:par>
                                <p:cTn id="3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500"/>
                            </p:stCondLst>
                            <p:childTnLst>
                              <p:par>
                                <p:cTn id="3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4000"/>
                            </p:stCondLst>
                            <p:childTnLst>
                              <p:par>
                                <p:cTn id="38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4500"/>
                            </p:stCondLst>
                            <p:childTnLst>
                              <p:par>
                                <p:cTn id="3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0"/>
                            </p:stCondLst>
                            <p:childTnLst>
                              <p:par>
                                <p:cTn id="39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500"/>
                            </p:stCondLst>
                            <p:childTnLst>
                              <p:par>
                                <p:cTn id="3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6000"/>
                            </p:stCondLst>
                            <p:childTnLst>
                              <p:par>
                                <p:cTn id="40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Производные конопл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80880" y="4724280"/>
            <a:ext cx="2286000" cy="16765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6477120" y="1447920"/>
            <a:ext cx="2209680" cy="16509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04920" y="2362320"/>
            <a:ext cx="579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tencil"/>
              </a:rPr>
              <a:t>Марихуана</a:t>
            </a:r>
            <a:r>
              <a:rPr b="1" lang="en-US" sz="2400" spc="-1" strike="noStrike">
                <a:solidFill>
                  <a:srgbClr val="000000"/>
                </a:solidFill>
                <a:latin typeface="Stenci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tencil"/>
              </a:rPr>
              <a:t>– высушенная или не высушенная зеленая травянистая часть коноп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8120" y="464832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Stencil"/>
              </a:rPr>
              <a:t>Анаша, гашиш, план</a:t>
            </a:r>
            <a:r>
              <a:rPr b="0" lang="ru-RU" sz="2400" spc="-1" strike="noStrike">
                <a:solidFill>
                  <a:srgbClr val="000000"/>
                </a:solidFill>
                <a:latin typeface="Stencil"/>
              </a:rPr>
              <a:t> – прессованная часть смолы, пыльцы и мелко измельченных верхушек коноп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500"/>
                            </p:stCondLst>
                            <p:childTnLst>
                              <p:par>
                                <p:cTn id="42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2000"/>
                            </p:stCondLst>
                            <p:childTnLst>
                              <p:par>
                                <p:cTn id="42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500"/>
                            </p:stCondLst>
                            <p:childTnLst>
                              <p:par>
                                <p:cTn id="42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6248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Times New Roman"/>
              </a:rPr>
              <a:t>Опиатные наркоти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838080" y="5029200"/>
            <a:ext cx="2210040" cy="13255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7337520" y="4495680"/>
            <a:ext cx="1579320" cy="21337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6248520" y="1066680"/>
            <a:ext cx="1904760" cy="13525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304920" y="1143000"/>
            <a:ext cx="1276200" cy="19810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447920" y="1600200"/>
            <a:ext cx="4038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Stencil"/>
              </a:rPr>
              <a:t>«Маковая соломка»</a:t>
            </a:r>
            <a:r>
              <a:rPr b="0" lang="en-US" sz="2000" spc="-1" strike="noStrike">
                <a:solidFill>
                  <a:srgbClr val="000000"/>
                </a:solidFill>
                <a:latin typeface="Stencil"/>
              </a:rPr>
              <a:t> - мелко размолотые коричневато-желтые сухие части растен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410080" y="2514600"/>
            <a:ext cx="3733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Stencil"/>
              </a:rPr>
              <a:t>Героин</a:t>
            </a:r>
            <a:r>
              <a:rPr b="0" lang="en-US" sz="2000" spc="-1" strike="noStrike">
                <a:solidFill>
                  <a:srgbClr val="000000"/>
                </a:solidFill>
                <a:latin typeface="Stencil"/>
              </a:rPr>
              <a:t> – светлый серовато-коричневый порошок в виде мелких кристалликов с неприятным запах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86200" y="4876920"/>
            <a:ext cx="327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Stencil"/>
              </a:rPr>
              <a:t>Кодеин</a:t>
            </a:r>
            <a:r>
              <a:rPr b="0" lang="en-US" sz="2000" spc="-1" strike="noStrike">
                <a:solidFill>
                  <a:srgbClr val="000000"/>
                </a:solidFill>
                <a:latin typeface="Stencil"/>
              </a:rPr>
              <a:t> – встречается в виде официальных таблеток от кашля и головной боли, как правило импортного производст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3886200"/>
            <a:ext cx="327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Stencil"/>
              </a:rPr>
              <a:t>Метадон </a:t>
            </a:r>
            <a:r>
              <a:rPr b="0" lang="ru-RU" sz="2000" spc="-1" strike="noStrike">
                <a:solidFill>
                  <a:srgbClr val="000000"/>
                </a:solidFill>
                <a:latin typeface="Stencil"/>
              </a:rPr>
              <a:t>– синтетический наркотик, выглядит как герои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20305200">
            <a:off x="3886200" y="2895120"/>
            <a:ext cx="1523880" cy="1600200"/>
          </a:xfrm>
          <a:custGeom>
            <a:avLst/>
            <a:gdLst>
              <a:gd name="textAreaLeft" fmla="*/ 571320 w 1523880"/>
              <a:gd name="textAreaRight" fmla="*/ 952560 w 1523880"/>
              <a:gd name="textAreaTop" fmla="*/ 600120 h 1600200"/>
              <a:gd name="textAreaBottom" fmla="*/ 1000080 h 1600200"/>
            </a:gdLst>
            <a:ahLst/>
            <a:rect l="textAreaLeft" t="textAreaTop" r="textAreaRight" b="textAreaBottom"/>
            <a:pathLst>
              <a:path w="21600" h="21600">
                <a:moveTo>
                  <a:pt x="8100" y="8100"/>
                </a:moveTo>
                <a:lnTo>
                  <a:pt x="9400" y="81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8100"/>
                </a:lnTo>
                <a:lnTo>
                  <a:pt x="13500" y="8100"/>
                </a:lnTo>
                <a:lnTo>
                  <a:pt x="135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3500" y="12200"/>
                </a:lnTo>
                <a:lnTo>
                  <a:pt x="13500" y="13500"/>
                </a:lnTo>
                <a:lnTo>
                  <a:pt x="12200" y="135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3500"/>
                </a:lnTo>
                <a:lnTo>
                  <a:pt x="8100" y="13500"/>
                </a:lnTo>
                <a:lnTo>
                  <a:pt x="81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8100" y="940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000"/>
                            </p:stCondLst>
                            <p:childTnLst>
                              <p:par>
                                <p:cTn id="4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2500"/>
                            </p:stCondLst>
                            <p:childTnLst>
                              <p:par>
                                <p:cTn id="4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3000"/>
                            </p:stCondLst>
                            <p:childTnLst>
                              <p:par>
                                <p:cTn id="4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3500"/>
                            </p:stCondLst>
                            <p:childTnLst>
                              <p:par>
                                <p:cTn id="4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4000"/>
                            </p:stCondLst>
                            <p:childTnLst>
                              <p:par>
                                <p:cTn id="4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4500"/>
                            </p:stCondLst>
                            <p:childTnLst>
                              <p:par>
                                <p:cTn id="4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0"/>
                            </p:stCondLst>
                            <p:childTnLst>
                              <p:par>
                                <p:cTn id="4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rcRect l="0" t="0" r="0" b="8642"/>
          <a:stretch/>
        </p:blipFill>
        <p:spPr>
          <a:xfrm>
            <a:off x="6095880" y="1066680"/>
            <a:ext cx="2819520" cy="21337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6096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Психостимулято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380880" y="1600200"/>
            <a:ext cx="2819520" cy="17366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3505320" y="2438280"/>
            <a:ext cx="2457360" cy="32767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04920" y="3505320"/>
            <a:ext cx="297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Stencil"/>
              </a:rPr>
              <a:t>Кокаин </a:t>
            </a:r>
            <a:r>
              <a:rPr b="1" lang="en-US" sz="2400" spc="-1" strike="noStrike">
                <a:solidFill>
                  <a:srgbClr val="0000ff"/>
                </a:solidFill>
                <a:latin typeface="Stencil"/>
              </a:rPr>
              <a:t>–</a:t>
            </a:r>
            <a:r>
              <a:rPr b="0" lang="en-US" sz="2400" spc="-1" strike="noStrike">
                <a:solidFill>
                  <a:srgbClr val="0000ff"/>
                </a:solidFill>
                <a:latin typeface="Stencil"/>
              </a:rPr>
              <a:t> белый кристаллический порошок, по виду похож на питьевую сод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19920" y="3429000"/>
            <a:ext cx="3124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Stencil"/>
              </a:rPr>
              <a:t>Экстази</a:t>
            </a:r>
            <a:r>
              <a:rPr b="1" lang="ru-RU" sz="2400" spc="-1" strike="noStrike">
                <a:solidFill>
                  <a:srgbClr val="0000ff"/>
                </a:solidFill>
                <a:latin typeface="Stenci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Stencil"/>
              </a:rPr>
              <a:t>– производятся в виде разноцветных таблеточек различной формы, иногда с рисунками на поверх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000"/>
                            </p:stCondLst>
                            <p:childTnLst>
                              <p:par>
                                <p:cTn id="49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9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500"/>
                            </p:stCondLst>
                            <p:childTnLst>
                              <p:par>
                                <p:cTn id="49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500"/>
                            </p:stCondLst>
                            <p:childTnLst>
                              <p:par>
                                <p:cTn id="50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0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3000"/>
                            </p:stCondLst>
                            <p:childTnLst>
                              <p:par>
                                <p:cTn id="50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0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5791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80"/>
                </a:solidFill>
                <a:latin typeface="Times New Roman"/>
              </a:rPr>
              <a:t>Галлюциноген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5867280" y="914400"/>
            <a:ext cx="1981440" cy="15048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838080" y="1523880"/>
            <a:ext cx="2819520" cy="21081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57200" y="3809880"/>
            <a:ext cx="3809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Stencil"/>
              </a:rPr>
              <a:t>Грибы рода </a:t>
            </a:r>
            <a:r>
              <a:rPr b="1" i="1" lang="en-US" sz="2400" spc="-1" strike="noStrike">
                <a:solidFill>
                  <a:srgbClr val="003366"/>
                </a:solidFill>
                <a:latin typeface="Arbat-Bold"/>
              </a:rPr>
              <a:t>Psilotsibum</a:t>
            </a:r>
            <a:r>
              <a:rPr b="0" lang="en-US" sz="2400" spc="-1" strike="noStrike">
                <a:solidFill>
                  <a:srgbClr val="003366"/>
                </a:solidFill>
                <a:latin typeface="Arbat-Bold"/>
              </a:rPr>
              <a:t>-</a:t>
            </a:r>
            <a:r>
              <a:rPr b="0" lang="en-US" sz="2400" spc="-1" strike="noStrike">
                <a:solidFill>
                  <a:srgbClr val="003366"/>
                </a:solidFill>
                <a:latin typeface="Stenci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Stencil"/>
              </a:rPr>
              <a:t>выглядят как маленькие коричневые поганки на тонкой ножке, шляпка имеет фиолетовый оттен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00600" y="13716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6172200" y="5029200"/>
            <a:ext cx="1257480" cy="12445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952880" y="2666880"/>
            <a:ext cx="3962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Stencil"/>
              </a:rPr>
              <a:t>ЛСД</a:t>
            </a:r>
            <a:r>
              <a:rPr b="0" lang="en-US" sz="2400" spc="-1" strike="noStrike">
                <a:solidFill>
                  <a:srgbClr val="003366"/>
                </a:solidFill>
                <a:latin typeface="Stencil"/>
              </a:rPr>
              <a:t> – существует в виде прозрачного раствора, порошка и в виде разноцветных марок, напоминающих почтов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000"/>
                            </p:stCondLst>
                            <p:childTnLst>
                              <p:par>
                                <p:cTn id="5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500"/>
                            </p:stCondLst>
                            <p:childTnLst>
                              <p:par>
                                <p:cTn id="5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2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2000"/>
                            </p:stCondLst>
                            <p:childTnLst>
                              <p:par>
                                <p:cTn id="5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3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3000"/>
                            </p:stCondLst>
                            <p:childTnLst>
                              <p:par>
                                <p:cTn id="5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Times New Roman"/>
              </a:rPr>
              <a:t>Летучие наркотически действующие веществ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295280" y="4343400"/>
            <a:ext cx="1579680" cy="2286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1143000" y="1905120"/>
            <a:ext cx="2286000" cy="18968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6477120" y="4267080"/>
            <a:ext cx="1530360" cy="2286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286000" y="20574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Stencil"/>
              </a:rPr>
              <a:t>Бензи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09680" y="45720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Stencil"/>
              </a:rPr>
              <a:t>Ацето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791320" y="2971800"/>
            <a:ext cx="281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Stencil"/>
              </a:rPr>
              <a:t>Клей «Момент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0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5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5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2000"/>
                            </p:stCondLst>
                            <p:childTnLst>
                              <p:par>
                                <p:cTn id="56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500"/>
                            </p:stCondLst>
                            <p:childTnLst>
                              <p:par>
                                <p:cTn id="56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6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3000"/>
                            </p:stCondLst>
                            <p:childTnLst>
                              <p:par>
                                <p:cTn id="5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3500"/>
                            </p:stCondLst>
                            <p:childTnLst>
                              <p:par>
                                <p:cTn id="57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7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Жизнь дается один раз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57200" y="1752480"/>
            <a:ext cx="2247840" cy="2997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124080" y="1600200"/>
            <a:ext cx="2838600" cy="2362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895480" y="5257800"/>
            <a:ext cx="3657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e4"/>
                </a:solidFill>
                <a:latin typeface="Times New Roman"/>
              </a:rPr>
              <a:t>Человечески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8a"/>
                </a:solidFill>
                <a:latin typeface="Times New Roman"/>
              </a:rPr>
              <a:t>порок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4648320" y="434304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6400800" y="5181120"/>
            <a:ext cx="91440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1904760" y="5181120"/>
            <a:ext cx="99036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6172200" y="2666880"/>
            <a:ext cx="2666880" cy="1938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80880" y="48006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Кур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00400" y="39625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Алкоголиз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400800" y="46483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Нарком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500"/>
                            </p:stCondLst>
                            <p:childTnLst>
                              <p:par>
                                <p:cTn id="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50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700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8500"/>
                            </p:stCondLst>
                            <p:childTnLst>
                              <p:par>
                                <p:cTn id="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9500"/>
                            </p:stCondLst>
                            <p:childTnLst>
                              <p:par>
                                <p:cTn id="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500"/>
                            </p:stCondLst>
                            <p:childTnLst>
                              <p:par>
                                <p:cTn id="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655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О вреде наркотик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50920" y="3213000"/>
            <a:ext cx="441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Stencil"/>
              </a:rPr>
              <a:t>Что наркотики приносят людя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24000" y="24922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Stencil"/>
              </a:rPr>
              <a:t>Физическая зависим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26920" y="450864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Stencil"/>
              </a:rPr>
              <a:t>Психологическая зависим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87280" y="537372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tencil"/>
              </a:rPr>
              <a:t>Развитие постоянной, иногда непреодолимой психологической потребности в наркотик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42920" y="907920"/>
            <a:ext cx="650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tencil"/>
              </a:rPr>
              <a:t>Состояние, развивающееся в результате употребления наркотиков; приводит к химической зависимости организ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284720" y="292392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284720" y="40766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4284720" y="21337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486900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0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500"/>
                            </p:stCondLst>
                            <p:childTnLst>
                              <p:par>
                                <p:cTn id="59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2000"/>
                            </p:stCondLst>
                            <p:childTnLst>
                              <p:par>
                                <p:cTn id="5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2500"/>
                            </p:stCondLst>
                            <p:childTnLst>
                              <p:par>
                                <p:cTn id="60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3000"/>
                            </p:stCondLst>
                            <p:childTnLst>
                              <p:par>
                                <p:cTn id="6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3500"/>
                            </p:stCondLst>
                            <p:childTnLst>
                              <p:par>
                                <p:cTn id="61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4000"/>
                            </p:stCondLst>
                            <p:childTnLst>
                              <p:par>
                                <p:cTn id="61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4500"/>
                            </p:stCondLst>
                            <p:childTnLst>
                              <p:par>
                                <p:cTn id="61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5000"/>
                            </p:stCondLst>
                            <p:childTnLst>
                              <p:par>
                                <p:cTn id="62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Употребление конопл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33520" y="4952880"/>
            <a:ext cx="1317600" cy="15242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28600" y="3581280"/>
            <a:ext cx="1981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Хронический бронхи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Рак легки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09680" y="3505320"/>
            <a:ext cx="205740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Хроническая сердечная недостаточ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Повышение нагрузки на сердц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0" y="29718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Тяжелые повреждения головного мозг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143000" y="1752480"/>
            <a:ext cx="6781680" cy="1752840"/>
            <a:chOff x="1143000" y="1752480"/>
            <a:chExt cx="6781680" cy="1752840"/>
          </a:xfrm>
        </p:grpSpPr>
        <p:sp>
          <p:nvSpPr>
            <p:cNvPr id="185" name=""/>
            <p:cNvSpPr/>
            <p:nvPr/>
          </p:nvSpPr>
          <p:spPr>
            <a:xfrm>
              <a:off x="1143000" y="1752480"/>
              <a:ext cx="678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43000" y="1752480"/>
              <a:ext cx="0" cy="175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200400" y="1752480"/>
              <a:ext cx="0" cy="1676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86400" y="1752480"/>
              <a:ext cx="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24680" y="175248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086600" y="281952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Ослабление иммуните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71600" y="114300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Stencil"/>
              </a:rPr>
              <a:t>Нарушения в организм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4952880" y="4292640"/>
            <a:ext cx="1143000" cy="10810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3581280" y="54100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0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1000"/>
                            </p:stCondLst>
                            <p:childTnLst>
                              <p:par>
                                <p:cTn id="6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1500"/>
                            </p:stCondLst>
                            <p:childTnLst>
                              <p:par>
                                <p:cTn id="6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500"/>
                            </p:stCondLst>
                            <p:childTnLst>
                              <p:par>
                                <p:cTn id="6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500"/>
                            </p:stCondLst>
                            <p:childTnLst>
                              <p:par>
                                <p:cTn id="6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391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Употребление </a:t>
            </a:r>
            <a:br>
              <a:rPr sz="4000"/>
            </a:b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опиатных наркотик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838080" y="2286000"/>
            <a:ext cx="6782040" cy="1676520"/>
            <a:chOff x="838080" y="2286000"/>
            <a:chExt cx="6782040" cy="1676520"/>
          </a:xfrm>
        </p:grpSpPr>
        <p:sp>
          <p:nvSpPr>
            <p:cNvPr id="196" name=""/>
            <p:cNvSpPr/>
            <p:nvPr/>
          </p:nvSpPr>
          <p:spPr>
            <a:xfrm>
              <a:off x="838080" y="2286000"/>
              <a:ext cx="6782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38080" y="2286000"/>
              <a:ext cx="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620120" y="228600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191120" y="2286000"/>
              <a:ext cx="0" cy="1676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438280" y="228600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943600" y="22860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228600" y="3733920"/>
            <a:ext cx="153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Нарушение функций головного мозг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781680" y="358128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Нарушение костной и зубной ткан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505320" y="411480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Ухудшение дых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52480" y="3048120"/>
            <a:ext cx="1524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Stencil"/>
              </a:rPr>
              <a:t>Резкое снижение иммуните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81480" y="304812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Сепсис – заражение кров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380880" y="5257800"/>
            <a:ext cx="1295640" cy="8650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3581280" y="5105520"/>
            <a:ext cx="1270080" cy="12189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7238880" y="4648320"/>
            <a:ext cx="990720" cy="19047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143000" y="16765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Stencil"/>
              </a:rPr>
              <a:t>Нарушения в организм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0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500"/>
                            </p:stCondLst>
                            <p:childTnLst>
                              <p:par>
                                <p:cTn id="6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500"/>
                            </p:stCondLst>
                            <p:childTnLst>
                              <p:par>
                                <p:cTn id="7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500"/>
                            </p:stCondLst>
                            <p:childTnLst>
                              <p:par>
                                <p:cTn id="7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500"/>
                            </p:stCondLst>
                            <p:childTnLst>
                              <p:par>
                                <p:cTn id="7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imes New Roman"/>
              </a:rPr>
              <a:t>Употребление психостимуляторов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905120" y="1676520"/>
            <a:ext cx="5029200" cy="1294920"/>
            <a:chOff x="1905120" y="1676520"/>
            <a:chExt cx="5029200" cy="1294920"/>
          </a:xfrm>
        </p:grpSpPr>
        <p:sp>
          <p:nvSpPr>
            <p:cNvPr id="213" name=""/>
            <p:cNvSpPr/>
            <p:nvPr/>
          </p:nvSpPr>
          <p:spPr>
            <a:xfrm>
              <a:off x="1905120" y="1676520"/>
              <a:ext cx="5029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05120" y="1676520"/>
              <a:ext cx="0" cy="129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934320" y="1676520"/>
              <a:ext cx="0" cy="1165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324000" y="320040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Резко усиливают обмен вещест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2120" y="45720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Дефицит жизненных ресурс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579132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Stencil"/>
              </a:rPr>
              <a:t>Истощение, худоба, старение кож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34120" y="2895480"/>
            <a:ext cx="297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Резко увеличивают частоту сердечных сокращений и повышают артериальное давл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334120" y="47242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Дистрофия миокар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181480" y="57150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Инфаркт миокар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905120" y="114300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Stencil"/>
              </a:rPr>
              <a:t>Нарушения в организм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3505320" y="1828800"/>
            <a:ext cx="1930320" cy="1930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905120" y="38862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905120" y="52578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948360" y="4365720"/>
            <a:ext cx="0" cy="35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934320" y="51055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0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000"/>
                            </p:stCondLst>
                            <p:childTnLst>
                              <p:par>
                                <p:cTn id="7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1500"/>
                            </p:stCondLst>
                            <p:childTnLst>
                              <p:par>
                                <p:cTn id="7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500"/>
                            </p:stCondLst>
                            <p:childTnLst>
                              <p:par>
                                <p:cTn id="8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Употребление галлюциноген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2133720" y="1981080"/>
            <a:ext cx="4572000" cy="1067040"/>
            <a:chOff x="2133720" y="1981080"/>
            <a:chExt cx="4572000" cy="1067040"/>
          </a:xfrm>
        </p:grpSpPr>
        <p:sp>
          <p:nvSpPr>
            <p:cNvPr id="230" name=""/>
            <p:cNvSpPr/>
            <p:nvPr/>
          </p:nvSpPr>
          <p:spPr>
            <a:xfrm>
              <a:off x="2133720" y="1981080"/>
              <a:ext cx="457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133720" y="1981080"/>
              <a:ext cx="0" cy="106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705720" y="1981080"/>
              <a:ext cx="0" cy="106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990720" y="32767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Головной моз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90720" y="57913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Психо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562720" y="32767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Печен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486400" y="47242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Печеночная недостаточ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90720" y="4648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Разрушение психи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905120" y="137160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Stencil"/>
              </a:rPr>
              <a:t>Нарушения в организм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3886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133720" y="50292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05720" y="3733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1600200" cy="12286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4495680" y="3657600"/>
            <a:ext cx="160020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0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1000"/>
                            </p:stCondLst>
                            <p:childTnLst>
                              <p:par>
                                <p:cTn id="8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1500"/>
                            </p:stCondLst>
                            <p:childTnLst>
                              <p:par>
                                <p:cTn id="8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500"/>
                            </p:stCondLst>
                            <p:childTnLst>
                              <p:par>
                                <p:cTn id="86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1000"/>
                            </p:stCondLst>
                            <p:childTnLst>
                              <p:par>
                                <p:cTn id="86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Употребление ЛНД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1143000" y="1905120"/>
            <a:ext cx="6629400" cy="761760"/>
            <a:chOff x="1143000" y="1905120"/>
            <a:chExt cx="6629400" cy="761760"/>
          </a:xfrm>
        </p:grpSpPr>
        <p:sp>
          <p:nvSpPr>
            <p:cNvPr id="246" name=""/>
            <p:cNvSpPr/>
            <p:nvPr/>
          </p:nvSpPr>
          <p:spPr>
            <a:xfrm>
              <a:off x="1143000" y="1905120"/>
              <a:ext cx="6629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143000" y="190512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772400" y="190512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419720" y="19051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0" y="28195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Гибель клеток печен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3962520"/>
            <a:ext cx="234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Хроническая недостаточность, нарушение свертываемости кров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60199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Цирроз печен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76720" y="27432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Гибель клеток головного мозг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29000" y="42670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Слабоум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581280" y="571500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Отставание в развит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010280" y="2819520"/>
            <a:ext cx="175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Гибель клеток легки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44197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tencil"/>
              </a:rPr>
              <a:t>Пневмо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057400" y="1295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Stencil"/>
              </a:rPr>
              <a:t>Нарушения в организм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143000" y="34290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143000" y="5410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419720" y="33526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419720" y="464832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772400" y="35053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7238880" y="5029200"/>
            <a:ext cx="1257480" cy="11556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4876920" y="3352680"/>
            <a:ext cx="1257120" cy="9651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1676520" y="5105520"/>
            <a:ext cx="12697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0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83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1500"/>
                            </p:stCondLst>
                            <p:childTnLst>
                              <p:par>
                                <p:cTn id="8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500"/>
                            </p:stCondLst>
                            <p:childTnLst>
                              <p:par>
                                <p:cTn id="92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2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500"/>
                            </p:stCondLst>
                            <p:childTnLst>
                              <p:par>
                                <p:cTn id="95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5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500"/>
                            </p:stCondLst>
                            <p:childTnLst>
                              <p:par>
                                <p:cTn id="9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7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О   СПИД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5943600" y="76212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457200" y="3581280"/>
            <a:ext cx="3809880" cy="25401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4"/>
          <a:stretch/>
        </p:blipFill>
        <p:spPr>
          <a:xfrm>
            <a:off x="457200" y="1295280"/>
            <a:ext cx="2209680" cy="123048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762120" y="281952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Stencil"/>
              </a:rPr>
              <a:t>«Чума </a:t>
            </a:r>
            <a:r>
              <a:rPr b="0" lang="en-US" sz="3600" spc="-1" strike="noStrike">
                <a:solidFill>
                  <a:srgbClr val="660066"/>
                </a:solidFill>
                <a:latin typeface="Stencil"/>
              </a:rPr>
              <a:t>XX</a:t>
            </a:r>
            <a:r>
              <a:rPr b="0" lang="ru-RU" sz="3600" spc="-1" strike="noStrike">
                <a:solidFill>
                  <a:srgbClr val="660066"/>
                </a:solidFill>
                <a:latin typeface="Stencil"/>
              </a:rPr>
              <a:t> века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29718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Stencil"/>
              </a:rPr>
              <a:t>Всемирный день борьбы со СПИДом – 1 декабр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5"/>
          <a:stretch/>
        </p:blipFill>
        <p:spPr>
          <a:xfrm>
            <a:off x="6248520" y="4114800"/>
            <a:ext cx="15602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fill="hold">
                      <p:stCondLst>
                        <p:cond delay="0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1000"/>
                            </p:stCondLst>
                            <p:childTnLst>
                              <p:par>
                                <p:cTn id="98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1500"/>
                            </p:stCondLst>
                            <p:childTnLst>
                              <p:par>
                                <p:cTn id="9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пасибо – НЕТ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762120" y="34290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7238880" y="304920"/>
            <a:ext cx="1630440" cy="23619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5"/>
          <a:stretch/>
        </p:blipFill>
        <p:spPr>
          <a:xfrm>
            <a:off x="3505320" y="1905120"/>
            <a:ext cx="2616120" cy="22762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6"/>
          <a:stretch/>
        </p:blipFill>
        <p:spPr>
          <a:xfrm>
            <a:off x="6781680" y="45720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0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410080" y="4343400"/>
            <a:ext cx="3346560" cy="2165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838080"/>
            <a:ext cx="2347920" cy="35053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3048120" y="2895480"/>
            <a:ext cx="2819160" cy="28195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a0000"/>
                </a:solidFill>
                <a:latin typeface="Times New Roman"/>
              </a:rPr>
              <a:t>О</a:t>
            </a:r>
            <a:r>
              <a:rPr b="0" lang="en-US" sz="4800" spc="-1" strike="noStrike">
                <a:solidFill>
                  <a:srgbClr val="8a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8a0000"/>
                </a:solidFill>
                <a:latin typeface="Times New Roman"/>
              </a:rPr>
              <a:t>курени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733920" y="1676520"/>
            <a:ext cx="396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a0000"/>
                </a:solidFill>
                <a:latin typeface="Times New Roman"/>
              </a:rPr>
              <a:t>Почему молодые люди начинают курить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8913"/>
            </a:gs>
            <a:gs pos="100000">
              <a:srgbClr val="753f0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2496960" cy="38862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505320" y="1600200"/>
            <a:ext cx="5257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1066680"/>
            <a:ext cx="487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765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Из любопытств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" action="ppaction://hlinksldjump"/>
          </p:cNvPr>
          <p:cNvSpPr/>
          <p:nvPr/>
        </p:nvSpPr>
        <p:spPr>
          <a:xfrm>
            <a:off x="8001000" y="5943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124080" y="838080"/>
            <a:ext cx="2819520" cy="28195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143000" y="4191120"/>
            <a:ext cx="708660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Потому что все мои друзья куря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Чтобы выглядеть более взрослы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924680" y="571500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10800"/>
                </a:moveTo>
                <a:lnTo>
                  <a:pt x="17813" y="3794"/>
                </a:lnTo>
                <a:lnTo>
                  <a:pt x="17813" y="17806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895480" y="2286000"/>
            <a:ext cx="3346560" cy="21654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57200" y="76212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Потому что мне нравится кури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5334120"/>
            <a:ext cx="50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Потому что я чувствовал себя беспокойно и нервозн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1532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О вреде курени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04920" y="838080"/>
            <a:ext cx="2971800" cy="2121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5181480" y="1600200"/>
            <a:ext cx="3105360" cy="27608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2438280" y="4191120"/>
            <a:ext cx="2248200" cy="23619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276720" y="1828800"/>
            <a:ext cx="182880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3124080"/>
            <a:ext cx="4800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абак – один из наиболее распространенных наркоти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723920" y="4343400"/>
            <a:ext cx="221004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81280" y="15238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Первый ша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67280" y="533412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Последний ша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500"/>
                            </p:stCondLst>
                            <p:childTnLst>
                              <p:par>
                                <p:cTn id="146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6000"/>
                            </p:stCondLst>
                            <p:childTnLst>
                              <p:par>
                                <p:cTn id="151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7500"/>
                            </p:stCondLst>
                            <p:childTnLst>
                              <p:par>
                                <p:cTn id="155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9000"/>
                            </p:stCondLst>
                            <p:childTnLst>
                              <p:par>
                                <p:cTn id="159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4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8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200400" y="2971800"/>
            <a:ext cx="228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"/>
              </a:rPr>
              <a:t>Никотин наносит уда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429000" y="228600"/>
            <a:ext cx="1981080" cy="1824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705720" y="3809880"/>
            <a:ext cx="1768320" cy="20574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609480" y="3886200"/>
            <a:ext cx="1828800" cy="2133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191120" y="213372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19633800">
            <a:off x="2742840" y="4572000"/>
            <a:ext cx="838080" cy="533520"/>
          </a:xfrm>
          <a:prstGeom prst="leftArrow">
            <a:avLst>
              <a:gd name="adj1" fmla="val 50000"/>
              <a:gd name="adj2" fmla="val 3927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3290600">
            <a:off x="5257800" y="4571640"/>
            <a:ext cx="838080" cy="533520"/>
          </a:xfrm>
          <a:prstGeom prst="leftArrow">
            <a:avLst>
              <a:gd name="adj1" fmla="val 50000"/>
              <a:gd name="adj2" fmla="val 3927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335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Легк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304812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Желуд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48520" y="30481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Сердц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457200" y="380880"/>
            <a:ext cx="2247840" cy="2362320"/>
          </a:xfrm>
          <a:prstGeom prst="rect">
            <a:avLst/>
          </a:prstGeom>
          <a:ln w="0">
            <a:noFill/>
          </a:ln>
        </p:spPr>
      </p:pic>
      <p:sp>
        <p:nvSpPr>
          <p:cNvPr id="91" name="">
            <a:hlinkClick r:id="" action="ppaction://hlinkshowjump?jump=previousslide"/>
          </p:cNvPr>
          <p:cNvSpPr/>
          <p:nvPr/>
        </p:nvSpPr>
        <p:spPr>
          <a:xfrm>
            <a:off x="8153280" y="60958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50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6000"/>
                            </p:stCondLst>
                            <p:childTnLst>
                              <p:par>
                                <p:cTn id="190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75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90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35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2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"/>
              </a:rPr>
              <a:t>О пьянстве и алкоголизм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28600" y="1447920"/>
            <a:ext cx="2438280" cy="2252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6095880" y="4648320"/>
            <a:ext cx="2565360" cy="16938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655040" y="380880"/>
            <a:ext cx="1241280" cy="2286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429000" y="1341360"/>
            <a:ext cx="3809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Stencil"/>
              </a:rPr>
              <a:t>Пьянство</a:t>
            </a:r>
            <a:r>
              <a:rPr b="1" lang="en-US" sz="2400" spc="-1" strike="noStrike">
                <a:solidFill>
                  <a:srgbClr val="3333cc"/>
                </a:solidFill>
                <a:latin typeface="Stencil"/>
              </a:rPr>
              <a:t> - чрезмерное употребление алкоголя, разрушительно действующее на челове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4648320"/>
            <a:ext cx="4648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Stencil"/>
              </a:rPr>
              <a:t>Алкоголизм </a:t>
            </a:r>
            <a:r>
              <a:rPr b="1" lang="en-US" sz="2400" spc="-1" strike="noStrike">
                <a:solidFill>
                  <a:srgbClr val="3333cc"/>
                </a:solidFill>
                <a:latin typeface="Stencil"/>
              </a:rPr>
              <a:t>– химическая зависимость от алкоголя, приводящая к вынужденному и неумеренному его употреблен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2666880" y="1676160"/>
            <a:ext cx="914400" cy="609480"/>
          </a:xfrm>
          <a:custGeom>
            <a:avLst/>
            <a:gdLst>
              <a:gd name="textAreaLeft" fmla="*/ 304920 w 914400"/>
              <a:gd name="textAreaRight" fmla="*/ 783360 w 91440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96080" y="3048120"/>
            <a:ext cx="914400" cy="609480"/>
          </a:xfrm>
          <a:custGeom>
            <a:avLst/>
            <a:gdLst>
              <a:gd name="textAreaLeft" fmla="*/ 304920 w 914400"/>
              <a:gd name="textAreaRight" fmla="*/ 783360 w 91440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52880" y="5334120"/>
            <a:ext cx="990720" cy="457200"/>
          </a:xfrm>
          <a:prstGeom prst="rightArrow">
            <a:avLst>
              <a:gd name="adj1" fmla="val 50000"/>
              <a:gd name="adj2" fmla="val 54173"/>
            </a:avLst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09680" y="3581280"/>
            <a:ext cx="685800" cy="60984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tencil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238880" y="2362320"/>
            <a:ext cx="685800" cy="6094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tencil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38680" y="6019920"/>
            <a:ext cx="685800" cy="60948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tencil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48000" y="371628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Stencil"/>
              </a:rPr>
              <a:t>Выявлено три важных фактора, связанных с высоким риском развития алкоголизм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500"/>
                            </p:stCondLst>
                            <p:childTnLst>
                              <p:par>
                                <p:cTn id="24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5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4500"/>
                            </p:stCondLst>
                            <p:childTnLst>
                              <p:par>
                                <p:cTn id="25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6T14:56:38Z</dcterms:created>
  <dc:creator>NikulinaII</dc:creator>
  <dc:description/>
  <dc:language>en-US</dc:language>
  <cp:lastModifiedBy>Андрей</cp:lastModifiedBy>
  <dcterms:modified xsi:type="dcterms:W3CDTF">2008-12-11T16:46:58Z</dcterms:modified>
  <cp:revision>22</cp:revision>
  <dc:subject/>
  <dc:title>Жизнь дается один раз</dc:title>
</cp:coreProperties>
</file>