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6.png" ContentType="image/png"/>
  <Override PartName="/ppt/media/image3.gif" ContentType="image/gif"/>
  <Override PartName="/ppt/media/image4.jpeg" ContentType="image/jpeg"/>
  <Override PartName="/ppt/media/image2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jpeg" ContentType="image/jpeg"/>
  <Override PartName="/ppt/media/image17.png" ContentType="image/png"/>
  <Override PartName="/ppt/media/image26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F8F9-1A94-4654-B006-BC6B41C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5F7B-B5F3-44EA-B941-CCC81FC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0FB6-8C0E-43EE-ABAB-359DA1AA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C24B-9D8E-417C-8CBD-6227B747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9172-776E-4FE1-8C76-4942BE76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97E7-54B5-4009-9050-64EC34D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D18D-D97B-41DE-9D90-7805DF41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F599-2CEF-4348-84D8-7D7DB02B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FE77-6FDB-4F40-903D-2B79173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25C6-A8AC-4F3D-B07D-0A5771E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66A8-D637-4BA4-A3EB-EF8B3CFD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8D7EB-4769-40BB-A727-556912F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DA9F-3E81-490D-BCBD-84F2ACE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91A5-6FBE-435B-87C9-46F2980E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7E0E-DDBA-4BAC-A8DD-2547D54B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4B18-F573-4E2F-B090-B4AA90DF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5A8A-8C63-483C-9C19-97633CAC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1122-6F87-4112-99CC-41CF874C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A33BB-D12B-44ED-896B-2116EAC2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2706-6C70-47B7-87D2-BCDBDE7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3789-6944-4FEB-BAC2-5A795827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20EA-6C98-426C-9844-EE4FCB3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70D2-7C8B-4620-95F4-14E836E7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6EB3-7054-4223-B940-1D113E8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317-6EA6-4E4E-A7E3-9638F5A529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B634-2755-4EEF-BE95-3EC3B0797D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lh5.ggpht.com/_Wyz7kZx8vg0/S5twR8hie2I/AAAAAAAABec/aXRgi3HhXp8/s640/DSC08516.JPG" TargetMode="External"/><Relationship Id="rId2" Type="http://schemas.openxmlformats.org/officeDocument/2006/relationships/hyperlink" Target="http://sch672.narod.ru/06010602.jpg" TargetMode="External"/><Relationship Id="rId3" Type="http://schemas.openxmlformats.org/officeDocument/2006/relationships/hyperlink" Target="http://www.motivators.ru/sites/default/files/imagecache/main-motivator/motivator-14016.gif" TargetMode="External"/><Relationship Id="rId4" Type="http://schemas.openxmlformats.org/officeDocument/2006/relationships/hyperlink" Target="http://www.free-lancers.net/posted_files/NE8EACE9281C6.jpg" TargetMode="External"/><Relationship Id="rId5" Type="http://schemas.openxmlformats.org/officeDocument/2006/relationships/hyperlink" Target="http://images-partners.google.com/images?q=tbn:ANd9GcT0gSExshPSEnrVEixZu_IfulqYv1cdo7uJwOQ9qS4cM-SuHJgbV7YF0g:http://combinatorica.narod.ru/Pictures_comb/Sylvester_2.jpg" TargetMode="External"/><Relationship Id="rId6" Type="http://schemas.openxmlformats.org/officeDocument/2006/relationships/hyperlink" Target="http://artsoch.ru/uploads/posts/2011-11/1321129367_v.m.-vasnecov-vityaz-na-raspute.jpg" TargetMode="External"/><Relationship Id="rId7" Type="http://schemas.openxmlformats.org/officeDocument/2006/relationships/hyperlink" Target="http://www.abc-people.com/data/rafael-santi/pic-8a.jpg" TargetMode="External"/><Relationship Id="rId8" Type="http://schemas.openxmlformats.org/officeDocument/2006/relationships/hyperlink" Target="http://en.academic.ru/pictures/enwiki/66/Benjamin_Robert_Haydon_002.jpg" TargetMode="External"/><Relationship Id="rId9" Type="http://schemas.openxmlformats.org/officeDocument/2006/relationships/hyperlink" Target="http://im2-tub-ru.yandex.net/i?id=142945126-65-72" TargetMode="External"/><Relationship Id="rId10" Type="http://schemas.openxmlformats.org/officeDocument/2006/relationships/hyperlink" Target="http://mineral.7910.org/mineralimages/cat/mendeleev.jpg" TargetMode="External"/><Relationship Id="rId11" Type="http://schemas.openxmlformats.org/officeDocument/2006/relationships/hyperlink" Target="http://www.rubenet.it/matematici/images/tartaglia1.jpg" TargetMode="External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6715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ab6ef"/>
                </a:solidFill>
                <a:latin typeface="Comic Sans MS"/>
              </a:rPr>
              <a:t>Введение </a:t>
            </a:r>
            <a:br>
              <a:rPr sz="4800"/>
            </a:br>
            <a:r>
              <a:rPr b="1" lang="ru-RU" sz="4800" spc="-1" strike="noStrike">
                <a:solidFill>
                  <a:srgbClr val="5ab6ef"/>
                </a:solidFill>
                <a:latin typeface="Comic Sans MS"/>
              </a:rPr>
              <a:t>в комбинаторику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71320" y="2714760"/>
            <a:ext cx="8143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Число, положение и комбинация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три взаимно пересекающиеся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но различные сферы мысли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к которым можно отне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все математические иде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Английский математик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Джеймс Джозеф Сильвестр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omic Sans MS"/>
              </a:rPr>
              <a:t>(1814-1897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Джеймс Джозеф Сильвестр"/>
          <p:cNvPicPr/>
          <p:nvPr/>
        </p:nvPicPr>
        <p:blipFill>
          <a:blip r:embed="rId1"/>
          <a:stretch/>
        </p:blipFill>
        <p:spPr>
          <a:xfrm>
            <a:off x="6929280" y="2786040"/>
            <a:ext cx="1683000" cy="1951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03" name="Ink 4"/>
          <p:cNvSpPr/>
          <p:nvPr/>
        </p:nvSpPr>
        <p:spPr>
          <a:xfrm>
            <a:off x="6227640" y="1773360"/>
            <a:ext cx="411120" cy="455400"/>
          </a:xfrm>
          <a:custGeom>
            <a:avLst/>
            <a:gdLst/>
            <a:ahLst/>
            <a:rect l="l" t="t" r="r" b="b"/>
            <a:pathLst>
              <a:path w="1142" h="1266">
                <a:moveTo>
                  <a:pt x="2927" y="13891"/>
                </a:moveTo>
                <a:cubicBezTo>
                  <a:pt x="2927" y="14053"/>
                  <a:pt x="2930" y="14204"/>
                  <a:pt x="2952" y="14362"/>
                </a:cubicBezTo>
                <a:cubicBezTo>
                  <a:pt x="2964" y="14446"/>
                  <a:pt x="2964" y="14530"/>
                  <a:pt x="2977" y="14610"/>
                </a:cubicBezTo>
                <a:cubicBezTo>
                  <a:pt x="3006" y="14782"/>
                  <a:pt x="2977" y="14981"/>
                  <a:pt x="2977" y="15156"/>
                </a:cubicBezTo>
                <a:cubicBezTo>
                  <a:pt x="2989" y="15122"/>
                  <a:pt x="3020" y="15062"/>
                  <a:pt x="3026" y="15032"/>
                </a:cubicBezTo>
                <a:cubicBezTo>
                  <a:pt x="3034" y="14994"/>
                  <a:pt x="3046" y="14967"/>
                  <a:pt x="3051" y="14932"/>
                </a:cubicBezTo>
                <a:cubicBezTo>
                  <a:pt x="3059" y="14875"/>
                  <a:pt x="3033" y="14849"/>
                  <a:pt x="3026" y="14808"/>
                </a:cubicBezTo>
                <a:cubicBezTo>
                  <a:pt x="3018" y="14761"/>
                  <a:pt x="3050" y="14692"/>
                  <a:pt x="3051" y="14684"/>
                </a:cubicBezTo>
                <a:cubicBezTo>
                  <a:pt x="3059" y="14637"/>
                  <a:pt x="3065" y="14631"/>
                  <a:pt x="3076" y="14610"/>
                </a:cubicBezTo>
                <a:cubicBezTo>
                  <a:pt x="3093" y="14578"/>
                  <a:pt x="3090" y="14546"/>
                  <a:pt x="3101" y="14511"/>
                </a:cubicBezTo>
                <a:cubicBezTo>
                  <a:pt x="3109" y="14485"/>
                  <a:pt x="3154" y="14406"/>
                  <a:pt x="3175" y="14387"/>
                </a:cubicBezTo>
                <a:cubicBezTo>
                  <a:pt x="3218" y="14347"/>
                  <a:pt x="3240" y="14319"/>
                  <a:pt x="3274" y="14263"/>
                </a:cubicBezTo>
                <a:cubicBezTo>
                  <a:pt x="3307" y="14208"/>
                  <a:pt x="3294" y="14209"/>
                  <a:pt x="3349" y="14163"/>
                </a:cubicBezTo>
                <a:cubicBezTo>
                  <a:pt x="3362" y="14152"/>
                  <a:pt x="3385" y="14127"/>
                  <a:pt x="3398" y="14114"/>
                </a:cubicBezTo>
                <a:cubicBezTo>
                  <a:pt x="3398" y="14089"/>
                  <a:pt x="3398" y="14081"/>
                  <a:pt x="3423" y="14089"/>
                </a:cubicBezTo>
                <a:cubicBezTo>
                  <a:pt x="3423" y="14290"/>
                  <a:pt x="3369" y="14607"/>
                  <a:pt x="3448" y="14784"/>
                </a:cubicBezTo>
                <a:cubicBezTo>
                  <a:pt x="3478" y="14851"/>
                  <a:pt x="3515" y="14893"/>
                  <a:pt x="3572" y="14932"/>
                </a:cubicBezTo>
                <a:cubicBezTo>
                  <a:pt x="3616" y="14962"/>
                  <a:pt x="3667" y="15005"/>
                  <a:pt x="3696" y="15032"/>
                </a:cubicBezTo>
                <a:cubicBezTo>
                  <a:pt x="3760" y="15092"/>
                  <a:pt x="3748" y="15075"/>
                  <a:pt x="3820" y="15081"/>
                </a:cubicBezTo>
                <a:cubicBezTo>
                  <a:pt x="3880" y="15086"/>
                  <a:pt x="3899" y="15076"/>
                  <a:pt x="3944" y="15056"/>
                </a:cubicBezTo>
                <a:cubicBezTo>
                  <a:pt x="3983" y="15039"/>
                  <a:pt x="4047" y="14998"/>
                  <a:pt x="4068" y="14957"/>
                </a:cubicBezTo>
                <a:cubicBezTo>
                  <a:pt x="4068" y="14932"/>
                  <a:pt x="4068" y="14924"/>
                  <a:pt x="4068" y="14908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Ink 5"/>
          <p:cNvSpPr/>
          <p:nvPr/>
        </p:nvSpPr>
        <p:spPr>
          <a:xfrm>
            <a:off x="3851280" y="1700280"/>
            <a:ext cx="81000" cy="830160"/>
          </a:xfrm>
          <a:custGeom>
            <a:avLst/>
            <a:gdLst/>
            <a:ahLst/>
            <a:rect l="l" t="t" r="r" b="b"/>
            <a:pathLst>
              <a:path w="224" h="2307">
                <a:moveTo>
                  <a:pt x="4812" y="12502"/>
                </a:moveTo>
                <a:cubicBezTo>
                  <a:pt x="4812" y="12591"/>
                  <a:pt x="4823" y="12675"/>
                  <a:pt x="4837" y="12750"/>
                </a:cubicBezTo>
                <a:cubicBezTo>
                  <a:pt x="4862" y="12880"/>
                  <a:pt x="4752" y="13854"/>
                  <a:pt x="4862" y="13891"/>
                </a:cubicBezTo>
              </a:path>
              <a:path w="224" h="2307">
                <a:moveTo>
                  <a:pt x="5035" y="14808"/>
                </a:moveTo>
                <a:cubicBezTo>
                  <a:pt x="5011" y="14808"/>
                  <a:pt x="5002" y="14808"/>
                  <a:pt x="4986" y="14808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Ink 6"/>
          <p:cNvSpPr/>
          <p:nvPr/>
        </p:nvSpPr>
        <p:spPr>
          <a:xfrm>
            <a:off x="3995640" y="1916280"/>
            <a:ext cx="546120" cy="401400"/>
          </a:xfrm>
          <a:custGeom>
            <a:avLst/>
            <a:gdLst/>
            <a:ahLst/>
            <a:rect l="l" t="t" r="r" b="b"/>
            <a:pathLst>
              <a:path w="1515" h="1118">
                <a:moveTo>
                  <a:pt x="5680" y="13767"/>
                </a:moveTo>
                <a:cubicBezTo>
                  <a:pt x="5672" y="13767"/>
                  <a:pt x="5663" y="13767"/>
                  <a:pt x="5655" y="13767"/>
                </a:cubicBezTo>
                <a:cubicBezTo>
                  <a:pt x="5677" y="13783"/>
                  <a:pt x="5730" y="13834"/>
                  <a:pt x="5755" y="13841"/>
                </a:cubicBezTo>
                <a:cubicBezTo>
                  <a:pt x="5822" y="13860"/>
                  <a:pt x="6213" y="13856"/>
                  <a:pt x="6226" y="13816"/>
                </a:cubicBezTo>
              </a:path>
              <a:path w="1515" h="1118">
                <a:moveTo>
                  <a:pt x="5879" y="14213"/>
                </a:moveTo>
                <a:cubicBezTo>
                  <a:pt x="6044" y="14213"/>
                  <a:pt x="6210" y="14213"/>
                  <a:pt x="6375" y="14213"/>
                </a:cubicBezTo>
              </a:path>
              <a:path w="1515" h="1118">
                <a:moveTo>
                  <a:pt x="6722" y="13940"/>
                </a:moveTo>
                <a:cubicBezTo>
                  <a:pt x="6732" y="13901"/>
                  <a:pt x="6790" y="13860"/>
                  <a:pt x="6821" y="13841"/>
                </a:cubicBezTo>
                <a:cubicBezTo>
                  <a:pt x="6847" y="13825"/>
                  <a:pt x="6903" y="13825"/>
                  <a:pt x="6921" y="13791"/>
                </a:cubicBezTo>
                <a:cubicBezTo>
                  <a:pt x="6934" y="13766"/>
                  <a:pt x="6957" y="13755"/>
                  <a:pt x="6970" y="13717"/>
                </a:cubicBezTo>
                <a:cubicBezTo>
                  <a:pt x="6985" y="13672"/>
                  <a:pt x="7010" y="13689"/>
                  <a:pt x="7020" y="13618"/>
                </a:cubicBezTo>
                <a:cubicBezTo>
                  <a:pt x="7090" y="13594"/>
                  <a:pt x="7060" y="13587"/>
                  <a:pt x="7094" y="13543"/>
                </a:cubicBezTo>
                <a:cubicBezTo>
                  <a:pt x="7124" y="13505"/>
                  <a:pt x="7125" y="13462"/>
                  <a:pt x="7144" y="13419"/>
                </a:cubicBezTo>
                <a:cubicBezTo>
                  <a:pt x="7161" y="13379"/>
                  <a:pt x="7169" y="13252"/>
                  <a:pt x="7169" y="13295"/>
                </a:cubicBezTo>
                <a:cubicBezTo>
                  <a:pt x="7169" y="13676"/>
                  <a:pt x="6974" y="14752"/>
                  <a:pt x="7144" y="14412"/>
                </a:cubicBezTo>
                <a:cubicBezTo>
                  <a:pt x="7152" y="14404"/>
                  <a:pt x="7161" y="14395"/>
                  <a:pt x="7169" y="14387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Ink 7"/>
          <p:cNvSpPr/>
          <p:nvPr/>
        </p:nvSpPr>
        <p:spPr>
          <a:xfrm>
            <a:off x="4643280" y="1844640"/>
            <a:ext cx="930600" cy="500040"/>
          </a:xfrm>
          <a:custGeom>
            <a:avLst/>
            <a:gdLst/>
            <a:ahLst/>
            <a:rect l="l" t="t" r="r" b="b"/>
            <a:pathLst>
              <a:path w="2581" h="1391">
                <a:moveTo>
                  <a:pt x="7714" y="13742"/>
                </a:moveTo>
                <a:cubicBezTo>
                  <a:pt x="7749" y="13742"/>
                  <a:pt x="7767" y="13737"/>
                  <a:pt x="7789" y="13717"/>
                </a:cubicBezTo>
              </a:path>
              <a:path w="2581" h="1391">
                <a:moveTo>
                  <a:pt x="8310" y="13221"/>
                </a:moveTo>
                <a:cubicBezTo>
                  <a:pt x="8310" y="13196"/>
                  <a:pt x="8310" y="13188"/>
                  <a:pt x="8310" y="13171"/>
                </a:cubicBezTo>
                <a:cubicBezTo>
                  <a:pt x="8360" y="13171"/>
                  <a:pt x="8419" y="13193"/>
                  <a:pt x="8434" y="13196"/>
                </a:cubicBezTo>
                <a:cubicBezTo>
                  <a:pt x="8456" y="13200"/>
                  <a:pt x="8525" y="13203"/>
                  <a:pt x="8533" y="13221"/>
                </a:cubicBezTo>
                <a:cubicBezTo>
                  <a:pt x="8546" y="13251"/>
                  <a:pt x="8552" y="13342"/>
                  <a:pt x="8558" y="13370"/>
                </a:cubicBezTo>
                <a:cubicBezTo>
                  <a:pt x="8575" y="13455"/>
                  <a:pt x="8568" y="13624"/>
                  <a:pt x="8533" y="13667"/>
                </a:cubicBezTo>
                <a:cubicBezTo>
                  <a:pt x="8495" y="13714"/>
                  <a:pt x="8517" y="13710"/>
                  <a:pt x="8458" y="13717"/>
                </a:cubicBezTo>
                <a:cubicBezTo>
                  <a:pt x="8371" y="13727"/>
                  <a:pt x="8407" y="13719"/>
                  <a:pt x="8359" y="13767"/>
                </a:cubicBezTo>
                <a:cubicBezTo>
                  <a:pt x="8331" y="13795"/>
                  <a:pt x="8308" y="13848"/>
                  <a:pt x="8285" y="13866"/>
                </a:cubicBezTo>
                <a:cubicBezTo>
                  <a:pt x="8201" y="13931"/>
                  <a:pt x="8273" y="13895"/>
                  <a:pt x="8235" y="13965"/>
                </a:cubicBezTo>
                <a:cubicBezTo>
                  <a:pt x="8212" y="14008"/>
                  <a:pt x="8213" y="14013"/>
                  <a:pt x="8210" y="14064"/>
                </a:cubicBezTo>
                <a:cubicBezTo>
                  <a:pt x="8208" y="14105"/>
                  <a:pt x="8210" y="14147"/>
                  <a:pt x="8210" y="14188"/>
                </a:cubicBezTo>
                <a:cubicBezTo>
                  <a:pt x="8311" y="14188"/>
                  <a:pt x="8475" y="14166"/>
                  <a:pt x="8533" y="14213"/>
                </a:cubicBezTo>
                <a:cubicBezTo>
                  <a:pt x="8557" y="14232"/>
                  <a:pt x="8561" y="14242"/>
                  <a:pt x="8582" y="14263"/>
                </a:cubicBezTo>
                <a:cubicBezTo>
                  <a:pt x="8608" y="14289"/>
                  <a:pt x="8603" y="14286"/>
                  <a:pt x="8657" y="14288"/>
                </a:cubicBezTo>
                <a:cubicBezTo>
                  <a:pt x="8741" y="14292"/>
                  <a:pt x="8757" y="14275"/>
                  <a:pt x="8830" y="14263"/>
                </a:cubicBezTo>
                <a:cubicBezTo>
                  <a:pt x="8859" y="14258"/>
                  <a:pt x="8898" y="14257"/>
                  <a:pt x="8905" y="14238"/>
                </a:cubicBezTo>
                <a:cubicBezTo>
                  <a:pt x="8929" y="14176"/>
                  <a:pt x="8905" y="14105"/>
                  <a:pt x="8930" y="14064"/>
                </a:cubicBezTo>
              </a:path>
              <a:path w="2581" h="1391">
                <a:moveTo>
                  <a:pt x="9351" y="13494"/>
                </a:moveTo>
                <a:lnTo>
                  <a:pt x="9351" y="13494"/>
                </a:lnTo>
              </a:path>
              <a:path w="2581" h="1391">
                <a:moveTo>
                  <a:pt x="9723" y="12973"/>
                </a:moveTo>
                <a:cubicBezTo>
                  <a:pt x="9723" y="13047"/>
                  <a:pt x="9720" y="12925"/>
                  <a:pt x="9723" y="12923"/>
                </a:cubicBezTo>
                <a:cubicBezTo>
                  <a:pt x="9750" y="12902"/>
                  <a:pt x="9771" y="12898"/>
                  <a:pt x="9823" y="12898"/>
                </a:cubicBezTo>
                <a:cubicBezTo>
                  <a:pt x="9930" y="12898"/>
                  <a:pt x="10038" y="12898"/>
                  <a:pt x="10145" y="12898"/>
                </a:cubicBezTo>
                <a:cubicBezTo>
                  <a:pt x="10145" y="13014"/>
                  <a:pt x="10145" y="13130"/>
                  <a:pt x="10145" y="13246"/>
                </a:cubicBezTo>
                <a:cubicBezTo>
                  <a:pt x="10089" y="13255"/>
                  <a:pt x="10080" y="13272"/>
                  <a:pt x="10046" y="13295"/>
                </a:cubicBezTo>
                <a:cubicBezTo>
                  <a:pt x="10000" y="13325"/>
                  <a:pt x="9975" y="13345"/>
                  <a:pt x="9922" y="13345"/>
                </a:cubicBezTo>
                <a:cubicBezTo>
                  <a:pt x="9910" y="13345"/>
                  <a:pt x="9784" y="13362"/>
                  <a:pt x="9773" y="13370"/>
                </a:cubicBezTo>
                <a:cubicBezTo>
                  <a:pt x="9773" y="13378"/>
                  <a:pt x="9773" y="13387"/>
                  <a:pt x="9773" y="13395"/>
                </a:cubicBezTo>
                <a:cubicBezTo>
                  <a:pt x="9887" y="13395"/>
                  <a:pt x="9996" y="13398"/>
                  <a:pt x="10096" y="13419"/>
                </a:cubicBezTo>
                <a:cubicBezTo>
                  <a:pt x="10155" y="13431"/>
                  <a:pt x="10193" y="13427"/>
                  <a:pt x="10244" y="13444"/>
                </a:cubicBezTo>
                <a:cubicBezTo>
                  <a:pt x="10292" y="13460"/>
                  <a:pt x="10294" y="13466"/>
                  <a:pt x="10294" y="13519"/>
                </a:cubicBezTo>
                <a:cubicBezTo>
                  <a:pt x="10294" y="13603"/>
                  <a:pt x="10293" y="13671"/>
                  <a:pt x="10269" y="13742"/>
                </a:cubicBezTo>
                <a:cubicBezTo>
                  <a:pt x="10258" y="13775"/>
                  <a:pt x="10223" y="13812"/>
                  <a:pt x="10195" y="13816"/>
                </a:cubicBezTo>
                <a:cubicBezTo>
                  <a:pt x="10155" y="13821"/>
                  <a:pt x="10141" y="13841"/>
                  <a:pt x="10096" y="13841"/>
                </a:cubicBezTo>
                <a:cubicBezTo>
                  <a:pt x="9956" y="13841"/>
                  <a:pt x="9583" y="13841"/>
                  <a:pt x="9723" y="13841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Ink 13"/>
          <p:cNvSpPr/>
          <p:nvPr/>
        </p:nvSpPr>
        <p:spPr>
          <a:xfrm>
            <a:off x="5724360" y="1916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115" y="9128"/>
                </a:moveTo>
                <a:lnTo>
                  <a:pt x="17115" y="9128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Ink 14"/>
          <p:cNvSpPr/>
          <p:nvPr/>
        </p:nvSpPr>
        <p:spPr>
          <a:xfrm>
            <a:off x="6084720" y="19162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976" y="8533"/>
                </a:moveTo>
                <a:lnTo>
                  <a:pt x="18976" y="8533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Ink 15"/>
          <p:cNvSpPr/>
          <p:nvPr/>
        </p:nvSpPr>
        <p:spPr>
          <a:xfrm>
            <a:off x="5796000" y="213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7562" y="9773"/>
                </a:moveTo>
                <a:lnTo>
                  <a:pt x="17562" y="9773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Ink 16"/>
          <p:cNvSpPr/>
          <p:nvPr/>
        </p:nvSpPr>
        <p:spPr>
          <a:xfrm>
            <a:off x="5940360" y="2133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132" y="9699"/>
                </a:moveTo>
                <a:lnTo>
                  <a:pt x="18132" y="9699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Ink 17"/>
          <p:cNvSpPr/>
          <p:nvPr/>
        </p:nvSpPr>
        <p:spPr>
          <a:xfrm>
            <a:off x="6084720" y="21337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8579" y="9649"/>
                </a:moveTo>
                <a:lnTo>
                  <a:pt x="18579" y="9649"/>
                </a:ln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Ink 19"/>
          <p:cNvSpPr/>
          <p:nvPr/>
        </p:nvSpPr>
        <p:spPr>
          <a:xfrm>
            <a:off x="3276720" y="1989000"/>
            <a:ext cx="411120" cy="455760"/>
          </a:xfrm>
          <a:custGeom>
            <a:avLst/>
            <a:gdLst/>
            <a:ahLst/>
            <a:rect l="l" t="t" r="r" b="b"/>
            <a:pathLst>
              <a:path w="1142" h="1266">
                <a:moveTo>
                  <a:pt x="2927" y="13891"/>
                </a:moveTo>
                <a:cubicBezTo>
                  <a:pt x="2927" y="14053"/>
                  <a:pt x="2930" y="14204"/>
                  <a:pt x="2952" y="14362"/>
                </a:cubicBezTo>
                <a:cubicBezTo>
                  <a:pt x="2964" y="14446"/>
                  <a:pt x="2964" y="14530"/>
                  <a:pt x="2977" y="14610"/>
                </a:cubicBezTo>
                <a:cubicBezTo>
                  <a:pt x="3006" y="14782"/>
                  <a:pt x="2977" y="14981"/>
                  <a:pt x="2977" y="15156"/>
                </a:cubicBezTo>
                <a:cubicBezTo>
                  <a:pt x="2989" y="15122"/>
                  <a:pt x="3020" y="15062"/>
                  <a:pt x="3026" y="15032"/>
                </a:cubicBezTo>
                <a:cubicBezTo>
                  <a:pt x="3034" y="14994"/>
                  <a:pt x="3046" y="14967"/>
                  <a:pt x="3051" y="14932"/>
                </a:cubicBezTo>
                <a:cubicBezTo>
                  <a:pt x="3059" y="14875"/>
                  <a:pt x="3033" y="14849"/>
                  <a:pt x="3026" y="14808"/>
                </a:cubicBezTo>
                <a:cubicBezTo>
                  <a:pt x="3018" y="14761"/>
                  <a:pt x="3050" y="14692"/>
                  <a:pt x="3051" y="14684"/>
                </a:cubicBezTo>
                <a:cubicBezTo>
                  <a:pt x="3059" y="14637"/>
                  <a:pt x="3065" y="14631"/>
                  <a:pt x="3076" y="14610"/>
                </a:cubicBezTo>
                <a:cubicBezTo>
                  <a:pt x="3093" y="14578"/>
                  <a:pt x="3090" y="14546"/>
                  <a:pt x="3101" y="14511"/>
                </a:cubicBezTo>
                <a:cubicBezTo>
                  <a:pt x="3109" y="14485"/>
                  <a:pt x="3154" y="14406"/>
                  <a:pt x="3175" y="14387"/>
                </a:cubicBezTo>
                <a:cubicBezTo>
                  <a:pt x="3218" y="14347"/>
                  <a:pt x="3240" y="14319"/>
                  <a:pt x="3274" y="14263"/>
                </a:cubicBezTo>
                <a:cubicBezTo>
                  <a:pt x="3307" y="14208"/>
                  <a:pt x="3294" y="14209"/>
                  <a:pt x="3349" y="14163"/>
                </a:cubicBezTo>
                <a:cubicBezTo>
                  <a:pt x="3362" y="14152"/>
                  <a:pt x="3385" y="14127"/>
                  <a:pt x="3398" y="14114"/>
                </a:cubicBezTo>
                <a:cubicBezTo>
                  <a:pt x="3398" y="14089"/>
                  <a:pt x="3398" y="14081"/>
                  <a:pt x="3423" y="14089"/>
                </a:cubicBezTo>
                <a:cubicBezTo>
                  <a:pt x="3423" y="14290"/>
                  <a:pt x="3369" y="14607"/>
                  <a:pt x="3448" y="14784"/>
                </a:cubicBezTo>
                <a:cubicBezTo>
                  <a:pt x="3478" y="14851"/>
                  <a:pt x="3515" y="14893"/>
                  <a:pt x="3572" y="14932"/>
                </a:cubicBezTo>
                <a:cubicBezTo>
                  <a:pt x="3616" y="14962"/>
                  <a:pt x="3667" y="15005"/>
                  <a:pt x="3696" y="15032"/>
                </a:cubicBezTo>
                <a:cubicBezTo>
                  <a:pt x="3760" y="15092"/>
                  <a:pt x="3748" y="15075"/>
                  <a:pt x="3820" y="15081"/>
                </a:cubicBezTo>
                <a:cubicBezTo>
                  <a:pt x="3880" y="15086"/>
                  <a:pt x="3899" y="15076"/>
                  <a:pt x="3944" y="15056"/>
                </a:cubicBezTo>
                <a:cubicBezTo>
                  <a:pt x="3983" y="15039"/>
                  <a:pt x="4047" y="14998"/>
                  <a:pt x="4068" y="14957"/>
                </a:cubicBezTo>
                <a:cubicBezTo>
                  <a:pt x="4068" y="14932"/>
                  <a:pt x="4068" y="14924"/>
                  <a:pt x="4068" y="14908"/>
                </a:cubicBezTo>
              </a:path>
            </a:pathLst>
          </a:custGeom>
          <a:noFill/>
          <a:ln cap="rnd" w="34920">
            <a:solidFill>
              <a:srgbClr val="e5e5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14240" y="571680"/>
            <a:ext cx="807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омбинаторные навыки были полезны в играх, требовавших умения рассчитывать, составлять планы и опровергать планы против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928800" y="2500200"/>
            <a:ext cx="492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 нужно нам владеть клинк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е ищем славы громкой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Тот побеждает, кто зна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 искусством мыслить тонки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ильям Уордсво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3" descr="Вильям Вордсворт.jpg"/>
          <p:cNvPicPr/>
          <p:nvPr/>
        </p:nvPicPr>
        <p:blipFill>
          <a:blip r:embed="rId1"/>
          <a:stretch/>
        </p:blipFill>
        <p:spPr>
          <a:xfrm>
            <a:off x="6357960" y="2714760"/>
            <a:ext cx="25398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428920" y="1500120"/>
            <a:ext cx="40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Комбинаторные навы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разгадывании сложных шифров помогли  французскому филолог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Жану Франсуа Шампольону  прочитать иероглифы, которыми писали египтяне еще до того, как  возникла  наука у древних греко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Рисунок 3" descr="1174684513_4574.jpg"/>
          <p:cNvPicPr/>
          <p:nvPr/>
        </p:nvPicPr>
        <p:blipFill>
          <a:blip r:embed="rId1"/>
          <a:stretch/>
        </p:blipFill>
        <p:spPr>
          <a:xfrm>
            <a:off x="6572160" y="2428920"/>
            <a:ext cx="2286000" cy="35607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214800" y="500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ероглифы и клинопис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85840" y="714240"/>
            <a:ext cx="20667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14200" y="12142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7февраля 1869 г. был открыт периодический закон элемен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785880" y="3571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Химический пасьян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Рисунок 4" descr="himiya.jpg"/>
          <p:cNvPicPr/>
          <p:nvPr/>
        </p:nvPicPr>
        <p:blipFill>
          <a:blip r:embed="rId1">
            <a:grayscl/>
          </a:blip>
          <a:stretch/>
        </p:blipFill>
        <p:spPr>
          <a:xfrm>
            <a:off x="3714840" y="928800"/>
            <a:ext cx="4701960" cy="3357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428760" y="457200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«Искать же чего-нибудь, хотя бы грибов, или какую-нибудь зависимость, нельзя иначе, как смотря и пробу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.И.Менделе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357120" y="21420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Исследования по комбинаторике проводил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Рисунок 2" descr="ttartalia.jpg"/>
          <p:cNvPicPr/>
          <p:nvPr/>
        </p:nvPicPr>
        <p:blipFill>
          <a:blip r:embed="rId1"/>
          <a:stretch/>
        </p:blipFill>
        <p:spPr>
          <a:xfrm>
            <a:off x="642960" y="928800"/>
            <a:ext cx="1571760" cy="1908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357120" y="2786040"/>
            <a:ext cx="257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икколо Тарталь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(1499 – 155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Рисунок 7" descr="galileo_sustermans.jpg"/>
          <p:cNvPicPr/>
          <p:nvPr/>
        </p:nvPicPr>
        <p:blipFill>
          <a:blip r:embed="rId2"/>
          <a:stretch/>
        </p:blipFill>
        <p:spPr>
          <a:xfrm>
            <a:off x="6929280" y="785880"/>
            <a:ext cx="1818000" cy="19288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8" descr="Блез Паскаль.jpg"/>
          <p:cNvPicPr/>
          <p:nvPr/>
        </p:nvPicPr>
        <p:blipFill>
          <a:blip r:embed="rId3"/>
          <a:stretch/>
        </p:blipFill>
        <p:spPr>
          <a:xfrm>
            <a:off x="1714680" y="3786120"/>
            <a:ext cx="204768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9" descr="Ферма.gif"/>
          <p:cNvPicPr/>
          <p:nvPr/>
        </p:nvPicPr>
        <p:blipFill>
          <a:blip r:embed="rId4"/>
          <a:stretch/>
        </p:blipFill>
        <p:spPr>
          <a:xfrm>
            <a:off x="4714920" y="3714840"/>
            <a:ext cx="2214360" cy="21430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6500880" y="30002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Галилео Галиле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1564 – 164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3143160" y="27860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жероламо Карда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1928880" y="592920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Блез Паскал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(1623 – 166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5286240" y="60008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ьер Ферм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(1601 – 166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3" descr=""/>
          <p:cNvPicPr/>
          <p:nvPr/>
        </p:nvPicPr>
        <p:blipFill>
          <a:blip r:embed="rId5"/>
          <a:stretch/>
        </p:blipFill>
        <p:spPr>
          <a:xfrm>
            <a:off x="3500280" y="785880"/>
            <a:ext cx="15717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Лейбниц.jpg"/>
          <p:cNvPicPr/>
          <p:nvPr/>
        </p:nvPicPr>
        <p:blipFill>
          <a:blip r:embed="rId1"/>
          <a:stretch/>
        </p:blipFill>
        <p:spPr>
          <a:xfrm>
            <a:off x="6357960" y="285840"/>
            <a:ext cx="2365200" cy="29890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714240" y="78588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666 г. – опубликована работа Готфрида Вильгельма Лейбница «Об искусстве комбинаторики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857160" y="34290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 этого момента комбинаторику рассматривают как самостоятельный раздел математ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1" descr="Эйлер 1.jpeg"/>
          <p:cNvPicPr/>
          <p:nvPr/>
        </p:nvPicPr>
        <p:blipFill>
          <a:blip r:embed="rId1"/>
          <a:stretch/>
        </p:blipFill>
        <p:spPr>
          <a:xfrm>
            <a:off x="6215040" y="714240"/>
            <a:ext cx="2316240" cy="23576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642960" y="35712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еонард Эйлер    рассматривал задач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разбиении чисе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паросочетания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циклических расстановка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построении магических и латинских квадрат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1" descr="Я. Бернулли.jpg"/>
          <p:cNvPicPr/>
          <p:nvPr/>
        </p:nvPicPr>
        <p:blipFill>
          <a:blip r:embed="rId1"/>
          <a:stretch/>
        </p:blipFill>
        <p:spPr>
          <a:xfrm>
            <a:off x="571680" y="642960"/>
            <a:ext cx="2286000" cy="27766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3143160" y="642960"/>
            <a:ext cx="55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1713  году было опубликовано сочинение Я.Бернул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"Искусство предположений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котором с достаточной полнотой были изложены известные к тому времени комбинаторные фак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57120" y="335772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чинение состояло из 4 частей, комбинаторике была посвящена вторая часть, в которой содержатся формулы. Для вывода формул автор использовал наиболее простые и наглядные методы, сопровождая их многочисленными таблицами и пример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928800" y="642960"/>
            <a:ext cx="7572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бором объект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и расположением и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 том или ином порядк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риходится заниматься чуть  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 во всех областях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человеческой деятель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3214800" y="357120"/>
            <a:ext cx="378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Завучу, составляющему расписание уро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3"/>
          <p:cNvSpPr/>
          <p:nvPr/>
        </p:nvSpPr>
        <p:spPr>
          <a:xfrm>
            <a:off x="3357720" y="5143680"/>
            <a:ext cx="414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онструктору, разрабатывающему новую модель механизм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28760" y="4786200"/>
            <a:ext cx="2500200" cy="166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428760" y="242892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3214800" y="26431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ителю , распределяющему различные виды работ между группами учащих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rcRect l="50542" t="0" r="0" b="3634"/>
          <a:stretch/>
        </p:blipFill>
        <p:spPr>
          <a:xfrm>
            <a:off x="6699240" y="214200"/>
            <a:ext cx="1963800" cy="271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57120" y="3571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ченому-агроному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ланирующему распределение сельскохозяйственных культур на нескольких по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Рисунок 2" descr=""/>
          <p:cNvPicPr/>
          <p:nvPr/>
        </p:nvPicPr>
        <p:blipFill>
          <a:blip r:embed="rId2"/>
          <a:srcRect l="4824" t="3405" r="4824" b="16716"/>
          <a:stretch/>
        </p:blipFill>
        <p:spPr>
          <a:xfrm>
            <a:off x="6388200" y="3429000"/>
            <a:ext cx="2398680" cy="19288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4"/>
          <p:cNvSpPr/>
          <p:nvPr/>
        </p:nvSpPr>
        <p:spPr>
          <a:xfrm>
            <a:off x="571680" y="3571920"/>
            <a:ext cx="55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имику, изучающему строение органических молекул, имеющих данный атомный соста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769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5ab6ef"/>
                </a:solidFill>
                <a:uFillTx/>
                <a:latin typeface="Garamond"/>
              </a:rPr>
              <a:t>План уро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6800" y="1856880"/>
            <a:ext cx="7637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то такое комбинаторик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много истории или зачем нужна комбинаторик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сновные понятия комбинатори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азличные комбинации из трех различных элемент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большой те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машнее зад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85840" y="4287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Люди, которые умело владеют техникой решения комбинаторных задач, а, следовательно, обладают хорошей логикой, умением рассуждать, перебирать различные варианты решений, очень часто находят выходы, казалось бы, из самых трудных безвыходных ситуац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Рисунок 4" descr="photo_371.jpg"/>
          <p:cNvPicPr/>
          <p:nvPr/>
        </p:nvPicPr>
        <p:blipFill>
          <a:blip r:embed="rId1"/>
          <a:stretch/>
        </p:blipFill>
        <p:spPr>
          <a:xfrm>
            <a:off x="6000840" y="2571840"/>
            <a:ext cx="2733480" cy="1985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285840" y="3071880"/>
            <a:ext cx="55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имер -  сказочный герой Барон Мюнхгаузен, который находил выход из любой сложной и трудной ситу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214200" y="500076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о и в жизни эти умения очень часто помогают челове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0_85fe_309ef6d_XL.jpg"/>
          <p:cNvPicPr/>
          <p:nvPr/>
        </p:nvPicPr>
        <p:blipFill>
          <a:blip r:embed="rId1"/>
          <a:srcRect l="36720" t="0" r="0" b="0"/>
          <a:stretch/>
        </p:blipFill>
        <p:spPr>
          <a:xfrm>
            <a:off x="6143760" y="1000080"/>
            <a:ext cx="2655720" cy="27860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357120" y="1000080"/>
            <a:ext cx="5857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10 молодых людей решили отпраздновать окончание средней школы товарищеским обедом в ресторане. Когда все собрались, и первое блюдо было подано, заспорили о том, как усесться вокруг стола. 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Одни предлагали разместиться в алфавитном порядке, другие по возрасту, третьи - по успеваемости, четвертые - по росту и т.д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Спор затянулся, суп успел простыть, а за стол никто не садилс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143000" y="21420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Бесплатный обе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571680" y="528624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3628800 возможных размещений за стол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= 10 тыс. 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642960" y="28584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Комбинаторика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раздел математики , в котором изучается, сколько различных комбинаций, подчиненных тем или иным условиям, можно составить из заданных объе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642960" y="214308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комбинаторики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это задача размещения объектов по специальным правилам и нахождение числа способов таких размещ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85880" y="400068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Особая примета комбинаторных задач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– вопрос, который можно сформулировать так, чтобы он начинался словами «Сколькими способами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928800" y="1214280"/>
            <a:ext cx="67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азличные комбинац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из трех различных элементо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500040" y="42876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41360" indent="-1249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1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 Три друга – Антон, Борис и Виктор  - приобрели два билета на футбольный матч на 1-е и 2-е места первого ряда стадиона. Сколько существует различных вариантов посещения футбольного матча для троих друзе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3357720" y="3214800"/>
            <a:ext cx="15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2571840" y="385776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Бори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Викто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рис и Ви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786200" y="528624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: 3 вариа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642960" y="642960"/>
            <a:ext cx="8143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2520" indent="-1082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Три друга – Антон, Борис и Виктор  - приобрели два билета на футбольный матч на 1-е и 2-е места первого ряда стадион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колько у друзей есть вариантов (способов) занять эти два места на стадионе? Записать все вариан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928800" y="3143160"/>
            <a:ext cx="314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Борис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рис и Анто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нтон и Викто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иктор и Анто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Борис и Викто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иктор и Бор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929120" y="3714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Б, БА, АВ, ВА, БВ, В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5072040" y="550080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: 6 вариа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642960" y="5716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8560" indent="-1706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очетания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комбинации некоторых элементов, в которы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орядок расположения элементов не важе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642960" y="321480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Размещения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комбинации некоторых элементов, в которых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орядок расположения элементов важе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500040" y="42876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Задача 3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. Антону, Борису и Виктору повезло, и они купили три билета на футбол на 1, 2, и 3-е места первого ряда. Сколькими способами могут занять мальчики эти мест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571680" y="2071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14720" y="2143080"/>
          <a:ext cx="6095880" cy="25956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 №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 №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сто 3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Вик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Бори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514"/>
                          </a:solidFill>
                          <a:latin typeface="Comic Sans MS"/>
                        </a:rPr>
                        <a:t>Ант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  <p:sp>
        <p:nvSpPr>
          <p:cNvPr id="200" name="TextBox 5"/>
          <p:cNvSpPr/>
          <p:nvPr/>
        </p:nvSpPr>
        <p:spPr>
          <a:xfrm>
            <a:off x="2357280" y="492912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АБВ, АВБ, БАВ, БВА, ВАБ, ВБ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071960" y="56437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: 6 способ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857160" y="714240"/>
            <a:ext cx="771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57400" indent="-2057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Перестанов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– комбинации из трех элементов, отличающиеся друг от друга порядком расположения в них элеме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6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468360" y="3068640"/>
            <a:ext cx="251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5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49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рямоугольник 13"/>
          <p:cNvSpPr/>
          <p:nvPr/>
        </p:nvSpPr>
        <p:spPr>
          <a:xfrm>
            <a:off x="1317960" y="285840"/>
            <a:ext cx="52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Ответьте на вопросы тес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4"/>
          <p:cNvSpPr/>
          <p:nvPr/>
        </p:nvSpPr>
        <p:spPr>
          <a:xfrm>
            <a:off x="500040" y="785880"/>
            <a:ext cx="864396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Комбинаторика изучает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деятельность комбинатов бытового обслуживания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способы пошива комбинезонов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способы решения задач на различные комбинации объектов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2.   Комбинаторные задачи встречаются в профессиональной деятельности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парикмахера-визажиста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диспетчера автовокзала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завуча школы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экономиста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mic Sans MS"/>
              </a:rPr>
              <a:t>повара (добавьте свой пример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3. Изменяя порядок слов: </a:t>
            </a:r>
            <a:r>
              <a:rPr b="1" i="1" lang="ru-RU" sz="2200" spc="-1" strike="noStrike">
                <a:solidFill>
                  <a:srgbClr val="ffffff"/>
                </a:solidFill>
                <a:latin typeface="Comic Sans MS"/>
              </a:rPr>
              <a:t>руки, мою, я</a:t>
            </a:r>
            <a:r>
              <a:rPr b="0" lang="ru-RU" sz="2200" spc="-1" strike="noStrike">
                <a:solidFill>
                  <a:srgbClr val="ffffff"/>
                </a:solidFill>
                <a:latin typeface="Comic Sans MS"/>
              </a:rPr>
              <a:t>, составьте всевозможные  предложе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Documents and Settings\User\Мои документы\Комбинаторика\витязь на распутье.jpg"/>
          <p:cNvPicPr/>
          <p:nvPr/>
        </p:nvPicPr>
        <p:blipFill>
          <a:blip r:embed="rId1"/>
          <a:stretch/>
        </p:blipFill>
        <p:spPr>
          <a:xfrm>
            <a:off x="1357200" y="428760"/>
            <a:ext cx="6050160" cy="3357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1214280" y="4071960"/>
            <a:ext cx="67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рямо поедешь – голову сложиш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право поедешь – коня потеряеш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налево поедешь – меча лишишь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341360"/>
            <a:ext cx="8642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 В киоске продают 5 видов конвертов и 4 вида марок. Сколькими способами можно купить конверт и марк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 Изменяя порядок слов: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руки, мою, 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составьте всевозможные  предло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 У Светланы 3 юбки и 5 кофт, удачно сочетающихся по цвету. Сколько различных комбинаций одежды имеется у Светланы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. При встрече 5 человек обменялись рукопожатиями. Сколько сделано рукопожатий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. Сколькими способами можно выбрать гласную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согласную буквы из слова «конверт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11280" y="189000"/>
            <a:ext cx="727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ндивидуальные зад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500"/>
                            </p:stCondLst>
                            <p:childTnLst>
                              <p:par>
                                <p:cTn id="5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5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Garamond"/>
              </a:rPr>
              <a:t>Задач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413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. В классе 35 учеников. 20 из них занимаются в математическом кружке, 11-в биологическом, а 10 ничем не занимаются. Поставьте вопрос к задаче и ответьте на не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7. Сколько существует способов выбора трёх ребят из 4-х желающих дежурить в столовой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8. Сколько экзаменационных комиссий, состоящих из 3    человек, можно создать из 5 преподавателей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9. Сколько различных  четных трехзначных чисел, в каждом из которых все цифры различны, можно составить из цифр 1, 2, 3, 0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. Сколькими способами можно составить расписание на день  из 4 различных уроков, если изучается 10 предметов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38840" indent="-374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1285920" y="785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Домашнее задание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тр.11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Упражнения № 1,2,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28760" y="85716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1"/>
              </a:rPr>
              <a:t>http://lh5.ggpht.com/_Wyz7kZx8vg0/S5twR8hie2I/AAAAAAAABec/aXRgi3HhXp8/s640/DSC08516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sch672.narod.ru/06010602.jpg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http://www.motivators.ru/sites/default/files/imagecache/main-motivator/motivator-14016.g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http://www.free-lancers.net/posted_files/NE8EACE9281C6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images-partners.google.com/images?q=tbn:ANd9GcT0gSExshPSEnrVEixZu_IfulqYv1cdo7uJwOQ9qS4cM-SuHJgbV7YF0g:http://combinatorica.narod.ru/Pictures_comb/Sylvester_2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http://artsoch.ru/uploads/posts/2011-11/1321129367_v.m.-vasnecov-vityaz-na-raspute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http://www.abc-people.com/data/rafael-santi/pic-8a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http://en.academic.ru/pictures/enwiki/66/Benjamin_Robert_Haydon_002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http://im2-tub-ru.yandex.net/i?id=142945126-65-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http://mineral.7910.org/mineralimages/cat/mendeleev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http://www.rubenet.it/matematici/images/tartaglia1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a-VA" sz="1800" spc="-1" strike="noStrike">
                <a:solidFill>
                  <a:srgbClr val="ffffff"/>
                </a:solidFill>
                <a:latin typeface="Times New Roman"/>
              </a:rPr>
              <a:t>http://www.learn-math.info/history/photos/Cardan_3.jpe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000080" y="21420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спользованные иллюстра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714240" y="121428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3. </a:t>
            </a:r>
            <a:r>
              <a:rPr b="0" lang="la-VA" sz="1800" spc="-1" strike="noStrike">
                <a:solidFill>
                  <a:srgbClr val="ffc000"/>
                </a:solidFill>
                <a:latin typeface="Times New Roman"/>
              </a:rPr>
              <a:t>http://s2.ipicture.ru/uploads/20120106/fSQUKM6i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4.</a:t>
            </a:r>
            <a:r>
              <a:rPr b="0" lang="la-VA" sz="1800" spc="-1" strike="noStrike">
                <a:solidFill>
                  <a:srgbClr val="ffc000"/>
                </a:solidFill>
                <a:latin typeface="Times New Roman"/>
              </a:rPr>
              <a:t>http://upload.wikimedia.org/wikipedia/commons/6/6a/Gottfried_Wilhelm_von_Leibniz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5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la-VA" sz="1800" spc="-1" strike="noStrike">
                <a:solidFill>
                  <a:srgbClr val="ffffff"/>
                </a:solidFill>
                <a:latin typeface="Times New Roman"/>
              </a:rPr>
              <a:t>http://upload.wikimedia.org/wikipedia/commons/6/60/Leonhard_Euler_2.jpg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</a:rPr>
              <a:t>1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la-VA" sz="1800" spc="-1" strike="noStrike">
                <a:solidFill>
                  <a:srgbClr val="ffffff"/>
                </a:solidFill>
                <a:latin typeface="Times New Roman"/>
              </a:rPr>
              <a:t>http://www.univer.omsk.su/omsk/Edu/Math/bbenullija.jp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71680" y="642960"/>
            <a:ext cx="785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mic Sans MS"/>
              </a:rPr>
              <a:t>Комбинаторик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аздел математики, который занят поисками ответов на вопросы: сколько всего есть комбинаций в том или ином случае, как из всех этих комбинаций выбрать наилучш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Рисунок 2" descr="ученик.gif"/>
          <p:cNvPicPr/>
          <p:nvPr/>
        </p:nvPicPr>
        <p:blipFill>
          <a:blip r:embed="rId1"/>
          <a:stretch/>
        </p:blipFill>
        <p:spPr>
          <a:xfrm>
            <a:off x="6929280" y="3286080"/>
            <a:ext cx="15876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286000" y="8571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емного исто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л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ачем нужна комбинатори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4" descr="Платон и Аристотель в Афинской акад..jpg"/>
          <p:cNvPicPr/>
          <p:nvPr/>
        </p:nvPicPr>
        <p:blipFill>
          <a:blip r:embed="rId1"/>
          <a:stretch/>
        </p:blipFill>
        <p:spPr>
          <a:xfrm>
            <a:off x="500040" y="1000080"/>
            <a:ext cx="15778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928800" y="500040"/>
            <a:ext cx="7500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ыбирали  наилучшее  располож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хотников во время ох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оинов во время битв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нструментов во время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крашений на одежд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зоров на керамик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ья в оперении стрелы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000080" y="642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вое упоминание о вопросах, близких к комбинаторным, встречается в китайских рукописях    12 – 13 вв.до н.э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1">
            <a:lum bright="70000" contrast="-70000"/>
          </a:blip>
          <a:srcRect l="18573" t="0" r="0" b="0"/>
          <a:stretch/>
        </p:blipFill>
        <p:spPr>
          <a:xfrm>
            <a:off x="1357200" y="2357280"/>
            <a:ext cx="3100680" cy="2928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5286240" y="2500200"/>
            <a:ext cx="235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2643120" y="214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В Древней Гре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00040" y="714240"/>
            <a:ext cx="77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Аристотель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описал без пропусков все виды правильных трехчленных силлогизмов 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Аристоксен из Тарента 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еречислил различные комбинации длинных и коротких слогов в стихотворных размера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зучали фигуры, которые можно было составить из частей квадрата, разрезанного особым образ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500720" y="3571920"/>
            <a:ext cx="42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*Силлогизм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– логическое  умозаключение,  в котором из двух данных суждений (посылок) получается третье (выво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4" descr="Безымянный.bmp"/>
          <p:cNvPicPr/>
          <p:nvPr/>
        </p:nvPicPr>
        <p:blipFill>
          <a:blip r:embed="rId1"/>
          <a:stretch/>
        </p:blipFill>
        <p:spPr>
          <a:xfrm>
            <a:off x="642960" y="350028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357120" y="5716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озже появились шашки, шахматы, нарды, японские шашки Го и др. игр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328608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каждой из этих игр рассматривали  различные сочетания передвигаемых фиг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ыигрывал  тот, кто их лучше изучил, знал выигрывающие комбинации и умело избегал проигрывающ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Рисунок 3" descr="025.jpg"/>
          <p:cNvPicPr/>
          <p:nvPr/>
        </p:nvPicPr>
        <p:blipFill>
          <a:blip r:embed="rId1"/>
          <a:stretch/>
        </p:blipFill>
        <p:spPr>
          <a:xfrm>
            <a:off x="571680" y="135720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нарды.jpg"/>
          <p:cNvPicPr/>
          <p:nvPr/>
        </p:nvPicPr>
        <p:blipFill>
          <a:blip r:embed="rId2"/>
          <a:stretch/>
        </p:blipFill>
        <p:spPr>
          <a:xfrm>
            <a:off x="3286080" y="1500120"/>
            <a:ext cx="2313000" cy="17146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5" descr="го.jpg"/>
          <p:cNvPicPr/>
          <p:nvPr/>
        </p:nvPicPr>
        <p:blipFill>
          <a:blip r:embed="rId3"/>
          <a:stretch/>
        </p:blipFill>
        <p:spPr>
          <a:xfrm>
            <a:off x="6715080" y="1500120"/>
            <a:ext cx="1762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8:17:15Z</dcterms:created>
  <dc:creator>User</dc:creator>
  <dc:description/>
  <dc:language>en-US</dc:language>
  <cp:lastModifiedBy>User</cp:lastModifiedBy>
  <dcterms:modified xsi:type="dcterms:W3CDTF">2012-05-26T15:02:55Z</dcterms:modified>
  <cp:revision>1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11049</vt:lpwstr>
  </property>
</Properties>
</file>