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89EC-B557-4125-9E2A-2C3DB0A91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9678-F4BF-4031-9044-6098C7AF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757E-5217-46F5-98FF-86D2318B5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B422-B978-4A76-87D4-E8DF6223D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660F-6857-4832-9006-2DB7BEDF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C96D-92C8-43B0-98D0-FDA7C5FC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67A8-D5E5-486D-8819-AE6DC5D5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6D2F-DBC8-46E4-9943-B4B7F72B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9043-D633-426D-B4C5-11E93FFD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1E34-D188-4579-B705-3E496FB6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EBDC-997D-4079-AB30-92D82EB0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D9ED-EE11-4994-9C06-0C227457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0B6E-BEAC-48D0-A734-DC9F497AC2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819160" y="4876560"/>
            <a:ext cx="60958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Ав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            </a:t>
            </a: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Новикова Асия А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Воспитатель МБДОУ ЦРР детский сад №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1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ЗАТО г. Фоки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1" descr=""/>
          <p:cNvPicPr/>
          <p:nvPr/>
        </p:nvPicPr>
        <p:blipFill>
          <a:blip r:embed="rId1"/>
          <a:stretch/>
        </p:blipFill>
        <p:spPr>
          <a:xfrm>
            <a:off x="-628560" y="1158840"/>
            <a:ext cx="9639360" cy="246240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2" descr=""/>
          <p:cNvPicPr/>
          <p:nvPr/>
        </p:nvPicPr>
        <p:blipFill>
          <a:blip r:embed="rId2"/>
          <a:stretch/>
        </p:blipFill>
        <p:spPr>
          <a:xfrm>
            <a:off x="79200" y="-146160"/>
            <a:ext cx="7517160" cy="1663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6477120" y="2897280"/>
            <a:ext cx="2514600" cy="1942920"/>
          </a:xfrm>
          <a:prstGeom prst="rect">
            <a:avLst/>
          </a:prstGeom>
          <a:ln w="0">
            <a:noFill/>
          </a:ln>
        </p:spPr>
      </p:pic>
      <p:pic>
        <p:nvPicPr>
          <p:cNvPr id="45" name="Поют_дети_-_Моя_семья_-_(mp3poisk.ru).mp3" descr=""/>
          <p:cNvPicPr/>
          <p:nvPr/>
        </p:nvPicPr>
        <p:blipFill>
          <a:blip r:embed="rId4"/>
          <a:stretch/>
        </p:blipFill>
        <p:spPr>
          <a:xfrm>
            <a:off x="8508960" y="60958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Просмотр видеофильмов и мультфильм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"/>
          <p:cNvSpPr/>
          <p:nvPr/>
        </p:nvSpPr>
        <p:spPr>
          <a:xfrm>
            <a:off x="0" y="137160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Маша больше не лентяйка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Встречайте бабушку», «В яранге горит огонь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Самый маленький гном»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Непослушный медвежонок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Разноцветная семейка», «Осторожно, обезьянки!»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Мама для мамонтён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Золушка», «Кошкин дом», «Теремок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Морозко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Марья – искусниц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147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Дидактические иг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"/>
          <p:cNvSpPr/>
          <p:nvPr/>
        </p:nvSpPr>
        <p:spPr>
          <a:xfrm>
            <a:off x="717480" y="1905120"/>
            <a:ext cx="7512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Моя квартира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Салон одежды для дома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Кому, что нужно для работы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Мамы всякие важны, мамы всякие нужн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Сюжетно-ролевые иг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049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Дом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Семья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День рождения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Поездка на пикник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Физическое развит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измину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льчиковые игры «Наша семья», «Пальчик-мальч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Театральная деяте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09120" y="1600200"/>
            <a:ext cx="815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стольный теат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Волк и семеро козлят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Три медвед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Эстетическое развит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краски на тему сем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сматривание репродукций картин Ф.П. Решетникова «Опять двойка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. Серебряковой «За завтраком», «Дочка Катя с куклами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. Брюллова «Портрет графини Ю.П. Самойловой, удаляющейся с бала с дочерью Амали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Сотрудничество с родителя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2824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Любимое блюдо моей семь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нкетирование родителей «Права родителя и ребён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емейные традиции, увлечения (альб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енеалогические древа сем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знали как называют всех родственник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делали семейные гербы (совместн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кция к международному дню семьи по девизом «объединим семью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оя семья - глазами ребенка(альб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емейный праздник «Вся семья вмести и душа на мест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Мониторинг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Объект 1" descr=""/>
          <p:cNvPicPr/>
          <p:nvPr/>
        </p:nvPicPr>
        <p:blipFill>
          <a:blip r:embed="rId1"/>
          <a:stretch/>
        </p:blipFill>
        <p:spPr>
          <a:xfrm>
            <a:off x="101520" y="1015920"/>
            <a:ext cx="8712360" cy="5283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04920" y="152280"/>
            <a:ext cx="96775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Актуальность выбранной т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286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питание любви и уважения к родным и близким, знание своей фамилии, имени и отчества родителей, своего рода и родословной, русских и семейных традиций и обычаев – основное содержание этой работы. Чувство любви к Родине зарождается в семье. А семья для малыша – это мир, в котором закладываются основы морали, отношения к людям. Членов семьи объединяет кровное родство, любовь, общие интересы. Семье принадлежит основная общественная функция – воспитание детей, она была и остается жизненно необходимой средой для сохранения и передачи социальных и культурных ценностей, определяющим фактором формирования личности ребенк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Тип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формационно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ктико -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ворче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4648320" y="3502080"/>
            <a:ext cx="3429000" cy="3066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Цель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8600" y="6858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нают ли современные дети свои корни, своих бабушек и дедушек, историю и традиции своей семьи? Каковы взаимоотношения в семьях воспитанников? Дать представление о понятиях: “род”, “родители”, “родословная”, “семья”, “родные”, “близкие”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ть понятие о русских семейных традициях, семейных реликвиях, о распределении семейных обязан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олжать развивать познавательные способности у детей, активно включать их в творческо-поисковую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ширять кругозор и обогащать словарный запас детей терминами родственных отношений, развивать связную реч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креплять детско–родительские отно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250" autoRev="1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250" autoRev="1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250" autoRev="1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250" autoRev="1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250" autoRev="1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Задачи реализуемые в проек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5192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питание уважительного отношения к истории своей семь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крепить привязанность к членам своей семьи, формировать нравственное отношение к семейным традиц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учить гордиться достижениями членов своей семь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вать творческие способности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влечь родителей в совместную с детьми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343400" y="4238640"/>
            <a:ext cx="4343400" cy="2467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9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9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Участники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ти – родители – воспита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Продолжи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меся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5486400" y="2671920"/>
            <a:ext cx="3276720" cy="3997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План достижения ц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Объект 10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826480" cy="6096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6934320" y="471168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Художественная литера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320" y="1128240"/>
            <a:ext cx="906768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ение о взаимоотношениях в семь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.Осеева «Честное слово», «Просто старушка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. Благинина «Посидим в тишине» «Волшебное слово», «Хорошее», «Сыновья», «Отомстила», В. Катаев «Цветик-семицветик», татарская народ. сказка «Три дочери», русские народ. сказки «Сестрица Алёнушка и братец Иванушка», «Гуси-лебеди»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Заучивание пословиц и поговорок о семье, дружбе, пальчиковые игры, загадывание загадок, словотвор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Создали плакат с пословицами о сем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Речь и речевое развит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2"/>
          <p:cNvSpPr/>
          <p:nvPr/>
        </p:nvSpPr>
        <p:spPr>
          <a:xfrm>
            <a:off x="152280" y="1295280"/>
            <a:ext cx="8991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седы “Моя дружная семья”, “Папа – мой лучший друг”, «Что я люблю когда мама делает…»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 оформлено в плака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мама-какая?, папа-какой?, брат и сестра-как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Какой я буду мамой (рассуждения девоче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Каким я буду папой (мысли мальчи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Что такое семья-э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Моя родослов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4729320" y="4648320"/>
            <a:ext cx="3043080" cy="2133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6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2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8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1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сия</cp:lastModifiedBy>
  <dcterms:modified xsi:type="dcterms:W3CDTF">2012-05-28T11:25:54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