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BBA-2667-459F-9E85-CFBA0A18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884-5BB0-4B25-B57F-3B770BA9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86C-CF4A-41CF-855D-F633E1B6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8430-7C73-4521-B185-B5F4D073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62F-6FA3-4712-BD18-DC5E3B15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F5D-BE8A-4B83-903B-0914DD02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C8BF-2C96-44FA-ABF3-2F4DE886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BE5B-BEB5-428B-B13C-13E2361D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9AE-C449-4940-8A77-4A86D881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66E-8CE2-41C8-90B2-F1186C54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146-9938-4424-ABE2-4F45ED4E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450-796A-4617-B53B-9EC576BA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A43F-965B-4D9B-A0D9-A7498C62A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19160" y="4876560"/>
            <a:ext cx="6095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Ав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Новикова Асия А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Воспитатель МБДОУ ЦРР детский сад №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1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ЗАТО г. Фоки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-628560" y="1158840"/>
            <a:ext cx="9639360" cy="24624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79200" y="-146160"/>
            <a:ext cx="7517160" cy="166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6477120" y="2897280"/>
            <a:ext cx="2514600" cy="1942920"/>
          </a:xfrm>
          <a:prstGeom prst="rect">
            <a:avLst/>
          </a:prstGeom>
          <a:ln w="0">
            <a:noFill/>
          </a:ln>
        </p:spPr>
      </p:pic>
      <p:pic>
        <p:nvPicPr>
          <p:cNvPr id="45" name="Поют_дети_-_Моя_семья_-_(mp3poisk.ru).mp3" descr=""/>
          <p:cNvPicPr/>
          <p:nvPr/>
        </p:nvPicPr>
        <p:blipFill>
          <a:blip r:embed="rId4"/>
          <a:stretch/>
        </p:blipFill>
        <p:spPr>
          <a:xfrm>
            <a:off x="8508960" y="6095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осмотр видеофильмов и мультфиль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0" y="13716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аша больше не лентяй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стречайте бабушку», «В яранге горит огонь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амый маленький гном»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Непослушный медвежонок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ноцветная семейка», «Осторожно, обезьянки!»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ама для мамонтён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Золушка», «Кошкин дом», «Теремо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орозко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арья – искусни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47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Дидак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717480" y="1905120"/>
            <a:ext cx="751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оя квартир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алон одежды для дом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ому, что нужно для работы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амы всякие важны, мамы всякие нуж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южетно-ролевые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04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ом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Семья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ень рождения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оездка на пикни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Физ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мину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льчиковые игры «Наша семья», «Пальчик-маль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Театраль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120" y="16002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тольный теат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олк и семеро козлят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Три медвед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Эстет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краски на тему 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атривание репродукций картин Ф.П. Решетникова «Опять двойк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. Серебряковой «За завтраком», «Дочка Катя с куклами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. Брюллова «Портрет графини Ю.П. Самойловой, удаляющейся с бала с дочерью Амали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отрудничество с род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Любимое блюдо моей семь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нкетирование родителей «Права родителя и ребён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мейные традиции, увлечения (альб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енеалогические древа сем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нали как называют всех родственни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делали семейные гербы (совмес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кция к международному дню семьи по девизом «объединим сем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я семья - глазами ребенка(альб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мейный праздник «Вся семья вмести и душа на ме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ониторинг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Объект 1" descr=""/>
          <p:cNvPicPr/>
          <p:nvPr/>
        </p:nvPicPr>
        <p:blipFill>
          <a:blip r:embed="rId1"/>
          <a:stretch/>
        </p:blipFill>
        <p:spPr>
          <a:xfrm>
            <a:off x="101520" y="1015920"/>
            <a:ext cx="8712360" cy="5283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04920" y="152280"/>
            <a:ext cx="9677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ктуальность выбранной 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любви и уважения к родным и близким, знание своей фамилии, имени и отчества родителей, своего рода и родословной, русских и семейных традиций и обычаев – основное содержание этой работы. Чувство любви к Родине зарождается в семье. А семья для малыша – это мир, в котором закладываются основы морали, отношения к людям. Членов семьи объединяет кровное родство, любовь, общие интересы. Семье принадлежит основная общественная функция – воспитание детей, она была и остается жизненно необходимой средой для сохранения и передачи социальных и культурных ценностей, определяющим фактором формирования личности ребенк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Тип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формационно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о 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648320" y="3502080"/>
            <a:ext cx="3429000" cy="3066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6858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ют ли современные дети свои корни, своих бабушек и дедушек, историю и традиции своей семьи? Каковы взаимоотношения в семьях воспитанников? Дать представление о понятиях: “род”, “родители”, “родословная”, “семья”, “родные”, “близкие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ть понятие о русских семейных традициях, семейных реликвиях, о распределении семейн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ать развивать познавательные способности у детей, активно включать их в творческо-поискову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рять кругозор и обогащать словарный запас детей терминами родственных отношений, развивать связную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реплять детско–родительски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адачи реализуемые в проек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192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уважительного отношения к истории свое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репить привязанность к членам своей семьи, формировать нравственное отношение к семейным традиц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ить гордиться достижениями членов свое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ть творческие способ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влечь родителей в совместную с детьми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43400" y="4238640"/>
            <a:ext cx="4343400" cy="246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Участники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и – родители – воспита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одолж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меся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486400" y="2671920"/>
            <a:ext cx="3276720" cy="3997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лан достижения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Объект 10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26480" cy="609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6934320" y="4711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Художественн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128240"/>
            <a:ext cx="906768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ение о взаимоотношениях в семь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.Осеева «Честное слово», «Просто старуш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. Благинина «Посидим в тишине» «Волшебное слово», «Хорошее», «Сыновья», «Отомстила», В. Катаев «Цветик-семицветик», татарская народ. сказка «Три дочери», русские народ. сказки «Сестрица Алёнушка и братец Иванушка», «Гуси-лебеди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Заучивание пословиц и поговорок о семье, дружбе, пальчиковые игры, загадывание загадок, слово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оздали плакат с пословицами о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ечь и речевое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52280" y="1295280"/>
            <a:ext cx="899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седы “Моя дружная семья”, “Папа – мой лучший друг”, «Что я люблю когда мама делает…»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оформлено в плак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мама-какая?, папа-какой?, брат и сестра-как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Какой я буду мамой (рассуждения девоч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Каким я буду папой (мысли мальчи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Что такое семья-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Моя родосло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729320" y="4648320"/>
            <a:ext cx="3043080" cy="2133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сия</cp:lastModifiedBy>
  <dcterms:modified xsi:type="dcterms:W3CDTF">2012-05-28T11:25:54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