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E42-DDF2-426F-A502-93A23D3C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D13-A152-4902-BE40-AC817BB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B0783-4F3A-4DF1-A263-0EFE5721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16A7F-E938-4A08-B917-CC201D7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918B6-47E0-426A-921C-1768E26F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1B575-B21F-4954-AAC9-ABF25D9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43907-CD97-43B8-8C1A-6307C72D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E3164-00B8-4AC2-BA30-7A712C01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6C581-FC84-406A-8E03-007D22C5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C0BEA-CB3A-4A7C-8B24-EDDE759C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158F9-AF07-4261-BA71-DE358111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8C0-7D42-4F8E-B960-88C3542F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850-8D71-4711-BA03-E12902D3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DBEB-CAE4-449A-A67A-7A8374A3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7E7A-EB36-49F1-9AA9-3DD6357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79F7-82E0-4CCD-A260-C25928FC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BAB3-3822-4039-BEF9-599B6613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D18C-BF5B-4BF9-97BB-9887778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99FD-585D-4AEA-80A8-76C18DA5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ED1A-8E6C-40E4-A9B9-2960A752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ABD-CA9E-414E-95AF-20F4FED5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8639-3C43-43BD-9B73-A7B571C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4D5B-B3E2-48BD-A738-9638C537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21E-C7DD-4AE4-92E7-9BAC7E5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3037-B42D-4C50-A413-71F65C56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687C-1FCD-4DB1-BA86-52FAEF11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18E8-B8C9-46F0-A5E7-266E5AA1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32D3-9E3E-4EA4-8271-2E4F1D34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83C3-F2D2-4506-AC2B-67D961CF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7079-C678-401E-AF2A-1DB1094E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83E6-072F-4A0F-8CB5-C10099AE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9A5-8E52-4FDA-B877-7C3F3DDC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68DA-9C27-410D-B9AF-94C963A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835A-EB4F-4543-9980-8015C23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C061-2255-4DF2-8DBB-200BBB34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34E8-2E90-4D04-AC0E-2C58809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BA7FB-A83A-4450-AD8B-8BE80B43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745AB-A717-4DD8-8551-96C3273C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D2FA4-3B31-485A-AD72-7F5CF3DD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1A25-F35D-4B04-B2AA-1F60B08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8611-91E8-4EC0-88D7-72D73BFD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83AA-A97B-484E-8660-E032B9EE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F47-09AA-4CD9-930C-A8F4863E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C13A-2E19-42A6-85C9-E9A0F877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8AEF1-853A-4365-9864-A51E129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F412-2ABE-454C-A392-249E51F9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97997-6916-42D0-A5F1-06EC90B4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3667-9696-443F-91D2-1327E914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D5D8-56DC-4715-B078-4E9F2583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46F0E-5718-4FFB-8F7D-CCB37959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D230-6A03-4B6C-A083-70028B48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3482-4939-4D1E-972A-D496FB27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32E93-7987-41AD-874C-0C4201C3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EC1-A6C2-4D03-9819-3EA146D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B6DE-2B90-4D54-87E5-B3ADA309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CCBB7-9617-461B-AC27-DA78FF8B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CC5A8-914C-4065-B268-29A0F31A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9A9DD-8513-4D04-942A-09F38368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2AEDF-B48A-40CD-9765-641048F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16292-BFA4-4909-873C-2AD5E3F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6D585-57CF-4D44-8FF9-C93E124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2DA7C-B8F7-48D1-979E-8E35A28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425B1-766C-410B-B25D-45D9944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93DCD-3B0D-47F1-BB7C-FE7CBF10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49C-44AC-41E7-8C20-E2DC1BC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FD9E5-7FFD-48D9-96A1-741489B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81AC-312E-4F47-866C-0C3481C4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8A13A-FBCF-4A82-86C9-1324E29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D4988-DE8F-4B49-B2D9-02CDE331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CE09C-E1DA-4AE2-A8E1-0F7FCA6B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A50E0-2868-47EE-8E8F-E37D61D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1A59E-042A-42A7-80D5-A52C24C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C95E8-EB8B-414F-9B1C-BE855EEC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82475-63BB-4722-AA59-C6B09957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0185D-8526-42B0-B6CA-F6C6725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93F-A2A3-4A2F-BA19-43BFCB4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57294-ACE9-4994-B188-541E4893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E2712-9F3D-466D-993E-70D0B173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AF2F-729B-43AE-B8D2-3018770C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6823B-CADA-4A28-8D08-49AF3933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A33B-FD6D-47E1-9E16-9E35819C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8DE1F-A55C-4ABF-9AA2-2352E8B3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A64FE-30A7-4F18-90AD-2317E957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82E2F-A070-43AB-B500-F0335CF9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F775A-2730-41A2-8AA3-E439C19E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604C6-BC77-4E89-9D2B-478224D3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3A1-28A4-4619-A313-795DD55F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7F21-61F7-45B3-9A5E-9A1502D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4966-7825-43C6-8DB0-BC72FCC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80B10-09B1-4AB9-85E5-EA31696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77442-FEB6-444F-B9BF-9DCA002D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CA93-A9CC-4B4B-86A7-5C7089D7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4EE2F-307B-454B-832C-58A6F8CB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2E76-A8ED-47A1-85F0-EA266EFA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46825-D215-4575-9A28-2076BA2F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7467-82A4-43D9-86DA-E76C146D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17880-E863-46A3-919E-032B6E5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2C5-A563-46C8-9E98-D510D516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770D-C37C-4A82-A544-9943D62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36E0-5A7C-4857-B5E4-AFDF347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0F65D-AD9B-4D9B-A6C2-177A05ED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B1E5F-81B9-4393-858E-B13DF3DA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7B872-363B-404F-9E26-567EBFCB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4F1D-0667-42E4-BC6A-283C07CD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0441-AD06-4F8C-B021-979094AE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39A87-14FF-496E-B96C-5CEF7567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F0C26-6C53-414E-9A86-8C101F0B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DDB9B-F851-4101-9C2B-61DC6730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643D-5CFF-4599-B022-212CEF5615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6E6-582F-4634-A7F9-1AD5765B7D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3069-215F-4037-A898-36726A3566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9F80-7F6F-4C91-9C06-E967C8E29A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8946-EE7D-4D7D-BAD9-23B9A386B6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B46-82D1-465C-8B09-3EB94C6047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7E5F-D156-432C-AD06-305A5ABA35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380-0D2E-46F0-9B6E-430067A9FA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083-14C0-45C7-96B8-843491F500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642600" y="357120"/>
            <a:ext cx="8062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БОУ СОШ №34 Кировского района ГО г.Уф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учно-исследовательская работа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ределение витамина С в основных источник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Выполнил: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ученик 9А класса Давтян Паруйр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аучный руководитель: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Давлетова Л.И. , учитель хими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фа 2011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213920" y="499680"/>
            <a:ext cx="70628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3" descr="C:\Documents and Settings\Владелец\Рабочий стол\фрукты\и.JPG"/>
          <p:cNvPicPr/>
          <p:nvPr/>
        </p:nvPicPr>
        <p:blipFill>
          <a:blip r:embed="rId1"/>
          <a:srcRect l="8674" t="11361" r="9887" b="39776"/>
          <a:stretch/>
        </p:blipFill>
        <p:spPr>
          <a:xfrm>
            <a:off x="1785960" y="2000160"/>
            <a:ext cx="5454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517680" y="255600"/>
            <a:ext cx="7986600" cy="1701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Владелец\Рабочий стол\media_materials\витамины.JPG"/>
          <p:cNvPicPr/>
          <p:nvPr/>
        </p:nvPicPr>
        <p:blipFill>
          <a:blip r:embed="rId2"/>
          <a:stretch/>
        </p:blipFill>
        <p:spPr>
          <a:xfrm>
            <a:off x="1928880" y="2000160"/>
            <a:ext cx="53910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85480" y="214200"/>
            <a:ext cx="854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тамин C (аскорбиновая кислота) важен для роста и восстановления клеток тканей, десен, кровеносных сосудов, костей и зубов, способствует усвоению организмом железа, ускоряет выздоровлени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еловек не способен синтезировать витамин С, и все необходимое количество его получает с пищей, главным образом с овощами, фруктами и ягодами. В организме витамин не накапливается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6" descr="C:\Documents and Settings\Владелец\Рабочий стол\фрукты\не бол.jpg"/>
          <p:cNvPicPr/>
          <p:nvPr/>
        </p:nvPicPr>
        <p:blipFill>
          <a:blip r:embed="rId1"/>
          <a:stretch/>
        </p:blipFill>
        <p:spPr>
          <a:xfrm>
            <a:off x="428760" y="4643280"/>
            <a:ext cx="83106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499680"/>
            <a:ext cx="82580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ределить количество витамина С в    основных его источник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и: - 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ить литературные сведения о витамине С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оанализировать методы обнаружения витамина С в его источниках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ыбрать методику для собственного эксперимен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овести экспериментальное определение количества витамина С в основных источника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Medium"/>
              </a:rPr>
              <a:t>Источники витамина С</a:t>
            </a:r>
            <a:br>
              <a:rPr sz="29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214200" y="1214280"/>
            <a:ext cx="41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начительное количество аскорбиновой кислоты содержится в продуктах растительного происхождения (цитрусовые, овощи листовые зеленые, дыня, брокколи, брюссельская капуста, цветная и кочанная капуста, черная смородина, болгарский перец, земляника, помидоры, яблоки, абрикосы, персики, хурма, облепиха, шиповник, рябина, печеный картофель в "мундире"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4329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7" descr=""/>
          <p:cNvPicPr/>
          <p:nvPr/>
        </p:nvPicPr>
        <p:blipFill>
          <a:blip r:embed="rId1"/>
          <a:srcRect l="14860" t="6403" r="0" b="3072"/>
          <a:stretch/>
        </p:blipFill>
        <p:spPr>
          <a:xfrm>
            <a:off x="6786720" y="1285920"/>
            <a:ext cx="2120760" cy="392904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85480" y="356760"/>
            <a:ext cx="6429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0" algn="just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итрование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это определение концентрации раствора добавлением к нему другого раствора известной концентраци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7600" indent="0" algn="just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итрующий раствор приливают из бюретки в исследуемый раствор, находящийся в конической колбе, до тех пор, пока не завершится химическая реакция между растворами. Конечная точка титрования – признак завершения титрования обнаруживается по изменению окраски индикатор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99680" y="285480"/>
            <a:ext cx="5715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аскорбиновой кислоты характерна быстрая реакция с йодом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8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I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→ C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2H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скорбиновая кислота превращается в дегидроаскорбиновую кислот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бодный йод ведет себя как окислитель: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2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→ 2I</a:t>
            </a:r>
            <a:r>
              <a:rPr b="1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йодид-ионы (I</a:t>
            </a:r>
            <a:r>
              <a:rPr b="0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 отдают свои электроны окислителям и играют роль восстановителей: 2I</a:t>
            </a:r>
            <a:r>
              <a:rPr b="0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+ 2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→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аскорбиновую кислоту титровать йодом в присутствии крахмала, то после окончания титрования избыточная капля йода вызовет неисчезающую синюю окраск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3" descr="C:\Documents and Settings\Владелец\Рабочий стол\фрукты\Img01_29-11-2011.JPG"/>
          <p:cNvPicPr/>
          <p:nvPr/>
        </p:nvPicPr>
        <p:blipFill>
          <a:blip r:embed="rId1"/>
          <a:stretch/>
        </p:blipFill>
        <p:spPr>
          <a:xfrm>
            <a:off x="6715080" y="285840"/>
            <a:ext cx="2193840" cy="6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85840" y="1014480"/>
          <a:ext cx="8572320" cy="4343400"/>
        </p:xfrm>
        <a:graphic>
          <a:graphicData uri="http://schemas.openxmlformats.org/drawingml/2006/table">
            <a:tbl>
              <a:tblPr/>
              <a:tblGrid>
                <a:gridCol w="2085840"/>
                <a:gridCol w="1666800"/>
                <a:gridCol w="1484280"/>
                <a:gridCol w="1667160"/>
                <a:gridCol w="1668240"/>
              </a:tblGrid>
              <a:tr h="108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нализируемый 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сока для ана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бъем раствора йода (в м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витамина С в 25 мл с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 витамина С в 100м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апельс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(свежевыжаты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из упаков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+ 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к +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0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твар шипов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скорбиновая кисло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(в таблетка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0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Rectangle 5"/>
          <p:cNvSpPr/>
          <p:nvPr/>
        </p:nvSpPr>
        <p:spPr>
          <a:xfrm>
            <a:off x="642960" y="359640"/>
            <a:ext cx="792972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дная таблица результатов определения витамина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9" descr="C:\Documents and Settings\Владелец\Рабочий стол\фрукты\Img02_29-11-2011.JPG"/>
          <p:cNvPicPr/>
          <p:nvPr/>
        </p:nvPicPr>
        <p:blipFill>
          <a:blip r:embed="rId1"/>
          <a:srcRect l="15007" t="20000" r="25003" b="16012"/>
          <a:stretch/>
        </p:blipFill>
        <p:spPr>
          <a:xfrm>
            <a:off x="428760" y="5500800"/>
            <a:ext cx="1714320" cy="11430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5" descr="C:\Documents and Settings\Владелец\Рабочий стол\фрукты\Img06_29-11-2011.JPG"/>
          <p:cNvPicPr/>
          <p:nvPr/>
        </p:nvPicPr>
        <p:blipFill>
          <a:blip r:embed="rId2"/>
          <a:srcRect l="15939" t="0" r="18722" b="33917"/>
          <a:stretch/>
        </p:blipFill>
        <p:spPr>
          <a:xfrm>
            <a:off x="7429680" y="5572080"/>
            <a:ext cx="1427040" cy="10749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6" descr="C:\Documents and Settings\Владелец\Рабочий стол\фрукты\Img03_29-11-2011.JPG"/>
          <p:cNvPicPr/>
          <p:nvPr/>
        </p:nvPicPr>
        <p:blipFill>
          <a:blip r:embed="rId3"/>
          <a:srcRect l="24636" t="0" r="30363" b="5457"/>
          <a:stretch/>
        </p:blipFill>
        <p:spPr>
          <a:xfrm>
            <a:off x="2500200" y="5572080"/>
            <a:ext cx="1357560" cy="107172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7" descr="C:\Documents and Settings\Владелец\Рабочий стол\фрукты\Img04_29-11-2011.JPG"/>
          <p:cNvPicPr/>
          <p:nvPr/>
        </p:nvPicPr>
        <p:blipFill>
          <a:blip r:embed="rId4"/>
          <a:srcRect l="20374" t="17804" r="22563" b="7356"/>
          <a:stretch/>
        </p:blipFill>
        <p:spPr>
          <a:xfrm>
            <a:off x="5715000" y="5560920"/>
            <a:ext cx="1285920" cy="101124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8" descr="C:\Documents and Settings\Владелец\Рабочий стол\фрукты\Img05_29-11-2011.JPG"/>
          <p:cNvPicPr/>
          <p:nvPr/>
        </p:nvPicPr>
        <p:blipFill>
          <a:blip r:embed="rId5"/>
          <a:srcRect l="9886" t="23872" r="53858" b="34497"/>
          <a:stretch/>
        </p:blipFill>
        <p:spPr>
          <a:xfrm>
            <a:off x="4214880" y="557208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2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11444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500040" y="551160"/>
            <a:ext cx="8215200" cy="60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ы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Наибольшее количество витамина С содержится в свежих овощах и фруктах, особенно в плодах шиповника, черной смородины, красном перце, укропе, петрушке, лимон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Витамин С неустойчив и легко разрушается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рисутствии окислителей (O</a:t>
            </a:r>
            <a:r>
              <a:rPr b="0" lang="ru-RU" sz="24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вету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рисутствии солей железа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 тепловой обработк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 algn="just">
              <a:lnSpc>
                <a:spcPct val="150000"/>
              </a:lnSpc>
              <a:buClr>
                <a:srgbClr val="0070c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 длительном хранен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56:37Z</dcterms:created>
  <dc:creator>1</dc:creator>
  <dc:description/>
  <dc:language>en-US</dc:language>
  <cp:lastModifiedBy>syrok</cp:lastModifiedBy>
  <dcterms:modified xsi:type="dcterms:W3CDTF">2011-11-29T23:27:34Z</dcterms:modified>
  <cp:revision>114</cp:revision>
  <dc:subject/>
  <dc:title>Таинство чая</dc:title>
</cp:coreProperties>
</file>