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877-90DA-4890-B65B-BFA7164F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B81-CCF9-4CBF-85CA-721FC96C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5CCF1-1F60-4ADA-B199-79FEC880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4F617-1A89-45E0-A384-39DA8E53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15191-9904-4CD0-8597-B8F8111C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40A9A-9DEC-4033-84FB-32E53CDB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6A390-0F5B-417A-9569-CC116CCC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93769-9429-4F99-9E83-6B1851A8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56049-2211-4C6C-9230-9F777394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74D10-5152-4626-8364-90AA4ABF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0B4FB-9932-4DC6-9F3B-ACC8842C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A56-B00E-41D1-9FA3-59514EDE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2C0-C3DA-42C4-BCF0-F539E32E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22A4-2967-4032-97E1-0A7EC242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CA9E-7348-41AD-8D20-BC628CC8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C6EE-BB92-48B6-A7DF-C5E4DF5F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DFDC-3141-433A-A295-9B5106D7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344A-4FB5-4C51-B1E4-535996D0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C097-BD0D-42AD-ACC6-2AB7FDFC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BFCF-1554-4437-BB5B-342B524D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D59-2263-42C5-B3C4-ABC603D4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1F4A-B82F-4439-A092-CBB60D55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78D8-8798-4E08-888A-70860074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B2D9-4EDA-46F5-A191-A8151451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F7AE-A27F-4A4D-8AC2-1F534741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8DBC-8A2C-4B39-903E-DCCF5579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3B75-A3C9-4C44-BC25-F6894346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AEAD-6F1F-48B8-9952-CA5CDADA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566E-51DF-404F-A9C3-13D81026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FA9A0-71B9-4D5E-ADD6-4B6CFDF2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42EA-A793-4F75-8BCE-99C9AAEC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531-48C8-4060-B825-6FEA03AF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CE718-1CD4-43ED-882C-A194566B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2F16E-08CD-4A52-8869-77E5B3F5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6622-DFB8-4136-AA38-E1DBE606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67D1-702A-4EAB-904E-1A7D8FEC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4DA82-7B1D-4CD0-A55F-2BE433CD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F89A2-D0E0-4030-B100-E90D53E8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034A-A6FB-4A80-8578-E00EE4EF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4A23-0455-4110-8BD8-650E8BD5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C95D6-55AE-475D-8DE2-01A7E003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EDE88-827D-4770-B592-FE9D801B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B41-887F-4145-A1F6-BBC915ED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B6F1-A95B-40A8-A260-F1AA1937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B6EA-4ABD-4ED1-8848-1EBFD482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5BBD-EF7D-4622-A774-EADBBD1C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0C95A-D9B4-4534-853A-CDDB9175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2509D-28DB-42C2-A4C6-21EB84A5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CE0E5-190E-4DB0-A5C5-4AC4A68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A8589-C1C4-4AAD-B827-E316FFB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373F-587A-4D8C-B2B4-8C295DA9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49A3-EFBF-4D8E-A44E-079690F2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9F756-FB57-4032-BEB7-A57EF7A6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34F-B2AE-4851-B0FB-D12C617C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7952D-74F4-4284-BEE1-863DF26D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2F40A-4A91-4A3E-8F8B-C85CFB62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1F1D4-0918-401B-AE21-8B027694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E3CB-78DE-46BF-A9D3-77C409B2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EFC34-F404-4E2B-9E70-99C1063D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2594D-8B4B-4947-93EB-93CE8C62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DD30D-4301-47D0-8B15-8CEF16A2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559AB-43DD-4A6E-8001-576408DF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26D10-D477-44FE-A310-BB53F359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CF80-7E42-40AB-9A6E-03143825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D2F-7841-43AB-BE17-B7AC7E94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131A-A766-4AAA-B703-B0E48AD5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719BE-441A-4F26-AA70-5BB89403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570EB-1496-40D8-8293-164E560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E5EC-6B9C-45E4-B9A4-5ACD9AD7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6732E-3A9C-4BBE-B202-9C851BB5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C5ADF-BC42-43D8-B730-6652367F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DAEF7-0ECC-4542-8C10-A3E8F0B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8BE60-8A02-42CD-823E-CAA89879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0FB80-0A18-4FF5-B1F6-48393ACA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F0546-39FF-4040-B081-6D6DDD8B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A06-34C2-4DD6-913F-91BB58A0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C13DC-C873-4754-8635-3367F821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0CF96-FD94-41C7-83DF-552D0547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6DEBF-92B9-4F90-BACF-2767F36F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A8018-31F6-4DFA-92E6-E268223E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10A15-A880-48DE-ADCA-76ACE687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5A01E-35D7-447E-A599-EF1273E7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DF557-B1E1-48A8-8466-7841AA22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D0A15-1C43-4A4C-872B-3BD6BFB0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3A871-9424-40AE-9C35-8654A91C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88B37-2DE6-4AE0-BE26-D1AE1E2B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66A-520D-4DE4-99DC-EEB67AA7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99C73-56FA-4501-8F2D-58AB850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C58BA-F562-47BE-BDBC-11BC9E8B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49F7A-5709-420A-9823-6B609418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1AA02-5431-4AF1-865B-EED255B5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AC758-783E-44A6-A462-C2F22897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0ED8D-5F2F-4670-B9C2-689C36AB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6CF60-6F7B-47AC-AFA5-4231B1D9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9C31C-41B5-4A77-B3FB-0E9351C0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7100C-C114-4763-8998-B09D8E6B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3A3C3-FA24-4A1B-8A1A-874CC482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D0C-0420-48B5-9803-D3FF19F4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15E85-C930-468C-BCC8-83D43AAC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678AF-3A65-4500-B40E-3A1CA625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DEC57-3466-4B6C-B32F-8751A91D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B6EDB-9E4A-4912-BE5B-7E6184B0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36D15-B22F-4660-8EA4-C091B2A0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24FD0-F2FF-4DFB-9A1E-C63E5597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2C82B-CE24-4725-89E3-7478B5D1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11931-4B11-4D5C-919F-260A89AE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288C5-0F7C-4F82-B379-92222828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1E06D-1F5A-40BE-B914-241E9ECB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0C68-E5AA-419A-97C4-9634A9D596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71E1-9319-468B-A9BD-CB411A9331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0F0D-9509-497C-A54C-3A225D0623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A7F4-A041-4F3C-A0CF-085333E230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214D-D458-468D-9C84-1125B80D25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621A-B108-434C-91AA-96045C23B5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B9D6-E7FC-4737-A7E4-BDDB6C22F2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0CF0-47F0-42F8-B554-AA86F5E2A5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05DB-FE08-4B12-93EE-EEE0F3ED98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42600" y="357120"/>
            <a:ext cx="8062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БОУ СОШ №34 Кировского района ГО г.Уф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учно-исследовательская работ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ределение витамина С в основных источни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ыполнил: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ученик 9А класса Давтян Паруйр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Научный руководитель: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Давлетова Л.И. , учитель хим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фа 2011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213920" y="499680"/>
            <a:ext cx="706284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3" descr="C:\Documents and Settings\Владелец\Рабочий стол\фрукты\и.JPG"/>
          <p:cNvPicPr/>
          <p:nvPr/>
        </p:nvPicPr>
        <p:blipFill>
          <a:blip r:embed="rId1"/>
          <a:srcRect l="8674" t="11361" r="9887" b="39776"/>
          <a:stretch/>
        </p:blipFill>
        <p:spPr>
          <a:xfrm>
            <a:off x="1785960" y="2000160"/>
            <a:ext cx="5454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517680" y="255600"/>
            <a:ext cx="7986600" cy="1701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Владелец\Рабочий стол\media_materials\витамины.JPG"/>
          <p:cNvPicPr/>
          <p:nvPr/>
        </p:nvPicPr>
        <p:blipFill>
          <a:blip r:embed="rId2"/>
          <a:stretch/>
        </p:blipFill>
        <p:spPr>
          <a:xfrm>
            <a:off x="1928880" y="2000160"/>
            <a:ext cx="5391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85480" y="214200"/>
            <a:ext cx="854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тамин C (аскорбиновая кислота) важен для роста и восстановления клеток тканей, десен, кровеносных сосудов, костей и зубов, способствует усвоению организмом железа, ускоряет выздоровлени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еловек не способен синтезировать витамин С, и все необходимое количество его получает с пищей, главным образом с овощами, фруктами и ягодами. В организме витамин не накапливается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6" descr="C:\Documents and Settings\Владелец\Рабочий стол\фрукты\не бол.jpg"/>
          <p:cNvPicPr/>
          <p:nvPr/>
        </p:nvPicPr>
        <p:blipFill>
          <a:blip r:embed="rId1"/>
          <a:stretch/>
        </p:blipFill>
        <p:spPr>
          <a:xfrm>
            <a:off x="428760" y="4643280"/>
            <a:ext cx="83106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499680"/>
            <a:ext cx="8258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ределить количество витамина С в    основных его источника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: -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ить литературные сведения о витамине С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оанализировать методы обнаружения витамина С в его источниках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ыбрать методику для собственного эксперимент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овести экспериментальное определение количества витамина С в основных источника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Medium"/>
              </a:rPr>
              <a:t>Источники витамина С</a:t>
            </a:r>
            <a:br>
              <a:rPr sz="29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Прямоугольник 4"/>
          <p:cNvSpPr/>
          <p:nvPr/>
        </p:nvSpPr>
        <p:spPr>
          <a:xfrm>
            <a:off x="214200" y="1214280"/>
            <a:ext cx="414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начительное количество аскорбиновой кислоты содержится в продуктах растительного происхождения (цитрусовые, овощи листовые зеленые, дыня, брокколи, брюссельская капуста, цветная и кочанная капуста, черная смородина, болгарский перец, земляника, помидоры, яблоки, абрикосы, персики, хурма, облепиха, шиповник, рябина, печеный картофель в "мундире"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4572000" y="1428840"/>
            <a:ext cx="4329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7" descr=""/>
          <p:cNvPicPr/>
          <p:nvPr/>
        </p:nvPicPr>
        <p:blipFill>
          <a:blip r:embed="rId1"/>
          <a:srcRect l="14860" t="6403" r="0" b="3072"/>
          <a:stretch/>
        </p:blipFill>
        <p:spPr>
          <a:xfrm>
            <a:off x="6786720" y="1285920"/>
            <a:ext cx="2120760" cy="39290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85480" y="356760"/>
            <a:ext cx="64292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 algn="just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итровани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это определение концентрации раствора добавлением к нему другого раствора известной концентраци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7600" indent="0" algn="just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итрующий раствор приливают из бюретки в исследуемый раствор, находящийся в конической колбе, до тех пор, пока не завершится химическая реакция между растворами. Конечная точка титрования – признак завершения титрования обнаруживается по изменению окраски индикатор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99680" y="285480"/>
            <a:ext cx="57150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аскорбиновой кислоты характерна быстрая реакция с йодом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+ I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→ C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+ 2HI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скорбиновая кислота превращается в дегидроаскорбиновую кислоту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ободный йод ведет себя как окислитель: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+ 2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→ 2I</a:t>
            </a:r>
            <a:r>
              <a:rPr b="1" lang="ru-RU" sz="24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йодид-ионы (I</a:t>
            </a:r>
            <a:r>
              <a:rPr b="0" lang="ru-RU" sz="24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 отдают свои электроны окислителям и играют роль восстановителей: 2I</a:t>
            </a:r>
            <a:r>
              <a:rPr b="0" lang="ru-RU" sz="24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+ 2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аскорбиновую кислоту титровать йодом в присутствии крахмала, то после окончания титрования избыточная капля йода вызовет неисчезающую синюю окраску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3" descr="C:\Documents and Settings\Владелец\Рабочий стол\фрукты\Img01_29-11-2011.JPG"/>
          <p:cNvPicPr/>
          <p:nvPr/>
        </p:nvPicPr>
        <p:blipFill>
          <a:blip r:embed="rId1"/>
          <a:stretch/>
        </p:blipFill>
        <p:spPr>
          <a:xfrm>
            <a:off x="6715080" y="285840"/>
            <a:ext cx="2193840" cy="62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285840" y="1014480"/>
          <a:ext cx="8572320" cy="4343400"/>
        </p:xfrm>
        <a:graphic>
          <a:graphicData uri="http://schemas.openxmlformats.org/drawingml/2006/table">
            <a:tbl>
              <a:tblPr/>
              <a:tblGrid>
                <a:gridCol w="2085840"/>
                <a:gridCol w="1666800"/>
                <a:gridCol w="1484280"/>
                <a:gridCol w="1667160"/>
                <a:gridCol w="1668240"/>
              </a:tblGrid>
              <a:tr h="108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нализируемый 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ество сока для анал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бъем раствора йода (в м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ество витамина С в 25 мл с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ество витамина С в 10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к апельс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(свежевыжат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к из упаков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к + 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к +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0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твар шипов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8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корбиновая кисло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(в таблетк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Rectangle 5"/>
          <p:cNvSpPr/>
          <p:nvPr/>
        </p:nvSpPr>
        <p:spPr>
          <a:xfrm>
            <a:off x="642960" y="359640"/>
            <a:ext cx="79297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одная таблица результатов определения витамина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9" descr="C:\Documents and Settings\Владелец\Рабочий стол\фрукты\Img02_29-11-2011.JPG"/>
          <p:cNvPicPr/>
          <p:nvPr/>
        </p:nvPicPr>
        <p:blipFill>
          <a:blip r:embed="rId1"/>
          <a:srcRect l="15007" t="20000" r="25003" b="16012"/>
          <a:stretch/>
        </p:blipFill>
        <p:spPr>
          <a:xfrm>
            <a:off x="428760" y="55008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5" descr="C:\Documents and Settings\Владелец\Рабочий стол\фрукты\Img06_29-11-2011.JPG"/>
          <p:cNvPicPr/>
          <p:nvPr/>
        </p:nvPicPr>
        <p:blipFill>
          <a:blip r:embed="rId2"/>
          <a:srcRect l="15939" t="0" r="18722" b="33917"/>
          <a:stretch/>
        </p:blipFill>
        <p:spPr>
          <a:xfrm>
            <a:off x="7429680" y="5572080"/>
            <a:ext cx="1427040" cy="10749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6" descr="C:\Documents and Settings\Владелец\Рабочий стол\фрукты\Img03_29-11-2011.JPG"/>
          <p:cNvPicPr/>
          <p:nvPr/>
        </p:nvPicPr>
        <p:blipFill>
          <a:blip r:embed="rId3"/>
          <a:srcRect l="24636" t="0" r="30363" b="5457"/>
          <a:stretch/>
        </p:blipFill>
        <p:spPr>
          <a:xfrm>
            <a:off x="2500200" y="5572080"/>
            <a:ext cx="1357560" cy="10717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7" descr="C:\Documents and Settings\Владелец\Рабочий стол\фрукты\Img04_29-11-2011.JPG"/>
          <p:cNvPicPr/>
          <p:nvPr/>
        </p:nvPicPr>
        <p:blipFill>
          <a:blip r:embed="rId4"/>
          <a:srcRect l="20374" t="17804" r="22563" b="7356"/>
          <a:stretch/>
        </p:blipFill>
        <p:spPr>
          <a:xfrm>
            <a:off x="5715000" y="5560920"/>
            <a:ext cx="1285920" cy="10112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8" descr="C:\Documents and Settings\Владелец\Рабочий стол\фрукты\Img05_29-11-2011.JPG"/>
          <p:cNvPicPr/>
          <p:nvPr/>
        </p:nvPicPr>
        <p:blipFill>
          <a:blip r:embed="rId5"/>
          <a:srcRect l="9886" t="23872" r="53858" b="34497"/>
          <a:stretch/>
        </p:blipFill>
        <p:spPr>
          <a:xfrm>
            <a:off x="4214880" y="557208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2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242200" cy="11444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500040" y="551160"/>
            <a:ext cx="8215200" cy="60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воды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Наибольшее количество витамина С содержится в свежих овощах и фруктах, особенно в плодах шиповника, черной смородины, красном перце, укропе, петрушке, лимон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Витамин С неустойчив и легко разрушается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70c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присутствии окислителей (O</a:t>
            </a:r>
            <a:r>
              <a:rPr b="0" lang="ru-RU" sz="24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70c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свету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70c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присутствии солей железа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70c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 тепловой обработк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70c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 длительном хранен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56:37Z</dcterms:created>
  <dc:creator>1</dc:creator>
  <dc:description/>
  <dc:language>en-US</dc:language>
  <cp:lastModifiedBy>syrok</cp:lastModifiedBy>
  <dcterms:modified xsi:type="dcterms:W3CDTF">2011-11-29T23:27:34Z</dcterms:modified>
  <cp:revision>114</cp:revision>
  <dc:subject/>
  <dc:title>Таинство чая</dc:title>
</cp:coreProperties>
</file>