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BFB-048C-457D-9DAD-0E3DB185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410-D98E-453C-A1A5-8EC0AE2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C54-33D0-4972-9D31-154A94B2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FD4D-443A-4F46-8A25-FA6C6C0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4F4F6-7AFF-4C0F-99D9-37475766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21207-25E2-4C02-A262-AB5A704B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7B5A4-AF65-4E7D-8D1B-E3E1B41A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83EF3-87EF-49AF-8223-F7EFD181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2EBE6-57A0-487C-899D-02236052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4B231-A33C-43A8-B0D0-D4D3D4EA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614C-1528-46B7-9D98-ED5CE2A2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0A9-292A-4826-A15C-AEEC492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D5EE-2154-4F46-97A8-9125A26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215E-54FF-4F68-8012-5044EAE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C8FC5-88A9-4CF3-AD39-6AEDA91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DCC94-EBCE-4A1F-A0F6-F74D0B45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F7518-37C1-4135-BBAF-AF9AF491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C4F-AE7D-4C78-BDB3-EB25369F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96A-D804-46C4-804E-4646B13F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B04-58B9-4947-B145-1C709F31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706-F91B-41BE-B9E3-91CF8B90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412-132A-491A-99E4-55126C49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C34-BCB2-43FB-98C4-F1C4E2C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867-4681-405D-AA29-8A4A5343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9F0A-366A-4398-A823-78B633A5B6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E78B-20DC-4396-A774-26F2D1B329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fachildren.ru/" TargetMode="External"/><Relationship Id="rId3" Type="http://schemas.openxmlformats.org/officeDocument/2006/relationships/hyperlink" Target="http://culture.mchs.gov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allery_962_51414.jpg"/>
          <p:cNvPicPr/>
          <p:nvPr/>
        </p:nvPicPr>
        <p:blipFill>
          <a:blip r:embed="rId3"/>
          <a:stretch/>
        </p:blipFill>
        <p:spPr>
          <a:xfrm>
            <a:off x="5580000" y="4005360"/>
            <a:ext cx="2749680" cy="1819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332000" y="260280"/>
            <a:ext cx="6305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безопасности на льду.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5877000"/>
            <a:ext cx="1984320" cy="5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нструктаж №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6247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нтернет - 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http://гык.рф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  <a:hlinkClick r:id="rId2"/>
              </a:rPr>
              <a:t>http://www.ufachildren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Tahoma"/>
                <a:hlinkClick r:id="rId3"/>
              </a:rPr>
              <a:t>http://culture.mchs.gov.ru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http://zrochs.aplus.by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7093080" cy="47023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Прежде чем двигаться по льду, надо убедиться в его прочности, проверенной взрослыми людь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Идти следует по уже проложенной тро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6197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е следует спускаться на лыжах и санках в незнакомом месте с обрыв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41672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5516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Особенно острожным следует быть вблизи выступающих на поверхность кустов, травы; в местах, где быстрое течение, где вливаются сточные воды промышленных предприят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1090440"/>
            <a:ext cx="77040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равило 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580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Не забывай осенью и весной лед тоно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условия безопасного пребывания на льду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81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01" name="" descr="gallery_962_63404.jpg"/>
          <p:cNvPicPr/>
          <p:nvPr/>
        </p:nvPicPr>
        <p:blipFill>
          <a:blip r:embed="rId3"/>
          <a:stretch/>
        </p:blipFill>
        <p:spPr>
          <a:xfrm>
            <a:off x="1042920" y="3121200"/>
            <a:ext cx="2160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казание первой помощи на льд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1052640"/>
            <a:ext cx="626436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216000"/>
            <a:ext cx="72723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993080" cy="5149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ательные предм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08:02Z</dcterms:created>
  <dc:creator>Наталья</dc:creator>
  <dc:description/>
  <dc:language>en-US</dc:language>
  <cp:lastModifiedBy>Наталья</cp:lastModifiedBy>
  <dcterms:modified xsi:type="dcterms:W3CDTF">2005-12-31T23:23:18Z</dcterms:modified>
  <cp:revision>3</cp:revision>
  <dc:subject/>
  <dc:title>Слайд 1</dc:title>
</cp:coreProperties>
</file>