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792D-CC27-4736-BDB5-71BA5EA5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6333-7B4B-416D-A2EA-4235ED91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279E-0BE0-47F6-8107-C23B4919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27A0-0932-4BD9-965C-2E189F56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84475-F0AC-4CD2-B0CE-D0A9621A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D4098-3C11-4ADF-AD53-1C714159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2EC44-A821-4365-890C-869E3937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5BB15-FD7D-455E-8E27-B2CB378A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5AC6E-C0A9-4D78-8598-79AE5524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5F6B2-7A3B-471F-BACA-F24AABD6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9CCAA-649E-454A-9482-FBAD8434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D6F9-0364-4CAE-8A7E-072594AF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F03F9-4EFC-41C1-B946-8D1A45A8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FF5A1-A397-45F5-B184-5FAE768B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6F3F2-EE20-404D-9331-2D3D3B31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8C4F9-5C85-4668-B3AD-045388C3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48639-7174-49A9-81BE-77E6644E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CE0C-D1A9-4D21-9223-787F22E7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7762-06A0-47D6-A648-249A190C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FB10-B779-42AC-A2F9-64748CFA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43BA-778B-44A4-80E0-B795FF3B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1C34-5436-4573-89CC-FC547BD6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A1CA-BF6B-457E-93F1-0F533ADD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8A40-FFE4-4CF5-90A0-F688C92E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7BF4-66F8-49D2-9534-4293E56B0A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373E-2E0C-4343-810B-1201EB2A6E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fachildren.ru/" TargetMode="External"/><Relationship Id="rId3" Type="http://schemas.openxmlformats.org/officeDocument/2006/relationships/hyperlink" Target="http://culture.mchs.gov.ru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gallery_962_51414.jpg"/>
          <p:cNvPicPr/>
          <p:nvPr/>
        </p:nvPicPr>
        <p:blipFill>
          <a:blip r:embed="rId3"/>
          <a:stretch/>
        </p:blipFill>
        <p:spPr>
          <a:xfrm>
            <a:off x="5580000" y="4005360"/>
            <a:ext cx="2749680" cy="1819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332000" y="260280"/>
            <a:ext cx="6305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66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вила безопасности на льду.</a:t>
            </a:r>
            <a:endParaRPr b="0" lang="en-US" sz="1800" spc="1" strike="noStrike">
              <a:ln w="9360">
                <a:solidFill>
                  <a:srgbClr val="000066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4000" y="5877000"/>
            <a:ext cx="1984320" cy="5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нструктаж №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6360" y="333360"/>
            <a:ext cx="662472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нтернет - ресурс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http://гык.рф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00"/>
                </a:solidFill>
                <a:uFillTx/>
                <a:latin typeface="Tahoma"/>
                <a:hlinkClick r:id="rId2"/>
              </a:rPr>
              <a:t>http://www.ufachildren.ru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00"/>
                </a:solidFill>
                <a:uFillTx/>
                <a:latin typeface="Tahoma"/>
                <a:hlinkClick r:id="rId3"/>
              </a:rPr>
              <a:t>http://culture.mchs.gov.ru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http://zrochs.aplus.by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58920" y="836640"/>
            <a:ext cx="7093080" cy="47023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авило 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537336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Прежде чем двигаться по льду, надо убедиться в его прочности, проверенной взрослыми людь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авило 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Идти следует по уже проложенной троп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03280" y="1197000"/>
            <a:ext cx="619776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авило 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30064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Не следует спускаться на лыжах и санках в незнакомом месте с обрыв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7416720" cy="41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авило 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551664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Особенно острожным следует быть вблизи выступающих на поверхность кустов, травы; в местах, где быстрое течение, где вливаются сточные воды промышленных предприят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5640" y="1090440"/>
            <a:ext cx="77040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авило 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5805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Не забывай осенью и весной лед тоно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условия безопасного пребывания на льду"/>
          <p:cNvPicPr/>
          <p:nvPr/>
        </p:nvPicPr>
        <p:blipFill>
          <a:blip r:embed="rId2"/>
          <a:stretch/>
        </p:blipFill>
        <p:spPr>
          <a:xfrm>
            <a:off x="324000" y="1052640"/>
            <a:ext cx="8424720" cy="48132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101" name="" descr="gallery_962_63404.jpg"/>
          <p:cNvPicPr/>
          <p:nvPr/>
        </p:nvPicPr>
        <p:blipFill>
          <a:blip r:embed="rId3"/>
          <a:stretch/>
        </p:blipFill>
        <p:spPr>
          <a:xfrm>
            <a:off x="1042920" y="3121200"/>
            <a:ext cx="2160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казание первой помощи на льд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58920" y="1052640"/>
            <a:ext cx="626436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00000" y="216000"/>
            <a:ext cx="7272360" cy="63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7993080" cy="5149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пасательные предм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22:08:02Z</dcterms:created>
  <dc:creator>Наталья</dc:creator>
  <dc:description/>
  <dc:language>en-US</dc:language>
  <cp:lastModifiedBy>Наталья</cp:lastModifiedBy>
  <dcterms:modified xsi:type="dcterms:W3CDTF">2005-12-31T23:23:18Z</dcterms:modified>
  <cp:revision>3</cp:revision>
  <dc:subject/>
  <dc:title>Слайд 1</dc:title>
</cp:coreProperties>
</file>