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34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35.gif" ContentType="image/gi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857-E01C-4952-93F9-463AA9FF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6BD-41ED-4B1B-A839-CC6DE34D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E78-4DC0-4743-AB86-93D3BD64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D38-F680-49A0-8EBF-EE10E5A7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D67-FB75-4599-8CC2-9F1C411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76B-3DF2-46EA-90D7-F4C2CA66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ED7-2476-40FD-99AD-8D2997F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496-9862-4F25-8E70-E6F5A4F7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B480-BC63-4B77-BB7B-34D09A2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52C-DAF6-41A2-9E72-35A2EA6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55B-96EE-4745-B085-640293DE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2D9-8310-43E7-9FC1-C10CE75C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C09F-B956-4E1E-9617-B970F542A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28880"/>
            <a:ext cx="64008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«Конкурс знатоков хим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Автор презентации: учитель химии высшей категории МБОУ СОШ № 131 Цирина Татьяна Анатол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а – сер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572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живых существ произошли от названий химических элементов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643280" y="1935000"/>
            <a:ext cx="3624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мея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281240" y="1500120"/>
            <a:ext cx="67910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истый фаз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00080" y="1428840"/>
            <a:ext cx="7143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ая рыб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715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ая чай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357200" y="1643040"/>
            <a:ext cx="63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ыбки плотва – серебрянк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928880" y="1643040"/>
            <a:ext cx="5286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кроли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428840" y="1928880"/>
            <a:ext cx="6357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щерица – медя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215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одну букву в названии химического элемента семейства актиноидов на другую, получите название летучей мыши с большими уш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я каких химических элементов входят названия животных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4500720" y="1285920"/>
            <a:ext cx="3714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ан - уш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5715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осьте из названия полуводного млекопитающего  семейства грызунов одну букву и получите название химического элемента третье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27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-боб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428840" y="1600200"/>
            <a:ext cx="59292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в переводе с немецкого означает «волчья пена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4929120" y="1928880"/>
            <a:ext cx="3714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ьфрам.  Своё название он получил от  минерала вольфрамита, название которого, в свою очередь, произошло от немецких слов «вольф» - волк и « ран» - пена, а в сочетании образующих «волчья пена». Присутствие этого «пожирающего олово», словно волк овцу, минерала в рудах, мешало выплавке ол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чем  получил своё название мышьяк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000760" y="2071800"/>
            <a:ext cx="3429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лово образовано от  слов «мышь» и «яд», то есть яд для мышей. Дело в том , что  соединения мышьяка издавна использовались в качестве яда для грызу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648320" y="1714680"/>
            <a:ext cx="4281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волка с раскрытой пастью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357800" y="1785960"/>
            <a:ext cx="4357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изображали сурьму. Этот символ она получила из – за своей способности  растворять металлы, и в частности золото. Например растворение золота сурьмой алхимики изображали в виде волка, пожирающего ц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D:\Мои рисунки\8fce9944d3f4.jpg"/>
          <p:cNvPicPr/>
          <p:nvPr/>
        </p:nvPicPr>
        <p:blipFill>
          <a:blip r:embed="rId1"/>
          <a:stretch/>
        </p:blipFill>
        <p:spPr>
          <a:xfrm>
            <a:off x="4648320" y="1771560"/>
            <a:ext cx="403848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химический  элемент алхимики изображали в виде  извивающейся зме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4857840" y="185724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ышьяк- мышь и як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648320" y="2328840"/>
            <a:ext cx="403848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извивающейся змеи с раскрытой пастью в средние века изображали  мышьяк, подчёркивая его ядовит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го химического элемента не соответствует его роли в живой природ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элемента азота, которое в переводе с греческого  означает «безжизненный», не соответствует роли этого элемента в живой прир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4762440" y="2471760"/>
            <a:ext cx="3810240" cy="278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6500880" y="1214280"/>
            <a:ext cx="13572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звание какого химического элемента входит название дере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кель – 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овите химический  элемент, название которого совпадает с названием соснового л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их деревьев произошло от названий химических элемен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езное дере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й корен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нделевий – л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ребристый топол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ва серебрист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я каких химических элементов связаны с названием цве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йода в переводе греческого означает «фиолетовый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ервую букву в названии элемента первой группы, получите название избыточно увлажнённого участка земли, заросшего растен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олото-боло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енив последнюю букву в названии радиоактивного элемента , получите название отряда морских кишечнополостных класса коралловые поли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иний-Акти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какой аквариумной рыбки идентично  названию химического элемент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ьфрам – вол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928800" y="1428840"/>
            <a:ext cx="7072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до встреч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D:\Мои рисунки\изображения\f2.gif"/>
          <p:cNvPicPr/>
          <p:nvPr/>
        </p:nvPicPr>
        <p:blipFill>
          <a:blip r:embed="rId1"/>
          <a:stretch/>
        </p:blipFill>
        <p:spPr>
          <a:xfrm>
            <a:off x="3214800" y="2571840"/>
            <a:ext cx="2357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рконий - ко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бросив три буквы подряд в названии крупного млекопитающего отряда хищных, получите название химического элемента первой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786200" y="1957320"/>
            <a:ext cx="3090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Картинка 10 из 40454"/>
          <p:cNvPicPr/>
          <p:nvPr/>
        </p:nvPicPr>
        <p:blipFill>
          <a:blip r:embed="rId1"/>
          <a:stretch/>
        </p:blipFill>
        <p:spPr>
          <a:xfrm>
            <a:off x="1214280" y="1643040"/>
            <a:ext cx="67914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авьте одну букву в название элемента  шестой группы и получите название парнокопытного животн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7148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1:31:29Z</dcterms:created>
  <dc:creator>Admin</dc:creator>
  <dc:description/>
  <dc:language>en-US</dc:language>
  <cp:lastModifiedBy>Admin</cp:lastModifiedBy>
  <dcterms:modified xsi:type="dcterms:W3CDTF">2012-05-28T09:53:55Z</dcterms:modified>
  <cp:revision>228</cp:revision>
  <dc:subject/>
  <dc:title>Интеллектуальная игра</dc:title>
</cp:coreProperties>
</file>