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34.gif" ContentType="image/gif"/>
  <Override PartName="/ppt/media/image21.jpeg" ContentType="image/jpeg"/>
  <Override PartName="/ppt/media/image20.jpeg" ContentType="image/jpeg"/>
  <Override PartName="/ppt/media/image19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35.gif" ContentType="image/gif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5.gif" ContentType="image/gif"/>
  <Override PartName="/ppt/media/image6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155F-49F0-4918-BE90-CABE62A3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223E-4C09-439D-8E1E-1CD30708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3E11-4496-480D-B093-4A77A7A1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68FB-AED1-4B9D-B0E5-B89BC9FB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0A74-504B-474C-8496-0F00F688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C31A-D003-4F73-A3AA-0596599E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355C-FD0E-49CB-A847-FDA16D06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1AF3-20C8-440D-8FE5-F22F3CED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D8DF-76B3-4AF9-BC95-0CA35E06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7220-A475-41FF-A0A7-FBF75155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99E9-19FA-45D7-BAB7-CE286659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315-AD9A-4F69-A3A7-5B5E88EE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A878-A476-4A93-8367-A5534279EF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Интеллектуальная иг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28880"/>
            <a:ext cx="64008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«Конкурс знатоков хими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Автор презентации: учитель химии высшей категории МБОУ СОШ № 131 Цирина Татьяна Анатоль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ра – серн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1643040" y="1143000"/>
            <a:ext cx="55720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я каких живых существ произошли от названий химических элементов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4643280" y="1935000"/>
            <a:ext cx="36244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мея – медя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1281240" y="1500120"/>
            <a:ext cx="67910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олотистый фаз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000080" y="1428840"/>
            <a:ext cx="71438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олотая рыбка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67150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ребристая чайка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357200" y="1643040"/>
            <a:ext cx="63579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ыбки плотва – серебрянки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1928880" y="1643040"/>
            <a:ext cx="52862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ребристый кролик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1428840" y="1928880"/>
            <a:ext cx="6357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щерица – медя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428840" y="1357200"/>
            <a:ext cx="62150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менив одну букву в названии химического элемента семейства актиноидов на другую, получите название летучей мыши с большими уш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звания каких химических элементов входят названия животных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4500720" y="1285920"/>
            <a:ext cx="37144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ан - уш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785960" y="1500120"/>
            <a:ext cx="571500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бросьте из названия полуводного млекопитающего  семейства грызунов одну букву и получите название химического элемента третьей груп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5032440" y="1600200"/>
            <a:ext cx="327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р-боб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428840" y="1600200"/>
            <a:ext cx="592920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какого химического элемента в переводе с немецкого означает «волчья пена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4929120" y="1928880"/>
            <a:ext cx="37148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ьфрам.  Своё название он получил от  минерала вольфрамита, название которого, в свою очередь, произошло от немецких слов «вольф» - волк и « ран» - пена, а в сочетании образующих «волчья пена». Присутствие этого «пожирающего олово», словно волк овцу, минерала в рудах, мешало выплавке ол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857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вязи с чем  получил своё название мышьяк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5000760" y="2071800"/>
            <a:ext cx="34290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слово образовано от  слов «мышь» и «яд», то есть яд для мышей. Дело в том , что  соединения мышьяка издавна использовались в качестве яда для грызун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648320" y="1714680"/>
            <a:ext cx="4281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й химический  элемент алхимики изображали в виде волка с раскрытой пастью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4357800" y="1785960"/>
            <a:ext cx="43574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 изображали сурьму. Этот символ она получила из – за своей способности  растворять металлы, и в частности золото. Например растворение золота сурьмой алхимики изображали в виде волка, пожирающего цар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D:\Мои рисунки\8fce9944d3f4.jpg"/>
          <p:cNvPicPr/>
          <p:nvPr/>
        </p:nvPicPr>
        <p:blipFill>
          <a:blip r:embed="rId1"/>
          <a:stretch/>
        </p:blipFill>
        <p:spPr>
          <a:xfrm>
            <a:off x="4648320" y="1771560"/>
            <a:ext cx="403848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й химический  элемент алхимики изображали в виде  извивающейся зме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4857840" y="1857240"/>
            <a:ext cx="35719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ышьяк- мышь и як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4648320" y="2328840"/>
            <a:ext cx="4038480" cy="3068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помощью извивающейся змеи с раскрытой пастью в средние века изображали  мышьяк, подчёркивая его ядовит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какого химического элемента не соответствует его роли в живой природ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элемента азота, которое в переводе с греческого  означает «безжизненный», не соответствует роли этого элемента в живой прир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4762440" y="2471760"/>
            <a:ext cx="3810240" cy="2781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6500880" y="1214280"/>
            <a:ext cx="13572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звание какого химического элемента входит название дерев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икель – 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овите химический  элемент, название которого совпадает с названием соснового ле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каких деревьев произошло от названий химических элемент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елезное дере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олотой корен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нделевий – л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ребристый топол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ва серебриста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я каких химических элементов связаны с названием цвет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йода в переводе греческого означает «фиолетовый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менив первую букву в названии элемента первой группы, получите название избыточно увлажнённого участка земли, заросшего растени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олото-боло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менив последнюю букву в названии радиоактивного элемента , получите название отряда морских кишечнополостных класса коралловые поли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иний-Акти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какой аквариумной рыбки идентично  названию химического элемент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льфрам – вол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928800" y="1428840"/>
            <a:ext cx="70722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, до встреч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6" descr="D:\Мои рисунки\изображения\f2.gif"/>
          <p:cNvPicPr/>
          <p:nvPr/>
        </p:nvPicPr>
        <p:blipFill>
          <a:blip r:embed="rId1"/>
          <a:stretch/>
        </p:blipFill>
        <p:spPr>
          <a:xfrm>
            <a:off x="3214800" y="2571840"/>
            <a:ext cx="2357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ирконий - ко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42960" y="1214280"/>
            <a:ext cx="7858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бросив три буквы подряд в названии крупного млекопитающего отряда хищных, получите название химического элемента первой груп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4786200" y="1957320"/>
            <a:ext cx="30909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двед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Картинка 10 из 40454"/>
          <p:cNvPicPr/>
          <p:nvPr/>
        </p:nvPicPr>
        <p:blipFill>
          <a:blip r:embed="rId1"/>
          <a:stretch/>
        </p:blipFill>
        <p:spPr>
          <a:xfrm>
            <a:off x="1214280" y="1643040"/>
            <a:ext cx="67914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бавьте одну букву в название элемента  шестой группы и получите название парнокопытного животн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7148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1:31:29Z</dcterms:created>
  <dc:creator>Admin</dc:creator>
  <dc:description/>
  <dc:language>en-US</dc:language>
  <cp:lastModifiedBy>Admin</cp:lastModifiedBy>
  <dcterms:modified xsi:type="dcterms:W3CDTF">2012-05-28T09:53:55Z</dcterms:modified>
  <cp:revision>228</cp:revision>
  <dc:subject/>
  <dc:title>Интеллектуальная игра</dc:title>
</cp:coreProperties>
</file>