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7.gif" ContentType="image/gif"/>
  <Override PartName="/ppt/media/image24.jpeg" ContentType="image/jpeg"/>
  <Override PartName="/ppt/media/image19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0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0.gif" ContentType="image/gif"/>
  <Override PartName="/ppt/media/image37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31.jpeg" ContentType="image/jpeg"/>
  <Override PartName="/ppt/media/image4.jpeg" ContentType="image/jpeg"/>
  <Override PartName="/ppt/media/image38.gif" ContentType="image/gif"/>
  <Override PartName="/ppt/media/image6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F7F-7C82-408C-A127-0121B560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773B-FE72-45B1-9A77-075AF6C9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5EF4-DA52-4BFD-9BE9-494D1A4A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BE5C-300B-4FAA-A733-798AE675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85AE-C1FC-42DE-B404-BF8F3AFF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401E-2B06-4CE9-93A1-3DFFD1AC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54DE-152E-4569-BF35-305DE7C3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B64B-39D5-4D4B-986A-6286A60E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888D-FB29-4C72-BFC2-F554C63F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1F16-49FF-4C51-9065-5D22A3CE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1D6D-92D7-4966-907D-718561DF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1902-C893-42C4-93D0-6959DC01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B206-CC2B-4802-8A9C-05F82E682A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Интеллектуальная иг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28880"/>
            <a:ext cx="64008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«Конкурс знатоков хими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Автор презентации: учитель химии высшей категории МБОУ СОШ № 131 Цирина Татьяна Анатоль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ра – серн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я каких живых существ произошли от названий химических элементов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4643280" y="1935000"/>
            <a:ext cx="36244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мея – медя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олотистый фаз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олотая рыбка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ребристая чайка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ыбки плотва – серебрянки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ребристый кролик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щерица – медя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менив одну букву в названии химического элемента семейства актиноидов на другую, получите название летучей мыши с большими уш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звания каких химических элементов входят названия животных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ан - уш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бросьте из названия полуводного млекопитающего  семейства грызунов одну букву и получите название химического элемента третьей групп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5032440" y="1600200"/>
            <a:ext cx="3270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р-боб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428840" y="1600200"/>
            <a:ext cx="592920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какого химического элемента в переводе с немецкого означает «волчья пена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4929120" y="1928880"/>
            <a:ext cx="37148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льфрам.  Своё название он получил от  минерала вольфрамита, название которого, в свою очередь, произошло от немецких слов «вольф» - волк и « ран» - пена, а в сочетании образующих «волчья пена». Присутствие этого «пожирающего олово», словно волк овцу, минерала в рудах, мешало выплавке оло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857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вязи с чем  получил своё название мышьяк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5000760" y="2071800"/>
            <a:ext cx="34290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слово образовано от  слов «мышь» и «яд», то есть яд для мышей. Дело в том , что  соединения мышьяка издавна использовались в качестве яда для грызун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4648320" y="1714680"/>
            <a:ext cx="4281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й химический  элемент алхимики изображали в виде волка с раскрытой пастью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4357800" y="1785960"/>
            <a:ext cx="43574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 изображали сурьму. Этот символ она получила из – за своей способности  растворять металлы, и в частности золото. Например растворение золота сурьмой алхимики изображали в виде волка, пожирающего цар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D:\Мои рисунки\8fce9944d3f4.jpg"/>
          <p:cNvPicPr/>
          <p:nvPr/>
        </p:nvPicPr>
        <p:blipFill>
          <a:blip r:embed="rId1"/>
          <a:stretch/>
        </p:blipFill>
        <p:spPr>
          <a:xfrm>
            <a:off x="4648320" y="1771560"/>
            <a:ext cx="403848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й химический  элемент алхимики изображали в виде  извивающейся зме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4857840" y="1857240"/>
            <a:ext cx="35719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ышьяк- мышь и як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помощью извивающейся змеи с раскрытой пастью в средние века изображали  мышьяк, подчёркивая его ядовит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4714920" y="1285920"/>
            <a:ext cx="37861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какого химического элемента не соответствует его роли в живой природ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4643280" y="1285920"/>
            <a:ext cx="368640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элемента азота, которое в переводе с греческого  означает «безжизненный», не соответствует роли этого элемента в живой прир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4762440" y="2471760"/>
            <a:ext cx="3810240" cy="2781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6500880" y="1214280"/>
            <a:ext cx="13572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звание какого химического элемента входит название дерев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4429080" y="1785960"/>
            <a:ext cx="44290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икель – 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2143080" y="1214280"/>
            <a:ext cx="492912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овите химический  элемент, название которого совпадает с названием соснового ле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4714920" y="1214280"/>
            <a:ext cx="357192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643040" y="1285920"/>
            <a:ext cx="5715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каких деревьев произошло от названий химических элемент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D:\Мои рисунки\wizard.gif"/>
          <p:cNvPicPr/>
          <p:nvPr/>
        </p:nvPicPr>
        <p:blipFill>
          <a:blip r:embed="rId1"/>
          <a:stretch/>
        </p:blipFill>
        <p:spPr>
          <a:xfrm>
            <a:off x="4286160" y="1285920"/>
            <a:ext cx="419760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елезное дере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" descr="C:\Documents and Settings\Tatyana213\Мои документы\Мои рисунки\железное дерево.jpg"/>
          <p:cNvPicPr/>
          <p:nvPr/>
        </p:nvPicPr>
        <p:blipFill>
          <a:blip r:embed="rId1"/>
          <a:stretch/>
        </p:blipFill>
        <p:spPr>
          <a:xfrm>
            <a:off x="4648320" y="1357200"/>
            <a:ext cx="42814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олотой корен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1000080" y="928800"/>
            <a:ext cx="678672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нделевий – л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ребристый топол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500040" y="1357200"/>
            <a:ext cx="821520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ва серебриста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Documents and Settings\Tatyana213\Мои документы\Мои рисунки\ива серебристая.jpg"/>
          <p:cNvPicPr/>
          <p:nvPr/>
        </p:nvPicPr>
        <p:blipFill>
          <a:blip r:embed="rId2"/>
          <a:stretch/>
        </p:blipFill>
        <p:spPr>
          <a:xfrm>
            <a:off x="428760" y="1143000"/>
            <a:ext cx="82864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я каких химических элементов связаны с названием цвет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5" descr="D:\Мои рисунки\330026694634_c6d7720d5255.jpg"/>
          <p:cNvPicPr/>
          <p:nvPr/>
        </p:nvPicPr>
        <p:blipFill>
          <a:blip r:embed="rId1"/>
          <a:stretch/>
        </p:blipFill>
        <p:spPr>
          <a:xfrm>
            <a:off x="4643280" y="1285920"/>
            <a:ext cx="43578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йода в переводе греческого означает «фиолетовый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5" descr="D:\Мои рисунки\053.JPG"/>
          <p:cNvPicPr/>
          <p:nvPr/>
        </p:nvPicPr>
        <p:blipFill>
          <a:blip r:embed="rId1"/>
          <a:stretch/>
        </p:blipFill>
        <p:spPr>
          <a:xfrm>
            <a:off x="4143240" y="1285920"/>
            <a:ext cx="454356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менив первую букву в названии элемента первой группы, получите название избыточно увлажнённого участка земли, заросшего растени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D:\Мои рисунки\refrigerants_molecule.jpg"/>
          <p:cNvPicPr/>
          <p:nvPr/>
        </p:nvPicPr>
        <p:blipFill>
          <a:blip r:embed="rId1"/>
          <a:stretch/>
        </p:blipFill>
        <p:spPr>
          <a:xfrm>
            <a:off x="4648320" y="1214280"/>
            <a:ext cx="42098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олото-боло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Картинка 1 из 84821"/>
          <p:cNvPicPr/>
          <p:nvPr/>
        </p:nvPicPr>
        <p:blipFill>
          <a:blip r:embed="rId1"/>
          <a:stretch/>
        </p:blipFill>
        <p:spPr>
          <a:xfrm>
            <a:off x="155520" y="1285920"/>
            <a:ext cx="87026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менив последнюю букву в названии радиоактивного элемента , получите название отряда морских кишечнополостных класса коралловые полип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3" descr="D:\Мои рисунки\feodosia11969.jpg"/>
          <p:cNvPicPr/>
          <p:nvPr/>
        </p:nvPicPr>
        <p:blipFill>
          <a:blip r:embed="rId1"/>
          <a:stretch/>
        </p:blipFill>
        <p:spPr>
          <a:xfrm>
            <a:off x="4429080" y="1428840"/>
            <a:ext cx="42577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тиний-Актин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D:\Мои рисунки\130702522069004380.jpg"/>
          <p:cNvPicPr/>
          <p:nvPr/>
        </p:nvPicPr>
        <p:blipFill>
          <a:blip r:embed="rId1"/>
          <a:stretch/>
        </p:blipFill>
        <p:spPr>
          <a:xfrm>
            <a:off x="2071800" y="1285920"/>
            <a:ext cx="55004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какой аквариумной рыбки идентично  названию химического элемент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D:\Мои рисунки\30 (1).jpg"/>
          <p:cNvPicPr/>
          <p:nvPr/>
        </p:nvPicPr>
        <p:blipFill>
          <a:blip r:embed="rId1"/>
          <a:stretch/>
        </p:blipFill>
        <p:spPr>
          <a:xfrm>
            <a:off x="4286160" y="1571760"/>
            <a:ext cx="44006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D:\Мои рисунки\aquar1_1 (1).jpg"/>
          <p:cNvPicPr/>
          <p:nvPr/>
        </p:nvPicPr>
        <p:blipFill>
          <a:blip r:embed="rId1"/>
          <a:stretch/>
        </p:blipFill>
        <p:spPr>
          <a:xfrm>
            <a:off x="1071720" y="1600200"/>
            <a:ext cx="67150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льфрам – вол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, до встреч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6" descr="D:\Мои рисунки\изображения\f2.gif"/>
          <p:cNvPicPr/>
          <p:nvPr/>
        </p:nvPicPr>
        <p:blipFill>
          <a:blip r:embed="rId1"/>
          <a:stretch/>
        </p:blipFill>
        <p:spPr>
          <a:xfrm>
            <a:off x="3214800" y="2571840"/>
            <a:ext cx="23572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ирконий - ко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бросив три буквы подряд в названии крупного млекопитающего отряда хищных, получите название химического элемента первой групп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4786200" y="1957320"/>
            <a:ext cx="30909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двед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бавьте одну букву в название элемента  шестой группы и получите название парнокопытного животн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7148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1:31:29Z</dcterms:created>
  <dc:creator>Admin</dc:creator>
  <dc:description/>
  <dc:language>en-US</dc:language>
  <cp:lastModifiedBy>Admin</cp:lastModifiedBy>
  <dcterms:modified xsi:type="dcterms:W3CDTF">2012-05-28T10:02:49Z</dcterms:modified>
  <cp:revision>228</cp:revision>
  <dc:subject/>
  <dc:title>Интеллектуальная игра</dc:title>
</cp:coreProperties>
</file>