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4.jpeg" ContentType="image/jpeg"/>
  <Override PartName="/ppt/media/image19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0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gif" ContentType="image/gif"/>
  <Override PartName="/ppt/media/image37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1.jpeg" ContentType="image/jpeg"/>
  <Override PartName="/ppt/media/image4.jpeg" ContentType="image/jpeg"/>
  <Override PartName="/ppt/media/image38.gif" ContentType="image/gif"/>
  <Override PartName="/ppt/media/image6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23D-FFE3-4DAD-8C8F-E43AD7D0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A8C9-2F75-441D-96CC-7E93761B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5D2-1E66-45F5-A9D8-9C06F897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659-EA93-4D0C-990E-C89D2C23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A1E-AAE4-4986-ABDF-FC9ABC6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48C-0F2C-4AE8-9C7D-EFD4E26D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9C8-2A24-43E1-8388-B00DD18B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C1D-F223-4860-BC22-83F323FA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3E4-DC2C-4128-A706-F097C62F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ACC-323C-406F-840B-4AA57C8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B8B-52BA-41F5-8A68-FCDB18AF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2B5-3382-4AD1-91B8-D09A0B9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D098-A451-4CBF-A9C2-C90148686D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2888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Конкурс знатоков хим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Автор презентации: учитель химии высшей категории МБОУ СОШ № 131 Цир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а – сер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живых существ произошли от названий химических элемент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4643280" y="1935000"/>
            <a:ext cx="3624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мея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истый ф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ая рыб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ая чай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бки плотва – серебрянк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кроли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щерица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одну букву в названии химического элемента семейства актиноидов на другую, получите название летучей мыши с большими уш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я каких химических элементов входят названия животных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ан - уш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осьте из названия полуводного млекопитающего  семейства грызунов одну букву и получите название химического элемента третье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27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-боб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428840" y="1600200"/>
            <a:ext cx="59292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в переводе с немецкого означает «волчья пен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4929120" y="1928880"/>
            <a:ext cx="3714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фрам.  Своё название он получил от  минерала вольфрамита, название которого, в свою очередь, произошло от немецких слов «вольф» - волк и « ран» - пена, а в сочетании образующих «волчья пена». Присутствие этого «пожирающего олово», словно волк овцу, минерала в рудах, мешало выплавке о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857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чем  получил своё название мышья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5000760" y="2071800"/>
            <a:ext cx="3429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лово образовано от  слов «мышь» и «яд», то есть яд для мышей. Дело в том , что  соединения мышьяка издавна использовались в качестве яда для грызу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648320" y="1714680"/>
            <a:ext cx="4281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волка с раскрытой паст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4357800" y="1785960"/>
            <a:ext cx="4357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изображали сурьму. Этот символ она получила из – за своей способности  растворять металлы, и в частности золото. Например растворение золота сурьмой алхимики изображали в виде волка, пожирающего ц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D:\Мои рисунки\8fce9944d3f4.jpg"/>
          <p:cNvPicPr/>
          <p:nvPr/>
        </p:nvPicPr>
        <p:blipFill>
          <a:blip r:embed="rId1"/>
          <a:stretch/>
        </p:blipFill>
        <p:spPr>
          <a:xfrm>
            <a:off x="4648320" y="1771560"/>
            <a:ext cx="40384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 извивающейся зме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шьяк- мышь и як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извивающейся змеи с раскрытой пастью в средние века изображали  мышьяк, подчёркивая его ядовит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4714920" y="1285920"/>
            <a:ext cx="3786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не соответствует его роли в живой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643280" y="1285920"/>
            <a:ext cx="3686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лемента азота, которое в переводе с греческого  означает «безжизненный», не соответствует роли этого элемента в живой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762440" y="2471760"/>
            <a:ext cx="3810240" cy="278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6500880" y="1214280"/>
            <a:ext cx="13572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е какого химического элемента входит название дере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4429080" y="178596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ель – 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химический  элемент, название которого совпадает с названием соснового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714920" y="1214280"/>
            <a:ext cx="35719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643040" y="1285920"/>
            <a:ext cx="5715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их деревьев произошло от названий химических элемен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D:\Мои рисунки\wizard.gif"/>
          <p:cNvPicPr/>
          <p:nvPr/>
        </p:nvPicPr>
        <p:blipFill>
          <a:blip r:embed="rId1"/>
          <a:stretch/>
        </p:blipFill>
        <p:spPr>
          <a:xfrm>
            <a:off x="4286160" y="1285920"/>
            <a:ext cx="41976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езное дере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C:\Documents and Settings\Tatyana213\Мои документы\Мои рисунки\железное дерево.jpg"/>
          <p:cNvPicPr/>
          <p:nvPr/>
        </p:nvPicPr>
        <p:blipFill>
          <a:blip r:embed="rId1"/>
          <a:stretch/>
        </p:blipFill>
        <p:spPr>
          <a:xfrm>
            <a:off x="4648320" y="1357200"/>
            <a:ext cx="42814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й корен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1000080" y="928800"/>
            <a:ext cx="678672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делевий – 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топол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82152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 серебрист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Documents and Settings\Tatyana213\Мои документы\Мои рисунки\ива серебристая.jpg"/>
          <p:cNvPicPr/>
          <p:nvPr/>
        </p:nvPicPr>
        <p:blipFill>
          <a:blip r:embed="rId2"/>
          <a:stretch/>
        </p:blipFill>
        <p:spPr>
          <a:xfrm>
            <a:off x="428760" y="1143000"/>
            <a:ext cx="82864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химических элементов связаны с названием цве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D:\Мои рисунки\330026694634_c6d7720d5255.jpg"/>
          <p:cNvPicPr/>
          <p:nvPr/>
        </p:nvPicPr>
        <p:blipFill>
          <a:blip r:embed="rId1"/>
          <a:stretch/>
        </p:blipFill>
        <p:spPr>
          <a:xfrm>
            <a:off x="4643280" y="1285920"/>
            <a:ext cx="4357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йода в переводе греческого означает «фиолетовы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D:\Мои рисунки\053.JPG"/>
          <p:cNvPicPr/>
          <p:nvPr/>
        </p:nvPicPr>
        <p:blipFill>
          <a:blip r:embed="rId1"/>
          <a:stretch/>
        </p:blipFill>
        <p:spPr>
          <a:xfrm>
            <a:off x="4143240" y="1285920"/>
            <a:ext cx="45435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ервую букву в названии элемента первой группы, получите название избыточно увлажнённого участка земли, заросшего растен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D:\Мои рисунки\refrigerants_molecule.jpg"/>
          <p:cNvPicPr/>
          <p:nvPr/>
        </p:nvPicPr>
        <p:blipFill>
          <a:blip r:embed="rId1"/>
          <a:stretch/>
        </p:blipFill>
        <p:spPr>
          <a:xfrm>
            <a:off x="4648320" y="1214280"/>
            <a:ext cx="42098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-боло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Картинка 1 из 84821"/>
          <p:cNvPicPr/>
          <p:nvPr/>
        </p:nvPicPr>
        <p:blipFill>
          <a:blip r:embed="rId1"/>
          <a:stretch/>
        </p:blipFill>
        <p:spPr>
          <a:xfrm>
            <a:off x="155520" y="1285920"/>
            <a:ext cx="8702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оследнюю букву в названии радиоактивного элемента , получите название отряда морских кишечнополостных класса коралловые поли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D:\Мои рисунки\feodosia11969.jpg"/>
          <p:cNvPicPr/>
          <p:nvPr/>
        </p:nvPicPr>
        <p:blipFill>
          <a:blip r:embed="rId1"/>
          <a:stretch/>
        </p:blipFill>
        <p:spPr>
          <a:xfrm>
            <a:off x="4429080" y="1428840"/>
            <a:ext cx="4257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иний-Акт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D:\Мои рисунки\130702522069004380.jpg"/>
          <p:cNvPicPr/>
          <p:nvPr/>
        </p:nvPicPr>
        <p:blipFill>
          <a:blip r:embed="rId1"/>
          <a:stretch/>
        </p:blipFill>
        <p:spPr>
          <a:xfrm>
            <a:off x="2071800" y="1285920"/>
            <a:ext cx="55004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й аквариумной рыбки идентично  названию химического эле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D:\Мои рисунки\30 (1).jpg"/>
          <p:cNvPicPr/>
          <p:nvPr/>
        </p:nvPicPr>
        <p:blipFill>
          <a:blip r:embed="rId1"/>
          <a:stretch/>
        </p:blipFill>
        <p:spPr>
          <a:xfrm>
            <a:off x="4286160" y="1571760"/>
            <a:ext cx="44006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D:\Мои рисунки\aquar1_1 (1).jpg"/>
          <p:cNvPicPr/>
          <p:nvPr/>
        </p:nvPicPr>
        <p:blipFill>
          <a:blip r:embed="rId1"/>
          <a:stretch/>
        </p:blipFill>
        <p:spPr>
          <a:xfrm>
            <a:off x="1071720" y="1600200"/>
            <a:ext cx="6715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ьфрам – вол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до встреч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D:\Мои рисунки\изображения\f2.gif"/>
          <p:cNvPicPr/>
          <p:nvPr/>
        </p:nvPicPr>
        <p:blipFill>
          <a:blip r:embed="rId1"/>
          <a:stretch/>
        </p:blipFill>
        <p:spPr>
          <a:xfrm>
            <a:off x="3214800" y="2571840"/>
            <a:ext cx="2357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рконий - ко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бросив три буквы подряд в названии крупного млекопитающего отряда хищных, получите название химического элемента перво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786200" y="1957320"/>
            <a:ext cx="3090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ьте одну букву в название элемента  шестой группы и получите название парнокопытного живот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14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1:31:29Z</dcterms:created>
  <dc:creator>Admin</dc:creator>
  <dc:description/>
  <dc:language>en-US</dc:language>
  <cp:lastModifiedBy>Admin</cp:lastModifiedBy>
  <dcterms:modified xsi:type="dcterms:W3CDTF">2012-05-28T10:02:49Z</dcterms:modified>
  <cp:revision>228</cp:revision>
  <dc:subject/>
  <dc:title>Интеллектуальная игра</dc:title>
</cp:coreProperties>
</file>