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15.gif" ContentType="image/gif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5969-402B-4F99-998E-85730C5DB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CBCD-4934-44A4-A138-E93B0C2B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42A3-3F77-42B6-BC56-DB9A01D67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DCD2-1421-4F0D-B4FB-D2DA9498C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1911-0AD3-4CF1-9FE4-5A99EFA4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7CB7-3480-44D8-BC6A-27E9DA33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72CB-82E0-4049-9094-BA25F65D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89B9-B54F-4663-9F31-42F692A8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1E14-2176-42D4-8B0A-5CAFEA94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1318-F34F-4EFA-AE63-3B1C1B78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FAC7-D799-48C3-BA87-435A1D42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5475-FFC0-4ED5-8931-D2C66049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B3C4-AA68-41CE-9E42-9B3383B8D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odinews.ru/upload/iblock/75c/-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76360" y="188640"/>
            <a:ext cx="2948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ГБОУ СОШ №593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с углубленным изучением 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английского языка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Невского района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Санкт-Петербур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1773360"/>
            <a:ext cx="64008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Презент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по матема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на те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«Периметр прямо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Площадь прямо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Путь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5 клас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447960" y="4005360"/>
            <a:ext cx="195624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Выполнил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ученицы 11-1 кла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Антонова Евген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Разумова Ан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518880" y="5135400"/>
            <a:ext cx="1430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Руководител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Петрова Н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77840" y="5950080"/>
            <a:ext cx="159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Санкт-Петербур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2012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ш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м з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ч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д вами волшебное зеркало из Королевства Кривых зеркал. По указанным параметрам найдите его площа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Картинка 81 из 184108"/>
          <p:cNvPicPr/>
          <p:nvPr/>
        </p:nvPicPr>
        <p:blipFill>
          <a:blip r:embed="rId1"/>
          <a:stretch/>
        </p:blipFill>
        <p:spPr>
          <a:xfrm>
            <a:off x="2987640" y="285264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987640" y="5977080"/>
            <a:ext cx="287964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32000" y="6165720"/>
            <a:ext cx="2159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64000" y="3141720"/>
            <a:ext cx="0" cy="2806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10520" y="4292640"/>
            <a:ext cx="99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 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10520" y="6237360"/>
            <a:ext cx="9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8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9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4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6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о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ь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е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1700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н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=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=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йт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=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51480" y="1474920"/>
            <a:ext cx="4027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=a*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=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5=1 25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c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69120" y="3213000"/>
            <a:ext cx="606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вет площадь Волшеб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еркала равна 1 250 см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4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5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6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5" dur="8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6" dur="8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7" dur="8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1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0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1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2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5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6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7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54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7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0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63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6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69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2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5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78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0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1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р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м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 м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Картинка 15 из 182842"/>
          <p:cNvPicPr/>
          <p:nvPr/>
        </p:nvPicPr>
        <p:blipFill>
          <a:blip r:embed="rId1"/>
          <a:stretch/>
        </p:blipFill>
        <p:spPr>
          <a:xfrm>
            <a:off x="2556000" y="2060640"/>
            <a:ext cx="4047840" cy="3267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804000" y="234936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71640" y="198900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49080" y="3041640"/>
            <a:ext cx="12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0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96360" y="1384200"/>
            <a:ext cx="12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27280" y="5516640"/>
            <a:ext cx="387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6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0=2 400 (с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58920" y="3933720"/>
            <a:ext cx="2665440" cy="165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724360" y="4076280"/>
            <a:ext cx="2808360" cy="1368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20000" y="4552920"/>
            <a:ext cx="8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340000" y="981000"/>
            <a:ext cx="4896000" cy="32799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093800" y="4797360"/>
            <a:ext cx="8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64360" y="6093000"/>
            <a:ext cx="26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=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=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т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24000" y="2997360"/>
            <a:ext cx="5005440" cy="1556280"/>
          </a:xfrm>
          <a:prstGeom prst="rect">
            <a:avLst/>
          </a:prstGeom>
          <a:solidFill>
            <a:srgbClr val="33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йденный путь – это произведение скорости на время движения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5589720"/>
            <a:ext cx="597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835280" y="4581360"/>
            <a:ext cx="5952960" cy="744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948360" y="450864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987640" y="1413000"/>
            <a:ext cx="3240000" cy="20620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 = v ∙ t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д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-c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р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-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1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2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3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7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л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г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 р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ш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т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 з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д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ч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4247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ертолет летел 2 часа со скорость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20 км/ч. Найдите путь вертолета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987640" y="3141720"/>
            <a:ext cx="3454560" cy="2720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45964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0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2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283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6" dur="10433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р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р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т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е 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б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0208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=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20 км/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=2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йт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04720" y="1557360"/>
            <a:ext cx="5523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=V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=120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=240 (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вет: путь вертол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вен 240 к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3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4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5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0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1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2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1" dur="8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2" dur="8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3" dur="8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8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5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6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7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9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6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7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8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800"/>
                            </p:stCondLst>
                            <p:childTnLst>
                              <p:par>
                                <p:cTn id="13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2" dur="8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3" dur="8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4" dur="8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66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9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2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4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75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78" dur="2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0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81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4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7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90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3" dur="2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9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З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к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 м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т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р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12000" y="1989000"/>
            <a:ext cx="30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35280" y="4076640"/>
            <a:ext cx="131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57640" b="0"/>
          <a:stretch/>
        </p:blipFill>
        <p:spPr>
          <a:xfrm>
            <a:off x="1116000" y="1700280"/>
            <a:ext cx="2232000" cy="30369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771640" y="429264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300720" y="2205000"/>
            <a:ext cx="1870200" cy="21560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687840" y="488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71280" y="4508640"/>
            <a:ext cx="342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=60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м/ч;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=1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90000" y="5850000"/>
            <a:ext cx="31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5=90 к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4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5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6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50289E-006 L 0.15973 -0.1089 C 0.19341 -0.13364 0.24375 -0.14682 0.29636 -0.14682 C 0.35625 -0.14682 0.40417 -0.13364 0.43768 -0.1089 L 0.59844 -1.50289E-006 E">
                                      <p:cBhvr>
                                        <p:cTn id="1460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3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484360" y="1844640"/>
            <a:ext cx="1706760" cy="1800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411280" y="3716280"/>
            <a:ext cx="475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f_4a53124417752.gif"/>
          <p:cNvPicPr/>
          <p:nvPr/>
        </p:nvPicPr>
        <p:blipFill>
          <a:blip r:embed="rId2"/>
          <a:stretch/>
        </p:blipFill>
        <p:spPr>
          <a:xfrm>
            <a:off x="4859280" y="1989000"/>
            <a:ext cx="2143080" cy="15591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397600" y="4365720"/>
            <a:ext cx="488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=16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м/ч,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t=30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ин=0,5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17840" y="5300640"/>
            <a:ext cx="290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0,5=8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4" dur="indefinite" restart="never" nodeType="tmRoot">
          <p:childTnLst>
            <p:seq>
              <p:cTn id="1475" dur="indefinite" nodeType="mainSeq">
                <p:childTnLst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р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м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т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 п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я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о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г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л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н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к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00360" y="3068640"/>
            <a:ext cx="3959280" cy="25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00360" y="5589720"/>
            <a:ext cx="39592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59640" y="3068640"/>
            <a:ext cx="0" cy="251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00360" y="3068640"/>
            <a:ext cx="0" cy="251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3068640"/>
            <a:ext cx="39592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7080" y="3950640"/>
            <a:ext cx="4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10480" y="414972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8720" y="5516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19640" y="1989000"/>
            <a:ext cx="4562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16360" y="1557360"/>
            <a:ext cx="3547800" cy="13201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 = a + a + b +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 = 2(a + b)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8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т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к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916280"/>
            <a:ext cx="6624720" cy="21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метр прямоугольника равен сумме длин его сторон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 т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ь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 п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р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д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л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м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 в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м 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р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ш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т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ь 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з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д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ч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д вами коробок. Как вы считаете, могла ли Дюймовочка использовать его как кроватк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ую форму представляет собой дно спичечной коробки? Как вычислить перимет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Картинка 34 из 15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3860640"/>
            <a:ext cx="2381040" cy="2381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84720" y="393372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51280" y="6021360"/>
            <a:ext cx="1942920" cy="54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97480" y="3429000"/>
            <a:ext cx="28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дюйм = 2 см 5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53280" y="4527720"/>
            <a:ext cx="8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68920" y="6256440"/>
            <a:ext cx="7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4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6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2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5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о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ь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е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22431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ано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=4c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=6 c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йти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=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87640" y="1484280"/>
            <a:ext cx="6718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шение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=2(a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=2(4+6)=20(c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) 1 дюйм=2,5 см, дл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)=6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6с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,5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периметр д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робка равен 20 см; Дюймовочка могла поместиться в короб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16200" y="5130720"/>
            <a:ext cx="3619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720"/>
                            </p:stCondLst>
                            <p:childTnLst>
                              <p:par>
                                <p:cTn id="3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р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м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 м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е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Картинка 9 из 27318"/>
          <p:cNvPicPr/>
          <p:nvPr/>
        </p:nvPicPr>
        <p:blipFill>
          <a:blip r:embed="rId1"/>
          <a:stretch/>
        </p:blipFill>
        <p:spPr>
          <a:xfrm>
            <a:off x="1763640" y="1773360"/>
            <a:ext cx="5616720" cy="4219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411280" y="51577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1928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63640" y="162864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21440" y="6165720"/>
            <a:ext cx="26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(90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270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3080" y="3284640"/>
            <a:ext cx="8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42160" y="1125360"/>
            <a:ext cx="8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4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Картинка 20 из 17675"/>
          <p:cNvPicPr/>
          <p:nvPr/>
        </p:nvPicPr>
        <p:blipFill>
          <a:blip r:embed="rId1"/>
          <a:stretch/>
        </p:blipFill>
        <p:spPr>
          <a:xfrm>
            <a:off x="2627280" y="1052640"/>
            <a:ext cx="3726000" cy="4897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627280" y="765000"/>
            <a:ext cx="367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68360" y="981000"/>
            <a:ext cx="0" cy="504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89800" y="609300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=2(20+15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70 (с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53800" y="18900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57840" y="63579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26000" y="3159000"/>
            <a:ext cx="9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Картинка 157 из 2596"/>
          <p:cNvPicPr/>
          <p:nvPr/>
        </p:nvPicPr>
        <p:blipFill>
          <a:blip r:embed="rId1"/>
          <a:stretch/>
        </p:blipFill>
        <p:spPr>
          <a:xfrm>
            <a:off x="1835280" y="765000"/>
            <a:ext cx="4829040" cy="5249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572000" y="404640"/>
            <a:ext cx="1800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1640" y="981000"/>
            <a:ext cx="237636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924360" y="4797000"/>
            <a:ext cx="2663640" cy="129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10520" y="5418000"/>
            <a:ext cx="8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80000" y="213372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 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59280" y="6165720"/>
            <a:ext cx="29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=2(2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)=5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с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л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щ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д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ь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п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я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о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г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л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н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к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00360" y="2637000"/>
            <a:ext cx="4032360" cy="280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00360" y="2637000"/>
            <a:ext cx="0" cy="280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00360" y="2637000"/>
            <a:ext cx="4032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25440" y="35002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28720" y="2060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2565360"/>
            <a:ext cx="7524720" cy="1191240"/>
          </a:xfrm>
          <a:prstGeom prst="rect">
            <a:avLst/>
          </a:prstGeom>
          <a:solidFill>
            <a:srgbClr val="33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щадь прямоугольника равна произведению длин его сторо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59280" y="1341360"/>
            <a:ext cx="3294000" cy="6440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 = a ∙ 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7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7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5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7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4:21:26Z</dcterms:created>
  <dc:creator>Женек</dc:creator>
  <dc:description/>
  <dc:language>en-US</dc:language>
  <cp:lastModifiedBy>Наталья</cp:lastModifiedBy>
  <dcterms:modified xsi:type="dcterms:W3CDTF">2012-05-18T06:37:08Z</dcterms:modified>
  <cp:revision>9</cp:revision>
  <dc:subject/>
  <dc:title>Слайд 1</dc:title>
</cp:coreProperties>
</file>