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D05-A3C2-47E7-B9DB-C9691C63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F2B-0434-4495-A929-154A25DB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30D-55C2-401C-A378-C1C96CDB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9EA-7C9F-4F72-B334-3945D7BA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FDE-B629-4B05-8E7F-ECE5B5A7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0D9-0CE1-4A71-8AE8-F126E95F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B04-51AA-4E8D-AB31-25A5F3DE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8C7-7F6F-4B9A-92E3-180FC3D1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140-230C-4415-BD37-D01EE258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F89-28B3-4F97-BDB8-1D8381C8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E5D-BCCA-4AA9-BD2D-A1D5F8C6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6F5-8BFE-41F5-8BDD-F63065C6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823B-784C-4C3D-BA22-133F7B77B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dinews.ru/upload/iblock/75c/-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94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ГБОУ СОШ №593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с углубленным изучением 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английского языка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Невского района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резент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 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«Периметр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лощадь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уть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5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47960" y="4005360"/>
            <a:ext cx="1956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Выполни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ученицы 11-1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Антонова Евг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Разумова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18880" y="5135400"/>
            <a:ext cx="1430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етрова Н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77840" y="5950080"/>
            <a:ext cx="159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Санкт-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01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м з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 вами волшебное зеркало из Королевства Кривых зеркал. По указанным параметрам найдите его площ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81 из 184108"/>
          <p:cNvPicPr/>
          <p:nvPr/>
        </p:nvPicPr>
        <p:blipFill>
          <a:blip r:embed="rId1"/>
          <a:stretch/>
        </p:blipFill>
        <p:spPr>
          <a:xfrm>
            <a:off x="2987640" y="285264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87640" y="5977080"/>
            <a:ext cx="287964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616572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0" y="3141720"/>
            <a:ext cx="0" cy="280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10520" y="429264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10520" y="623736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170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51480" y="1474920"/>
            <a:ext cx="402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=a*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=1 2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69120" y="3213000"/>
            <a:ext cx="606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 площадь Волшеб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еркала равна 1 250 с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5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0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6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м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Картинка 15 из 182842"/>
          <p:cNvPicPr/>
          <p:nvPr/>
        </p:nvPicPr>
        <p:blipFill>
          <a:blip r:embed="rId1"/>
          <a:stretch/>
        </p:blipFill>
        <p:spPr>
          <a:xfrm>
            <a:off x="2556000" y="2060640"/>
            <a:ext cx="4047840" cy="3267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0400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1989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9080" y="3041640"/>
            <a:ext cx="12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6360" y="1384200"/>
            <a:ext cx="12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5516640"/>
            <a:ext cx="38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6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0=2 400 (с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3933720"/>
            <a:ext cx="2665440" cy="16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24360" y="4076280"/>
            <a:ext cx="280836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0000" y="455292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4896000" cy="3279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093800" y="479736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4360" y="6093000"/>
            <a:ext cx="26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=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=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2997360"/>
            <a:ext cx="5005440" cy="1556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йденный путь – это произведение скорости на время движени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558972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35280" y="4581360"/>
            <a:ext cx="5952960" cy="744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948360" y="4508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987640" y="1413000"/>
            <a:ext cx="3240000" cy="2062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v ∙ t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-c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г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ш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з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ч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ертолет летел 2 часа со скор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20 км/ч. Найдите путь вертолет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454560" cy="272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8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6" dur="10433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б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02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20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=2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4720" y="1557360"/>
            <a:ext cx="552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=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=12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=240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: путь верто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вен 240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0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1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6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7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800"/>
                            </p:stCondLst>
                            <p:childTnLst>
                              <p:par>
                                <p:cTn id="1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75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78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8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4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7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90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989000"/>
            <a:ext cx="30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5280" y="4076640"/>
            <a:ext cx="131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57640" b="0"/>
          <a:stretch/>
        </p:blipFill>
        <p:spPr>
          <a:xfrm>
            <a:off x="1116000" y="1700280"/>
            <a:ext cx="2232000" cy="3036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71640" y="4292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300720" y="2205000"/>
            <a:ext cx="1870200" cy="2156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687840" y="488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71280" y="4508640"/>
            <a:ext cx="34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=60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м/ч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=1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90000" y="5850000"/>
            <a:ext cx="31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=9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50289E-006 L 0.15973 -0.1089 C 0.19341 -0.13364 0.24375 -0.14682 0.29636 -0.14682 C 0.35625 -0.14682 0.40417 -0.13364 0.43768 -0.1089 L 0.59844 -1.50289E-006 E">
                                      <p:cBhvr>
                                        <p:cTn id="146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1706760" cy="180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11280" y="3716280"/>
            <a:ext cx="475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f_4a53124417752.gif"/>
          <p:cNvPicPr/>
          <p:nvPr/>
        </p:nvPicPr>
        <p:blipFill>
          <a:blip r:embed="rId2"/>
          <a:stretch/>
        </p:blipFill>
        <p:spPr>
          <a:xfrm>
            <a:off x="4859280" y="1989000"/>
            <a:ext cx="2143080" cy="1559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397600" y="4365720"/>
            <a:ext cx="48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=16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м/ч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=30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ин=0,5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7840" y="530064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0,5=8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я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г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3068640"/>
            <a:ext cx="395928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5589720"/>
            <a:ext cx="395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9640" y="3068640"/>
            <a:ext cx="0" cy="25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00360" y="3068640"/>
            <a:ext cx="0" cy="25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3068640"/>
            <a:ext cx="395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7080" y="395064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10480" y="41497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8720" y="5516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19890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1557360"/>
            <a:ext cx="3547800" cy="13201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= a + a + b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= 2(a + b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916280"/>
            <a:ext cx="6624720" cy="21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метр прямоугольника равен сумме длин его сторо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т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п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в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м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ш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ь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ч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 вами коробок. Как вы считаете, могла ли Дюймовочка использовать его как кроват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ую форму представляет собой дно спичечной коробки? Как вычислить перимет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34 из 15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386064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84720" y="39337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51280" y="6021360"/>
            <a:ext cx="194292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97480" y="3429000"/>
            <a:ext cx="28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дюйм = 2 см 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53280" y="452772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68920" y="6256440"/>
            <a:ext cx="7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4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2243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=4c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=6 c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1484280"/>
            <a:ext cx="6718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=2(a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=2(4+6)=20(c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) 1 дюйм=2,5 см, дл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=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с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,5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ериметр д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робка равен 20 см; Дюймовочка могла поместиться в кор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6200" y="5130720"/>
            <a:ext cx="3619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2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м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9 из 27318"/>
          <p:cNvPicPr/>
          <p:nvPr/>
        </p:nvPicPr>
        <p:blipFill>
          <a:blip r:embed="rId1"/>
          <a:stretch/>
        </p:blipFill>
        <p:spPr>
          <a:xfrm>
            <a:off x="1763640" y="1773360"/>
            <a:ext cx="5616720" cy="4219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411280" y="5157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1628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1440" y="6165720"/>
            <a:ext cx="26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(90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270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3080" y="328464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2160" y="112536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Картинка 20 из 17675"/>
          <p:cNvPicPr/>
          <p:nvPr/>
        </p:nvPicPr>
        <p:blipFill>
          <a:blip r:embed="rId1"/>
          <a:stretch/>
        </p:blipFill>
        <p:spPr>
          <a:xfrm>
            <a:off x="2627280" y="1052640"/>
            <a:ext cx="372600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76500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981000"/>
            <a:ext cx="0" cy="504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9800" y="609300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=2(20+15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70 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3800" y="18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7840" y="6357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26000" y="31590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Картинка 157 из 2596"/>
          <p:cNvPicPr/>
          <p:nvPr/>
        </p:nvPicPr>
        <p:blipFill>
          <a:blip r:embed="rId1"/>
          <a:stretch/>
        </p:blipFill>
        <p:spPr>
          <a:xfrm>
            <a:off x="1835280" y="765000"/>
            <a:ext cx="4829040" cy="5249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0" y="404640"/>
            <a:ext cx="1800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981000"/>
            <a:ext cx="237636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24360" y="4797000"/>
            <a:ext cx="266364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10520" y="541800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133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6165720"/>
            <a:ext cx="29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=2(2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)=5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щ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ь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г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2637000"/>
            <a:ext cx="4032360" cy="28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2637000"/>
            <a:ext cx="0" cy="28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2637000"/>
            <a:ext cx="4032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5440" y="35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8720" y="206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565360"/>
            <a:ext cx="7524720" cy="119124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прямоугольника равна произведению длин его сторо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1341360"/>
            <a:ext cx="3294000" cy="644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a ∙ 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4:21:26Z</dcterms:created>
  <dc:creator>Женек</dc:creator>
  <dc:description/>
  <dc:language>en-US</dc:language>
  <cp:lastModifiedBy>Наталья</cp:lastModifiedBy>
  <dcterms:modified xsi:type="dcterms:W3CDTF">2012-05-18T06:37:08Z</dcterms:modified>
  <cp:revision>9</cp:revision>
  <dc:subject/>
  <dc:title>Слайд 1</dc:title>
</cp:coreProperties>
</file>