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2.gif" ContentType="image/gif"/>
  <Override PartName="/ppt/media/image25.gif" ContentType="image/gif"/>
  <Override PartName="/ppt/media/image9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gif" ContentType="image/gif"/>
  <Override PartName="/ppt/media/image8.png" ContentType="image/png"/>
  <Override PartName="/ppt/media/image24.gif" ContentType="image/gif"/>
  <Override PartName="/ppt/media/image1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68CD-D679-41E4-82A7-3E4044605F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орошего всем дня! Спасиб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7D08-9B1E-44AB-8649-2E1CF2A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F5B-E350-4CA8-8F3C-396923B1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742-966B-4E6B-8E2B-2E04D2F3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2B3-7AEC-4179-A502-BFD65195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E37-B273-4529-85CC-8FBCA9D0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959-59B7-41C6-88E5-20F58F0A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FFE-8333-4A42-803D-3AA485B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B9B-F259-438C-A419-E42E07B2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1D0-9073-443E-87EA-E7443692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E97-9B27-49C1-8A51-18B64F2E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DDC-EEBD-41D9-90D4-6387803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A3C-A947-40A4-9D38-06DB988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E955-78D0-4198-A913-4E35A6FF7B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3.png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50920" y="126828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Животный мир зоопар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 flipV="1" rot="10800000">
            <a:off x="1041480" y="3428640"/>
            <a:ext cx="753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Arial"/>
              </a:rPr>
              <a:t>СЛОВАРЬ В КАРТИНК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4869000"/>
            <a:ext cx="42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uthor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: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Tatarnikov Artyom Form 3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2546280" cy="27147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28"/>
          <p:cNvGrpSpPr/>
          <p:nvPr/>
        </p:nvGrpSpPr>
        <p:grpSpPr>
          <a:xfrm>
            <a:off x="1953720" y="473040"/>
            <a:ext cx="5020560" cy="5073840"/>
            <a:chOff x="1953720" y="473040"/>
            <a:chExt cx="5020560" cy="5073840"/>
          </a:xfrm>
        </p:grpSpPr>
        <p:pic>
          <p:nvPicPr>
            <p:cNvPr id="53" name="Picture 29" descr="GUVERC~1"/>
            <p:cNvPicPr/>
            <p:nvPr/>
          </p:nvPicPr>
          <p:blipFill>
            <a:blip r:embed="rId2"/>
            <a:stretch/>
          </p:blipFill>
          <p:spPr>
            <a:xfrm>
              <a:off x="4993560" y="932040"/>
              <a:ext cx="102816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0" descr="GUVERC~1"/>
            <p:cNvPicPr/>
            <p:nvPr/>
          </p:nvPicPr>
          <p:blipFill>
            <a:blip r:embed="rId3"/>
            <a:stretch/>
          </p:blipFill>
          <p:spPr>
            <a:xfrm rot="999000">
              <a:off x="5658120" y="169092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1" descr="GUVERC~1"/>
            <p:cNvPicPr/>
            <p:nvPr/>
          </p:nvPicPr>
          <p:blipFill>
            <a:blip r:embed="rId4"/>
            <a:stretch/>
          </p:blipFill>
          <p:spPr>
            <a:xfrm rot="2949000">
              <a:off x="5821560" y="2732400"/>
              <a:ext cx="106380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2" descr="GUVERC~1"/>
            <p:cNvPicPr/>
            <p:nvPr/>
          </p:nvPicPr>
          <p:blipFill>
            <a:blip r:embed="rId5"/>
            <a:stretch/>
          </p:blipFill>
          <p:spPr>
            <a:xfrm rot="5218200">
              <a:off x="5577120" y="361440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3" descr="GUVERC~1"/>
            <p:cNvPicPr/>
            <p:nvPr/>
          </p:nvPicPr>
          <p:blipFill>
            <a:blip r:embed="rId6"/>
            <a:stretch/>
          </p:blipFill>
          <p:spPr>
            <a:xfrm rot="20095800">
              <a:off x="4112640" y="6555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4" descr="GUVERC~1"/>
            <p:cNvPicPr/>
            <p:nvPr/>
          </p:nvPicPr>
          <p:blipFill>
            <a:blip r:embed="rId7"/>
            <a:stretch/>
          </p:blipFill>
          <p:spPr>
            <a:xfrm rot="17977200">
              <a:off x="3310560" y="79200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35" descr="GUVERC~1"/>
            <p:cNvPicPr/>
            <p:nvPr/>
          </p:nvPicPr>
          <p:blipFill>
            <a:blip r:embed="rId8"/>
            <a:stretch/>
          </p:blipFill>
          <p:spPr>
            <a:xfrm rot="16200000">
              <a:off x="2578320" y="1262160"/>
              <a:ext cx="106380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36" descr="GUVERC~1"/>
            <p:cNvPicPr/>
            <p:nvPr/>
          </p:nvPicPr>
          <p:blipFill>
            <a:blip r:embed="rId9"/>
            <a:stretch/>
          </p:blipFill>
          <p:spPr>
            <a:xfrm rot="14740200">
              <a:off x="2123280" y="1950120"/>
              <a:ext cx="106416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7" descr="GUVERC~1"/>
            <p:cNvPicPr/>
            <p:nvPr/>
          </p:nvPicPr>
          <p:blipFill>
            <a:blip r:embed="rId10"/>
            <a:stretch/>
          </p:blipFill>
          <p:spPr>
            <a:xfrm rot="12013200">
              <a:off x="2050920" y="2690280"/>
              <a:ext cx="102816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38" descr="GUVERC~1"/>
            <p:cNvPicPr/>
            <p:nvPr/>
          </p:nvPicPr>
          <p:blipFill>
            <a:blip r:embed="rId11"/>
            <a:stretch/>
          </p:blipFill>
          <p:spPr>
            <a:xfrm rot="10800000">
              <a:off x="2385720" y="366660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39" descr="GUVERC~1"/>
            <p:cNvPicPr/>
            <p:nvPr/>
          </p:nvPicPr>
          <p:blipFill>
            <a:blip r:embed="rId12"/>
            <a:stretch/>
          </p:blipFill>
          <p:spPr>
            <a:xfrm rot="9732600">
              <a:off x="2931120" y="42249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40" descr="GUVERC~1"/>
            <p:cNvPicPr/>
            <p:nvPr/>
          </p:nvPicPr>
          <p:blipFill>
            <a:blip r:embed="rId13"/>
            <a:stretch/>
          </p:blipFill>
          <p:spPr>
            <a:xfrm rot="9101400">
              <a:off x="3839760" y="4601160"/>
              <a:ext cx="1027800" cy="7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1" descr="GUVERC~1"/>
            <p:cNvPicPr/>
            <p:nvPr/>
          </p:nvPicPr>
          <p:blipFill>
            <a:blip r:embed="rId14"/>
            <a:stretch/>
          </p:blipFill>
          <p:spPr>
            <a:xfrm rot="6963000">
              <a:off x="4759200" y="4396680"/>
              <a:ext cx="1063800" cy="72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4" descr="612298663"/>
          <p:cNvPicPr/>
          <p:nvPr/>
        </p:nvPicPr>
        <p:blipFill>
          <a:blip r:embed="rId15"/>
          <a:stretch/>
        </p:blipFill>
        <p:spPr>
          <a:xfrm>
            <a:off x="6948360" y="260280"/>
            <a:ext cx="1619280" cy="155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0" y="4076640"/>
            <a:ext cx="2152800" cy="2781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17"/>
          <a:stretch/>
        </p:blipFill>
        <p:spPr>
          <a:xfrm rot="2671200">
            <a:off x="-2052720" y="2565360"/>
            <a:ext cx="1798560" cy="154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18"/>
          <a:stretch/>
        </p:blipFill>
        <p:spPr>
          <a:xfrm>
            <a:off x="9325080" y="1197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19"/>
          <a:stretch/>
        </p:blipFill>
        <p:spPr>
          <a:xfrm rot="13994400">
            <a:off x="7164360" y="2275920"/>
            <a:ext cx="1363320" cy="136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b19e9df80c0004b2cd3678bd4950605"/>
          <p:cNvPicPr/>
          <p:nvPr/>
        </p:nvPicPr>
        <p:blipFill>
          <a:blip r:embed="rId20"/>
          <a:stretch/>
        </p:blipFill>
        <p:spPr>
          <a:xfrm>
            <a:off x="539640" y="189000"/>
            <a:ext cx="1297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 repeatCount="1000">
                                  <p:stCondLst>
                                    <p:cond delay="1600"/>
                                  </p:stCondLst>
                                  <p:childTnLst>
                                    <p:animRot by="-5400000">
                                      <p:cBhvr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C 0.05313 -0.06134 0.10573 -0.12245 0.13715 -0.15694 C 0.16858 -0.19143 0.17222 -0.22222 0.18872 -0.20648 C 0.20504 -0.19074 0.22934 -0.09884 0.23542 -0.06227 C 0.24167 -0.02569 0.21754 0.01181 0.22587 0.01297 C 0.23403 0.01412 0.27101 -0.06111 0.28559 -0.05578 C 0.30018 -0.05046 0.30955 0.01968 0.31233 0.04514 C 0.31649 0.0706 0.29636 0.10718 0.30643 0.09676 C 0.31615 0.08635 0.34931 0.02685 0.3724 -0.01736 C 0.39566 -0.06111 0.43698 -0.16967 0.44514 -0.16782 C 0.45313 -0.16597 0.41823 -0.0419 0.42083 -0.00648 C 0.42361 0.02894 0.44879 0.06898 0.46129 0.04514 C 0.47379 0.0213 0.47674 -0.11134 0.49549 -0.1493 C 0.51424 -0.18727 0.56111 -0.19236 0.57431 -0.18287 C 0.5875 -0.17338 0.57865 -0.12916 0.57431 -0.09236 C 0.56927 -0.05555 0.54097 0.02778 0.54427 0.03866 C 0.54757 0.04954 0.58056 -0.01944 0.59393 -0.02662 C 0.60729 -0.03379 0.6125 0.02199 0.62448 -0.00509 C 0.63646 -0.03217 0.65799 -0.18402 0.66597 -0.18912 C 0.67396 -0.19421 0.66302 -0.04421 0.6724 -0.03588 C 0.68229 -0.02662 0.71649 -0.15231 0.72448 -0.13634 C 0.73247 -0.12037 0.71511 0.03172 0.72101 0.06019 C 0.72691 0.08866 0.74809 0.06459 0.75955 0.03449 C 0.77136 0.0044 0.77778 -0.1081 0.79028 -0.12037 C 0.80278 -0.13264 0.81702 -0.02106 0.8342 -0.03958 C 0.85139 -0.0581 0.87761 -0.21319 0.8934 -0.23217 C 0.9092 -0.25115 0.91771 -0.17477 0.92934 -0.15347 C 0.94097 -0.13217 0.95087 -0.07847 0.9632 -0.10416 C 0.97552 -0.12986 0.98629 -0.29537 1.00347 -0.30833 C 1.02066 -0.32129 1.04827 -0.17685 1.06649 -0.18148 C 1.08472 -0.18611 1.08715 -0.32801 1.1132 -0.33634 C 1.13924 -0.34467 1.2 -0.25301 1.22292 -0.23102 E">
                                      <p:cBhvr>
                                        <p:cTn id="36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-0.08299 -0.07592 -0.16598 -0.15162 -0.20487 -0.17407 C -0.24375 -0.19652 -0.22275 -0.14514 -0.23386 -0.13541 C -0.24497 -0.12569 -0.25938 -0.10602 -0.27101 -0.11597 C -0.28264 -0.12592 -0.29532 -0.19768 -0.3033 -0.1956 C -0.31129 -0.19352 -0.32153 -0.12523 -0.31945 -0.10301 C -0.31737 -0.08078 -0.28959 -0.07801 -0.29046 -0.06227 C -0.29132 -0.04652 -0.3125 -0.00277 -0.32431 -0.00856 C -0.33612 -0.01435 -0.35018 -0.08102 -0.36129 -0.09676 C -0.3724 -0.1125 -0.38959 -0.1162 -0.39046 -0.10301 C -0.39132 -0.08981 -0.36893 -0.03796 -0.36615 -0.01713 C -0.36337 0.00371 -0.36563 0.02755 -0.37431 0.02153 C -0.38299 0.01551 -0.40799 -0.04051 -0.41789 -0.0537 C -0.42778 -0.06689 -0.43178 -0.06782 -0.43386 -0.05787 C -0.43594 -0.04791 -0.43073 -0.01458 -0.43073 0.00648 C -0.43073 0.02755 -0.42448 0.07084 -0.43386 0.06898 C -0.44323 0.06713 -0.47535 0.00834 -0.48716 -0.00416 C -0.49896 -0.01666 -0.50191 -0.01551 -0.50487 -0.00625 C -0.50782 0.00301 -0.50834 0.03334 -0.50487 0.05162 C -0.50139 0.06991 -0.47066 0.09885 -0.48386 0.10324 C -0.49705 0.10764 -0.579 0.06574 -0.58386 0.07755 C -0.58889 0.08936 -0.52448 0.15255 -0.51303 0.17431 C -0.50157 0.19607 -0.50851 0.19977 -0.51459 0.2088 C -0.52066 0.21783 -0.53733 0.24653 -0.55 0.22801 C -0.56268 0.20949 -0.57414 0.11343 -0.59046 0.09699 C -0.60678 0.08056 -0.6375 0.11158 -0.64844 0.12917 C -0.65938 0.14676 -0.6533 0.18588 -0.6566 0.20232 C -0.6599 0.21875 -0.65365 0.22223 -0.66789 0.22801 C -0.68212 0.2338 -0.72622 0.2588 -0.74202 0.23658 C -0.75782 0.21436 -0.75469 0.12732 -0.76303 0.09468 C -0.77136 0.06181 -0.78021 0.03704 -0.79202 0.03889 C -0.80382 0.04074 -0.82587 0.08125 -0.83386 0.10556 C -0.84185 0.12986 -0.83455 0.16551 -0.84046 0.18496 C -0.84636 0.2044 -0.86007 0.22037 -0.86945 0.22153 C -0.87882 0.22269 -0.89063 0.22408 -0.89688 0.19144 C -0.90313 0.1588 -0.90417 0.0625 -0.9066 0.02593 C -0.90903 -0.01064 -0.90382 -0.03426 -0.91129 -0.02777 C -0.91875 -0.02129 -0.9382 0.03889 -0.95174 0.06459 C -0.96546 0.09028 -0.98021 0.13843 -0.99393 0.12686 C -1.00764 0.11528 -1.01424 0.00533 -1.03421 -0.00439 C -1.05417 -0.01412 -1.09202 0.07616 -1.1132 0.06875 C -1.13438 0.06135 -1.13264 -0.01551 -1.16164 -0.04953 C -1.19063 -0.08356 -1.26112 -0.11759 -1.28733 -0.13541 E">
                                      <p:cBhvr>
                                        <p:cTn id="40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1.11111E-006 C -0.03021 0.00532 -0.06042 0.01088 -0.079 0.01296 C -0.09757 0.01504 -0.09914 0.01296 -0.11129 0.01296 C -0.12344 0.01296 -0.13889 0.01204 -0.15157 0.01296 C -0.16424 0.01389 -0.1816 0.01782 -0.18716 0.01921 E">
                                      <p:cBhvr>
                                        <p:cTn id="42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468360" y="189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P a r r o 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4 - попугай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3276720" y="1913040"/>
            <a:ext cx="5618160" cy="4727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611280" y="260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F o 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/>
          <p:cNvSpPr/>
          <p:nvPr/>
        </p:nvSpPr>
        <p:spPr>
          <a:xfrm>
            <a:off x="468360" y="4762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C r o c o d i l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-main-pic" descr="Описание: Картинка 16 из 3202"/>
          <p:cNvPicPr/>
          <p:nvPr/>
        </p:nvPicPr>
        <p:blipFill>
          <a:blip r:embed="rId1"/>
          <a:stretch/>
        </p:blipFill>
        <p:spPr>
          <a:xfrm>
            <a:off x="2050920" y="2637000"/>
            <a:ext cx="67770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242000" y="260280"/>
            <a:ext cx="236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4e75a3"/>
                </a:solidFill>
                <a:latin typeface="Constantia"/>
                <a:ea typeface="Arial"/>
              </a:rPr>
              <a:t>Fish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2041560"/>
            <a:ext cx="74278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4"/>
          <p:cNvSpPr/>
          <p:nvPr/>
        </p:nvSpPr>
        <p:spPr>
          <a:xfrm>
            <a:off x="468360" y="189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B u t t e r f l 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92360" y="200664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52240" y="692280"/>
            <a:ext cx="858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c1c06"/>
                </a:solidFill>
                <a:latin typeface="Comic Sans MS"/>
                <a:ea typeface="Arial"/>
              </a:rPr>
              <a:t>Thank you very much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19640" y="2637000"/>
            <a:ext cx="48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1619280" cy="155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340000" y="4581360"/>
            <a:ext cx="129708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 ресурсы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900igr.ne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dizim.ru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moisoveti.ru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ww.liveinternet.ru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Verdana"/>
              </a:rPr>
              <a:t>LET’S GO TO THE ZOO</a:t>
            </a:r>
            <a:r>
              <a:rPr b="1" lang="ru-RU" sz="4400" spc="-1" strike="noStrike">
                <a:solidFill>
                  <a:srgbClr val="cc00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, we go, we go to the z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see a tiger and a zebra,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2387520"/>
            <a:ext cx="792000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1332000" y="260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M o n k e 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Картинка 26 из 25045"/>
          <p:cNvPicPr/>
          <p:nvPr/>
        </p:nvPicPr>
        <p:blipFill>
          <a:blip r:embed="rId1"/>
          <a:stretch/>
        </p:blipFill>
        <p:spPr>
          <a:xfrm>
            <a:off x="1763640" y="1916280"/>
            <a:ext cx="626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4"/>
          <p:cNvSpPr/>
          <p:nvPr/>
        </p:nvSpPr>
        <p:spPr>
          <a:xfrm>
            <a:off x="1332000" y="26028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T i g e 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tiger.jpg"/>
          <p:cNvPicPr/>
          <p:nvPr/>
        </p:nvPicPr>
        <p:blipFill>
          <a:blip r:embed="rId1"/>
          <a:stretch/>
        </p:blipFill>
        <p:spPr>
          <a:xfrm>
            <a:off x="1908000" y="2060640"/>
            <a:ext cx="54723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4"/>
          <p:cNvSpPr/>
          <p:nvPr/>
        </p:nvSpPr>
        <p:spPr>
          <a:xfrm>
            <a:off x="1332000" y="26028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A n t e l o p e 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londonzoo2"/>
          <p:cNvPicPr/>
          <p:nvPr/>
        </p:nvPicPr>
        <p:blipFill>
          <a:blip r:embed="rId1"/>
          <a:stretch/>
        </p:blipFill>
        <p:spPr>
          <a:xfrm>
            <a:off x="1908000" y="2205000"/>
            <a:ext cx="488808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1332000" y="26028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P e n g u i n 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4" descr="Edi2[1]"/>
          <p:cNvPicPr/>
          <p:nvPr/>
        </p:nvPicPr>
        <p:blipFill>
          <a:blip r:embed="rId1"/>
          <a:stretch/>
        </p:blipFill>
        <p:spPr>
          <a:xfrm>
            <a:off x="1692360" y="2033640"/>
            <a:ext cx="54720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4"/>
          <p:cNvSpPr/>
          <p:nvPr/>
        </p:nvSpPr>
        <p:spPr>
          <a:xfrm>
            <a:off x="1332000" y="260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G i r a f f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500640" cy="4176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4419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4"/>
          <p:cNvSpPr/>
          <p:nvPr/>
        </p:nvSpPr>
        <p:spPr>
          <a:xfrm>
            <a:off x="1332000" y="26028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T o r t o i s 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giant-asian-pond-turtle-1420"/>
          <p:cNvPicPr/>
          <p:nvPr/>
        </p:nvPicPr>
        <p:blipFill>
          <a:blip r:embed="rId1"/>
          <a:stretch/>
        </p:blipFill>
        <p:spPr>
          <a:xfrm>
            <a:off x="2411280" y="1700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1332000" y="260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800080"/>
                </a:solidFill>
                <a:latin typeface="Constantia"/>
                <a:ea typeface="Arial"/>
              </a:rPr>
              <a:t>E l e f a n 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15304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58:19Z</dcterms:created>
  <dc:creator>1</dc:creator>
  <dc:description/>
  <dc:language>en-US</dc:language>
  <cp:lastModifiedBy>Раиса</cp:lastModifiedBy>
  <dcterms:modified xsi:type="dcterms:W3CDTF">2012-04-30T07:47:16Z</dcterms:modified>
  <cp:revision>66</cp:revision>
  <dc:subject/>
  <dc:title>СЛОВАРЬ  В  КАРТИНКАХ</dc:title>
</cp:coreProperties>
</file>