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F89B-35B5-4B28-B242-5915B1FE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814-B401-45A0-8077-A276D503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E0BE-E93C-4B67-8521-2844DDE3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43CC-6D4B-48B6-B2F8-492DA715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CD5D-3BAE-4C6B-BE8B-BDAB6ADD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1395-2BA3-428D-BF26-486F7242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B20B-AC6D-4E12-B1A8-93EA6F8B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BC00-1DD6-489A-B32E-31F6808D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CCBC-9D3E-4DC8-ABDD-2FF700C7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45A1-EDF1-43ED-84DD-0CB0F0EB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EAF7-B1A9-4929-A53B-A7FD707B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91B2-898F-4337-951C-44BA2286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46C8-C815-4681-84D1-D7D3A64F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1DDC-79B4-44EE-A1BD-EEC628C0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419C-AC09-4050-9211-86EBF8FD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0E66-B9DF-45A3-A333-2034A2B7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38EA-D88B-468D-8294-F7908EAA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5BEF-9FD1-421D-B2AF-E8A87EA2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065A-C3EC-4859-BF92-3C950F31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45C3-8AF6-4C95-8020-80244B7E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76B1-5356-4892-8617-A93A13D1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9E20-B0EB-43FB-9D07-2E9101F8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213-310C-4933-B511-91678540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24AD-A618-4AA2-B7ED-D9D18DA4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5BF2-1B46-4AF6-94A9-A5270311F2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D3AC-F734-4EB1-BBA6-4660ADFADB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48006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Ранняя  </a:t>
            </a:r>
            <a:br>
              <a:rPr sz="4100"/>
            </a:b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беременность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76160" y="3809520"/>
            <a:ext cx="6095880" cy="12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Паначёва И.Е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Уйско-Чебаркульская со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5791320" y="762120"/>
            <a:ext cx="2387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Итог ранней беременност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арушение физиологических функций организм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Отсутствие возможности получить образовани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блема социального характера- как воспримут в обществ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блема психологического характера- необходимость принятия решени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Твой выбор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умайте, возможно рождение малыша это лучше, чем ранний аборт и угроза бесплодия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 любом случае,  помните, что ближе родителей у вас никого нет, и что в этот трудный момент вы должны быть вмест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Ресурсы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baby.ru/sp/55327/blog/post/5436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medzhencentre.ru/beremennost/rannyay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tiensmed.ru/news/ranoberem2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womenhealthnet.ru/pregnancy-health/745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Что такое ранняя беременность?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838080" y="1828800"/>
            <a:ext cx="7696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едицинским меркам считается, что беременность, наступившая до 18 лет, является ранней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к этому возрасту женский организм полностью созревает и готов к вынашиванию и рождению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Из истори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о, что еще несколько веков назад беременность в 13 -14 лет — вполне нормальное явлени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их пор в странах Африки или Азии ранняя беременность — обычное д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Но не забывайте о колоссальной смертности при родах в этом возраст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Чем опасна ранняя беременность?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беременности организм работает в усиленном режиме — большая нагрузка падает на сердечно-сосудистую, эндокринную систему и внутренние орг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стковая гормональная перестройка организма накладывается на беременную перестрой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аленьких мам чаще происходят плацентарная недостаточность, анемия, тяжелые токсикоз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Организм девочек еще не готов к таким нагрузкам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Как уберечься от нежелательной беременности?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ранних беременностей являются незапланирован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ют, что основной проблемой ранней беременности заключается в недостаточном половом воспитании, или отсутствии как таков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ном, решение проблемы нежелательной беременности на 90 % зависит от обстановки дома и от воспитания родит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ли девочка не находит понимания со стороны родителей, то она начинает стремиться вести рискованный образ жизни как бы «назло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Статистика показывает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70% беременностей заканчивается абортами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15% выкидышами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15% родами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о даже среди этих 15% есть риск смерти ребенка или матери во время 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Какая же существует профилактика ранней беременности?</a:t>
            </a:r>
            <a:br>
              <a:rPr sz="2800"/>
            </a:b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Чаще  разговаривать с родителями о методах предохранения от нежелательной беременност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Читать  книги о половом воспитании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Если девочка начинает половую жизнь, она должна понимать о дальнейших последствия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Аборт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За абортом может последовать цепочка гинекологических заболеваний или даже бесплодие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льтернативой аборту может быть только контрацепция, о которой чем раньше вы узнаете, тем положительнее   будет результат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336666"/>
                </a:solidFill>
                <a:latin typeface="Arial Black"/>
              </a:rPr>
              <a:t>Ранняя беременность -                    что делать?</a:t>
            </a:r>
            <a:br>
              <a:rPr sz="3600"/>
            </a:b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еред тем как принять решение,  выслушать мнение старшего поколения и пройти консультацию доктор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Главное, в таких случаях не терять контакт с родителями и не предпринимать радикальных мер самостоятельн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аначёва И.Е.</dc:creator>
  <dc:description/>
  <dc:language>en-US</dc:language>
  <cp:lastModifiedBy>Ирина Евгеньевна</cp:lastModifiedBy>
  <dcterms:modified xsi:type="dcterms:W3CDTF">2012-05-28T13:21:50Z</dcterms:modified>
  <cp:revision>11</cp:revision>
  <dc:subject/>
  <dc:title>Ранняя беременнос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