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95B-D045-49EE-AE45-D64AE8D1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F65D-FC11-4FC7-9A22-AE45B7E3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A65-C447-4DBD-B487-F779E27E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62A-38AF-44CD-8B2A-716142EE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BFDD-89C5-4988-8FD0-D53A7152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5AB6-77DD-4995-92F5-7241BEA5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5D6F-B3C8-4EB5-8254-37FC45FC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BB53-BD40-4763-8047-706496C5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A92F-4D17-4249-B8F4-70767BAF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8B29-F66F-4968-8677-F4CF456C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3B8C-887F-42D4-87CA-A2AA47BB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7C3-6747-4CEB-BDBC-40238920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FEB4-CE20-4A2F-905E-B56FC013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67B4-D440-4E01-9C1A-1FB61C03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75DD-D124-49F8-8DDD-F7950435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F6A8-24B7-4750-BFE9-E95FED5A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680B-65C6-4516-A3C2-395D52B3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D3C-BC5F-477E-9779-58DC1CA9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82E-6816-4A2E-A525-8FEE5FE3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2598-D944-45E0-A9C7-0EF45736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E79-E08A-4736-8B37-E5115730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849-9411-4D3A-8614-BD5336BE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F41-9D05-44EC-8F40-4D99EFDE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9EC-4863-4C2B-9AD0-B24EB8E4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2706-22E7-4CEC-AC88-63ECCB7E74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CFFE-6098-455C-BC0E-BEFD7E022C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48006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Ранняя  </a:t>
            </a:r>
            <a:br>
              <a:rPr sz="4100"/>
            </a:b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беременность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160" y="3809520"/>
            <a:ext cx="609588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Паначёва И.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Уйско-Чебаркульская с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5791320" y="762120"/>
            <a:ext cx="2387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Итог ранней беременност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рушение физиологических функций организм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тсутствие возможности получить образова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блема социального характера- как воспримут в обществ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блема психологического характера- необходимость принятия решени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вой выбо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умайте, возможно рождение малыша это лучше, чем ранний аборт и угроза бесплодия?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любом случае,  помните, что ближе родителей у вас никого нет, и что в этот трудный момент вы должны быть вмест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Ресурсы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aby.ru/sp/55327/blog/post/5436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edzhencentre.ru/beremennost/rannya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tiensmed.ru/news/ranoberem2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omenhealthnet.ru/pregnancy-health/745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Что такое ранняя беременность?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838080" y="1828800"/>
            <a:ext cx="769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дицинским меркам считается, что беременность, наступившая до 18 лет, является ранне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к этому возрасту женский организм полностью созревает и готов к вынашиванию и рождению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Из истори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но, что еще несколько веков назад беременность в 13 -14 лет — вполне нормальное явл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их пор в странах Африки или Азии ранняя беременность — обычное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о не забывайте о колоссальной смертности при родах в этом возраст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Чем опасна ранняя беременность?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беременности организм работает в усиленном режиме — большая нагрузка падает на сердечно-сосудистую, эндокринную систему и внутренние орг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стковая гормональная перестройка организма накладывается на беременную перестр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еньких мам чаще происходят плацентарная недостаточность, анемия, тяжелые токсико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Организм девочек еще не готов к таким нагрузкам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Как уберечься от нежелательной беременности?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ранних беременностей являются незапланирова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ют, что основной проблемой ранней беременности заключается в недостаточном половом воспитании, или отсутствии как таков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ом, решение проблемы нежелательной беременности на 90 % зависит от обстановки дома и от воспитания род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ли девочка не находит понимания со стороны родителей, то она начинает стремиться вести рискованный образ жизни как бы «назл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татистика показывает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70% беременностей заканчивается абортами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5% выкидышами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15% родам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 даже среди этих 15% есть риск смерти ребенка или матери во время р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36666"/>
                </a:solidFill>
                <a:latin typeface="Arial Black"/>
              </a:rPr>
              <a:t>Какая же существует профилактика ранней беременности?</a:t>
            </a:r>
            <a:br>
              <a:rPr sz="2800"/>
            </a:b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аще  разговаривать с родителями о методах предохранения от нежелательной беременност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итать  книги о половом воспитани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Если девочка начинает половую жизнь, она должна понимать о дальнейших последствия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Аборт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 абортом может последовать цепочка гинекологических заболеваний или даже бесплодие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льтернативой аборту может быть только контрацепция, о которой чем раньше вы узнаете, тем положительнее   будет результа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336666"/>
                </a:solidFill>
                <a:latin typeface="Arial Black"/>
              </a:rPr>
              <a:t>Ранняя беременность -                    что делать?</a:t>
            </a:r>
            <a:br>
              <a:rPr sz="3600"/>
            </a:b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еред тем как принять решение,  выслушать мнение старшего поколения и пройти консультацию доктор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Главное, в таких случаях не терять контакт с родителями и не предпринимать радикальных мер самостоятельн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начёва И.Е.</dc:creator>
  <dc:description/>
  <dc:language>en-US</dc:language>
  <cp:lastModifiedBy>Ирина Евгеньевна</cp:lastModifiedBy>
  <dcterms:modified xsi:type="dcterms:W3CDTF">2012-05-28T13:21:50Z</dcterms:modified>
  <cp:revision>11</cp:revision>
  <dc:subject/>
  <dc:title>Ранняя беремен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