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320C-7A0F-43A2-B7EA-BCC1017B6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8D58-A88E-4443-942A-23875539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1569-49B8-4339-AF71-F01B8DC8A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7F39-2145-4866-8238-C4E24C798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3A04-95A8-4994-9344-0E032AA9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CC14-0D0B-4E98-863C-4848EC61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DE4B-3749-4D63-B918-3D92119F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C8EA-359C-43B7-B700-4EF497F0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1B83-345F-4560-9058-D1AB1CF1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B3DB-F3A5-456A-AC6D-F46A898E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96C4-8175-4E98-A81A-91ACE7F2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A8D8-D12A-4A7B-B7E9-53C04245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1293-A1EC-4981-AC97-6B9482739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a50021"/>
                </a:solidFill>
                <a:latin typeface="Comic Sans MS"/>
              </a:rPr>
              <a:t>Системы счислени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2700360" y="3213000"/>
            <a:ext cx="45356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42472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чало десятичной системе счисления было положено в Древнем Египте и Вавилоне, в основном ее формирование было завершено индийскими математиками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-V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. н.э. Арабы первые познакомились с этой нумерацией и по достоинству ее оценили.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еке арабская нумерация чисел распространилась по всей Европ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635280" y="4149720"/>
            <a:ext cx="4824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28908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77770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кажите какие числа записаны с ошиб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вет обоснуй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5,6214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2543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2541,44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101201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315,321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875,965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21,101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250920" y="1557360"/>
          <a:ext cx="8497800" cy="2950920"/>
        </p:xfrm>
        <a:graphic>
          <a:graphicData uri="http://schemas.openxmlformats.org/drawingml/2006/table">
            <a:tbl>
              <a:tblPr/>
              <a:tblGrid>
                <a:gridCol w="1008000"/>
                <a:gridCol w="407880"/>
                <a:gridCol w="709560"/>
                <a:gridCol w="706680"/>
                <a:gridCol w="711000"/>
                <a:gridCol w="706680"/>
                <a:gridCol w="709560"/>
                <a:gridCol w="706320"/>
                <a:gridCol w="709560"/>
                <a:gridCol w="706680"/>
                <a:gridCol w="709560"/>
                <a:gridCol w="706320"/>
              </a:tblGrid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Text Box 146"/>
          <p:cNvSpPr/>
          <p:nvPr/>
        </p:nvSpPr>
        <p:spPr>
          <a:xfrm>
            <a:off x="179280" y="5084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16   -    0,1,2,3,4,5,6,7,8,9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(10),B(11),C(12),D(13),E(14),F(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476280"/>
            <a:ext cx="55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Представление первых чисе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в некоторых системах 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Представление чисел в позиционных системах счисления. Перевод в десятичную систему счис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2276640"/>
            <a:ext cx="86421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a50021"/>
                </a:solidFill>
                <a:latin typeface="Arial"/>
              </a:rPr>
              <a:t>разряды           2   1   0  -1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1 2 = 3*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 4*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 8*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 1*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 2*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Любое действительное число можно записывать в любой позиционной системе счисления в виде суммы положительных и отрицательных степеней числа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 q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 (основания систем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324000" y="4292640"/>
            <a:ext cx="820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Задание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ишите в развернутой форме числа и запишите их в десятичной системе счисл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7764,1=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2430,43=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3AF,15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ревод чисел из десятичное системы сч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628640"/>
            <a:ext cx="63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исло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перевести в дво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2665440" cy="17254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140000" y="249228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4560" y="3860640"/>
            <a:ext cx="672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исл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вести в восьмер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11280" y="4292640"/>
            <a:ext cx="2089080" cy="18241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278520" y="4651200"/>
            <a:ext cx="18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0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исл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46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вести в  шестнадцатеричную систему счис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ведем итог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752480"/>
            <a:ext cx="829152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называют системой счисл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ие виды систем счисления вы знает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почему она считается непозиционной системой счисл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ведите примеры непозиционной системы с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ая система называется позиционн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называться основанием  в позиционной системе счисл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812000" y="836640"/>
            <a:ext cx="11271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сло можно представить группой символов некоторого алфави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истема счисления – совокупность правил для обозначения и наименования чис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ая простейшая СС –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УНАРНА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в которой используется всего 1 символ (палочка, узелок, зарубка, камушек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Непозиционная </a:t>
            </a:r>
            <a:br>
              <a:rPr sz="4000"/>
            </a:b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система сч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а счисления, в которой значение цифры не зависит от ее позиции в записи чи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мером непозиционной системы счисления является римская система счисления,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ще один пример непозиционной системы счисл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82090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50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00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500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00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За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ведите числа из римской системы счисления в десятичну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XXXIV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LIXV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XC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Запишите десятичные числа в римской системе счисл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8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690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58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Алфавитная система сч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362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записи чисел использовался буквенный алфавит. В славянский системе над буквой, обозначающей цифру, ставился специальный знак – «титло». Славянская система счисления сохранилась в богослужебных книг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лфавитная система счисления была распространена у древних армян, грузин, арабов, евреев и других народов Ближнего Вост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187280" y="2997360"/>
            <a:ext cx="684072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едостатки непозиционной системы счисл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Для записи больших чисел необходимо вводить новые цифры (буквы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Трудно записывать большие чис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Нельзя записывать дробные и отрицательные чис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Нет нул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Очень сложно выполнять арифметические дей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Позиционная </a:t>
            </a:r>
            <a:br>
              <a:rPr sz="4000"/>
            </a:b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система сч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стема счисления, в которой значение цифры  зависит от ее позиции в записи чи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для  записи чисел используется десять цифр (0,1,2,3,4,5,6,7,8,9), то такую систему счисления называют десятичной системой счис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 позиционным системам счисления относятся десятичная, двоичная, восьмеричная, двенадцатеричная, шестнадцатеричная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ые достоинства позиционной системы счисл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Ограниченное количество символов для записи чисел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ростота выполнения арифметических операц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снование позиционной системы счисления (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оличество символов, используемых для записи чис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2:02:39Z</dcterms:created>
  <dc:creator>Комп</dc:creator>
  <dc:description/>
  <dc:language>en-US</dc:language>
  <cp:lastModifiedBy>Комп</cp:lastModifiedBy>
  <dcterms:modified xsi:type="dcterms:W3CDTF">2012-05-09T12:13:24Z</dcterms:modified>
  <cp:revision>3</cp:revision>
  <dc:subject/>
  <dc:title>Системы счисления</dc:title>
</cp:coreProperties>
</file>