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29B-B557-4F60-A039-604E2BC8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25E-0EC7-4D71-BC8B-CBBC2323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2F7-9AFA-4554-AB8B-092E5BAE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B1D-1CC5-432B-A59B-A8893F20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162-A591-45FC-A7AC-3AA4994C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71D-E4E7-402B-8CA1-DD7AAB7D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970-7421-4AED-8CC1-803409A4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764-D05A-4977-947F-EB78F0AC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EE6-E7EF-4DC3-A058-3786B379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C10-187E-499B-809E-213D796D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A85-88DC-4308-9A3A-DC479D9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9C72-3F60-4153-8A62-E09F63F0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027D-B593-4EE3-A38E-655E103C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a50021"/>
                </a:solidFill>
                <a:latin typeface="Comic Sans MS"/>
              </a:rPr>
              <a:t>Системы счислени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700360" y="3213000"/>
            <a:ext cx="45356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4247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 десятичной системе счисления было положено в Древнем Египте и Вавилоне, в основном ее формирование было завершено индийскими математиками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-V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в. н.э. Арабы первые познакомились с этой нумерацией и по достоинству ее оценили.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е арабская нумерация чисел распространилась по всей Евро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635280" y="4149720"/>
            <a:ext cx="482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28908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77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жите какие числа записаны с ошиб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 обосн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5,6214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2543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2541,44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10120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315,32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875,965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21,101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50920" y="1557360"/>
          <a:ext cx="8497800" cy="2950920"/>
        </p:xfrm>
        <a:graphic>
          <a:graphicData uri="http://schemas.openxmlformats.org/drawingml/2006/table">
            <a:tbl>
              <a:tblPr/>
              <a:tblGrid>
                <a:gridCol w="1008000"/>
                <a:gridCol w="407880"/>
                <a:gridCol w="709560"/>
                <a:gridCol w="706680"/>
                <a:gridCol w="711000"/>
                <a:gridCol w="706680"/>
                <a:gridCol w="709560"/>
                <a:gridCol w="706320"/>
                <a:gridCol w="709560"/>
                <a:gridCol w="706680"/>
                <a:gridCol w="709560"/>
                <a:gridCol w="706320"/>
              </a:tblGrid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146"/>
          <p:cNvSpPr/>
          <p:nvPr/>
        </p:nvSpPr>
        <p:spPr>
          <a:xfrm>
            <a:off x="179280" y="508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16   -    0,1,2,3,4,5,6,7,8,9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(10),B(11),C(12),D(13),E(14),F(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4762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Представление первых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в некоторых системах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едставление чисел в позиционных системах счисления. Перевод в десятичную систему счис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a50021"/>
                </a:solidFill>
                <a:latin typeface="Arial"/>
              </a:rPr>
              <a:t>разряды           2   1   0  -1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1 2 = 3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4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8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1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 2*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Любое действительное число можно записывать в любой позиционной системе счисления в виде суммы положительных и отрицательных степеней числа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 q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 (основания сис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24000" y="4292640"/>
            <a:ext cx="82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Задани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в развернутой форме числа и запишите их в десятичной системе счисл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7764,1=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2430,43=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3AF,15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вод чисел из десятичное системы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62864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о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перевести в дво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2665440" cy="1725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40000" y="249228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4560" y="386064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вести в восьмеричную систему счис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2089080" cy="1824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78520" y="46512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0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46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вести в  шестнадцате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ведем итог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752480"/>
            <a:ext cx="82915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называют системой счис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виды систем счисления вы знае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почему она считается непозиционной системой счис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дите примеры непозиционной системы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система называется позицион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называться основанием  в позиционной системе счис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812000" y="836640"/>
            <a:ext cx="1127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можно представить группой символов некоторого алфав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истема счисления – совокупность правил для обозначения и наименования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простейшая СС –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НАР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 которой используется всего 1 символ (палочка, узелок, зарубка, камушек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Непозиционная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счисления, в которой значение цифры не зависит от ее позиции в записи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мером непозиционной системы счисления является римская система счисления,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ще один пример непозиционной системы счисл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209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0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едите числа из римской системы счисления в десятичну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XXXIV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LIX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XC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Запишите десятичные числа в римской системе счис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9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5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Алфавитная 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362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записи чисел использовался буквенный алфавит. В славянский системе над буквой, обозначающей цифру, ставился специальный знак – «титло». Славянская система счисления сохранилась в богослужебных кни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фавитная система счисления была распространена у древних армян, грузин, арабов, евреев и других народов Ближнего Вос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187280" y="2997360"/>
            <a:ext cx="68407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достатки непозиционной системы счис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Для записи больших чисел необходимо вводить новые цифры (букв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рудно записывать большие чи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ельзя записывать дробные и отрицательные чис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ет ну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чень сложно выполнять арифметически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Позиционная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истема сч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счисления, в которой значение цифры  зависит от ее позиции в записи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для  записи чисел используется десять цифр (0,1,2,3,4,5,6,7,8,9), то такую систему счисления называют десятичной системой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озиционным системам счисления относятся десятичная, двоичная, восьмеричная, двенадцатеричная, шестнадцатеричн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достоинства позиционной системы счис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граниченное количество символов для записи чисе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остота выполнения арифметических опера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нование позиционной системы счисления (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личество символов, используемых для записи чис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2:02:39Z</dcterms:created>
  <dc:creator>Комп</dc:creator>
  <dc:description/>
  <dc:language>en-US</dc:language>
  <cp:lastModifiedBy>Комп</cp:lastModifiedBy>
  <dcterms:modified xsi:type="dcterms:W3CDTF">2012-05-09T12:13:24Z</dcterms:modified>
  <cp:revision>3</cp:revision>
  <dc:subject/>
  <dc:title>Системы счисления</dc:title>
</cp:coreProperties>
</file>