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5.jpeg" ContentType="image/jpeg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9.gif" ContentType="image/gif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1.gif" ContentType="image/gif"/>
  <Override PartName="/ppt/media/image2.gif" ContentType="image/gif"/>
  <Override PartName="/ppt/media/image37.gif" ContentType="image/gif"/>
  <Override PartName="/ppt/media/image29.jpeg" ContentType="image/jpeg"/>
  <Override PartName="/ppt/media/image39.wmf" ContentType="image/x-wmf"/>
  <Override PartName="/ppt/media/image41.jpeg" ContentType="image/jpeg"/>
  <Override PartName="/ppt/media/image8.jpeg" ContentType="image/jpeg"/>
  <Override PartName="/ppt/media/image38.png" ContentType="image/png"/>
  <Override PartName="/ppt/media/image42.wmf" ContentType="image/x-wmf"/>
  <Override PartName="/ppt/media/image46.gif" ContentType="image/gif"/>
  <Override PartName="/ppt/media/image43.jpeg" ContentType="image/jpeg"/>
  <Override PartName="/ppt/media/image44.wmf" ContentType="image/x-wmf"/>
  <Override PartName="/ppt/media/image1.png" ContentType="image/png"/>
  <Override PartName="/ppt/media/image34.png" ContentType="image/png"/>
  <Override PartName="/ppt/media/image40.jpeg" ContentType="image/jpeg"/>
  <Override PartName="/ppt/media/image45.wmf" ContentType="image/x-wmf"/>
  <Override PartName="/ppt/media/image5.jpeg" ContentType="image/jpeg"/>
  <Override PartName="/ppt/media/image26.jpeg" ContentType="image/jpeg"/>
  <Override PartName="/ppt/media/image13.png" ContentType="image/png"/>
  <Override PartName="/ppt/media/image4.gif" ContentType="image/gif"/>
  <Override PartName="/ppt/media/image12.png" ContentType="image/png"/>
  <Override PartName="/ppt/media/image33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35.gif" ContentType="image/gif"/>
  <Override PartName="/ppt/media/image7.jpeg" ContentType="image/jpeg"/>
  <Override PartName="/ppt/media/image18.png" ContentType="image/png"/>
  <Override PartName="/ppt/media/image36.jpeg" ContentType="image/jpe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C49-03A1-4B32-B98E-C5EF9643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21DA-C436-4208-84F7-AB74E0F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915-79B9-4483-99E6-03465A8A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EB4-69DE-480D-8106-D67FF357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16D6-2F20-4FE3-BB09-FD352A64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184F-1D29-416E-86B1-E90572C0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99E2-B7B0-4D74-9BC9-E417D81A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C4C2-EC04-43A6-AACC-FCED4038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061-17B7-4971-A426-04432595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84E3-E05B-4E43-993A-5544A151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EE62-AF9E-4DA6-B8CF-237E834F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3A4-193C-405A-9C95-5470F670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56C6-6444-45A9-9BE3-954854D1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33DA-39C0-4920-BAF4-AD0F33E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8DF3-41E7-4FF9-B981-92A37FE3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924D-825D-4739-B507-6ACC6780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D86-84A7-44EB-A381-D77559C6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993-27B1-4739-AB64-12F3C04D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A54-9F4B-4638-A244-767DB91F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FC8-7BAA-489D-8EA6-1AB32E7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67D-7E59-4315-8438-2D91BE3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ECD-AE9C-4BD7-8408-F694C045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15F-F1F1-4D1E-92AC-FE9AA6D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A76-D594-41EA-AE72-C98AE99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0A30-2866-4526-9161-6C6F78E257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B94-F393-43B1-842A-0AC6391F86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Творческие фантазии на уроке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9" descr="пчелки"/>
          <p:cNvPicPr/>
          <p:nvPr/>
        </p:nvPicPr>
        <p:blipFill>
          <a:blip r:embed="rId1"/>
          <a:stretch/>
        </p:blipFill>
        <p:spPr>
          <a:xfrm>
            <a:off x="2987640" y="2168640"/>
            <a:ext cx="331308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ай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 переводе с английского означает – закупщ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закупщик"/>
          <p:cNvPicPr/>
          <p:nvPr/>
        </p:nvPicPr>
        <p:blipFill>
          <a:blip r:embed="rId1"/>
          <a:stretch/>
        </p:blipFill>
        <p:spPr>
          <a:xfrm>
            <a:off x="7093080" y="476280"/>
            <a:ext cx="1199880" cy="981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салон магазин"/>
          <p:cNvPicPr/>
          <p:nvPr/>
        </p:nvPicPr>
        <p:blipFill>
          <a:blip r:embed="rId2"/>
          <a:stretch/>
        </p:blipFill>
        <p:spPr>
          <a:xfrm>
            <a:off x="4859280" y="2205000"/>
            <a:ext cx="374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ерчендайз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переводе с английского – купе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упечество – социальный слой, занимающийся 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предпринимательством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, в области торгов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«Портрет Ржевского купца» Г.А.Крылов. 1830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7" descr="портрет купца"/>
          <p:cNvPicPr/>
          <p:nvPr/>
        </p:nvPicPr>
        <p:blipFill>
          <a:blip r:embed="rId1"/>
          <a:stretch/>
        </p:blipFill>
        <p:spPr>
          <a:xfrm>
            <a:off x="5781600" y="2276640"/>
            <a:ext cx="30384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т прошлого до современност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Греческий абак – счетная доска, устройство для арифметических вычислений, применялись древними цивилизациями Евразии. Затем западной Европы до 18 ве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греческий абак"/>
          <p:cNvPicPr/>
          <p:nvPr/>
        </p:nvPicPr>
        <p:blipFill>
          <a:blip r:embed="rId1"/>
          <a:stretch/>
        </p:blipFill>
        <p:spPr>
          <a:xfrm>
            <a:off x="4997520" y="1887480"/>
            <a:ext cx="367812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й паровоз Росси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дель первого Российского паровоза, была построена механиками отцом и сыном Е.А. и М.Е Черепановыми в 1833. Из крепост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7" descr="паровоз"/>
          <p:cNvPicPr/>
          <p:nvPr/>
        </p:nvPicPr>
        <p:blipFill>
          <a:blip r:embed="rId1"/>
          <a:stretch/>
        </p:blipFill>
        <p:spPr>
          <a:xfrm>
            <a:off x="5076720" y="177336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лотт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рафопостроитель. Устройство для автоматического вычерчивания из рисунков, схем, чертежей и карт, на бумаге. Связь с компьютером через интерфей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7" descr="плоттер"/>
          <p:cNvPicPr/>
          <p:nvPr/>
        </p:nvPicPr>
        <p:blipFill>
          <a:blip r:embed="rId1"/>
          <a:stretch/>
        </p:blipFill>
        <p:spPr>
          <a:xfrm>
            <a:off x="5003640" y="1612800"/>
            <a:ext cx="367200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игитайз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то графический планшет. Применяется в области компьютерной графики – например художник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7" descr="дигитайзер"/>
          <p:cNvPicPr/>
          <p:nvPr/>
        </p:nvPicPr>
        <p:blipFill>
          <a:blip r:embed="rId1"/>
          <a:stretch/>
        </p:blipFill>
        <p:spPr>
          <a:xfrm>
            <a:off x="5076720" y="1692360"/>
            <a:ext cx="3456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277560"/>
            <a:ext cx="734544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Экономный вид транспорт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Знаете ли вы, что самый первый  велосипед был выполнен из дере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 название его было « костотряс». 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7" descr="история велосипед"/>
          <p:cNvPicPr/>
          <p:nvPr/>
        </p:nvPicPr>
        <p:blipFill>
          <a:blip r:embed="rId1"/>
          <a:stretch/>
        </p:blipFill>
        <p:spPr>
          <a:xfrm>
            <a:off x="4859280" y="1989000"/>
            <a:ext cx="32418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00"/>
                </a:solidFill>
                <a:latin typeface="Times New Roman"/>
              </a:rPr>
              <a:t>          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рояви фантазию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Picture 6" descr="головоломки 1"/>
          <p:cNvPicPr/>
          <p:nvPr/>
        </p:nvPicPr>
        <p:blipFill>
          <a:blip r:embed="rId1"/>
          <a:stretch/>
        </p:blipFill>
        <p:spPr>
          <a:xfrm>
            <a:off x="1619280" y="1268280"/>
            <a:ext cx="5832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яви техническое мышлени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пробуйте свои силы в сборке данного орна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лавное найти из каких основных секторов состоит этот блок орна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орнамент звезда"/>
          <p:cNvPicPr/>
          <p:nvPr/>
        </p:nvPicPr>
        <p:blipFill>
          <a:blip r:embed="rId1"/>
          <a:stretch/>
        </p:blipFill>
        <p:spPr>
          <a:xfrm>
            <a:off x="5435640" y="1700280"/>
            <a:ext cx="259236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сборка звезда"/>
          <p:cNvPicPr/>
          <p:nvPr/>
        </p:nvPicPr>
        <p:blipFill>
          <a:blip r:embed="rId2"/>
          <a:stretch/>
        </p:blipFill>
        <p:spPr>
          <a:xfrm>
            <a:off x="5435640" y="4038480"/>
            <a:ext cx="252108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Наши варианты реш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Picture 6" descr="варианты головоломки"/>
          <p:cNvPicPr/>
          <p:nvPr/>
        </p:nvPicPr>
        <p:blipFill>
          <a:blip r:embed="rId1"/>
          <a:stretch/>
        </p:blipFill>
        <p:spPr>
          <a:xfrm>
            <a:off x="1908000" y="1413000"/>
            <a:ext cx="5256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рейн - ринг.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Техника безопасности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5122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 порезе , в первую очередь, что необходимо сделат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а - смазать йод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б- забинтовать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 в – промыть рану вод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любознательный"/>
          <p:cNvPicPr/>
          <p:nvPr/>
        </p:nvPicPr>
        <p:blipFill>
          <a:blip r:embed="rId1"/>
          <a:stretch/>
        </p:blipFill>
        <p:spPr>
          <a:xfrm>
            <a:off x="5651640" y="2133720"/>
            <a:ext cx="3097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Квадрат. Варианты реш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Picture 5" descr="головолома квадрат"/>
          <p:cNvPicPr/>
          <p:nvPr/>
        </p:nvPicPr>
        <p:blipFill>
          <a:blip r:embed="rId1"/>
          <a:stretch/>
        </p:blipFill>
        <p:spPr>
          <a:xfrm>
            <a:off x="1692360" y="1413000"/>
            <a:ext cx="5832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ямоугольник –основа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неправильного треугольни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0" name="Picture 6" descr="головоломка"/>
          <p:cNvPicPr/>
          <p:nvPr/>
        </p:nvPicPr>
        <p:blipFill>
          <a:blip r:embed="rId1"/>
          <a:stretch/>
        </p:blipFill>
        <p:spPr>
          <a:xfrm>
            <a:off x="1547640" y="1828800"/>
            <a:ext cx="59770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итраж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артский собор. Витраж содержит около 100 сюжетов из жизни королей, рыцарей, ремеслен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1 половина 12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витраж"/>
          <p:cNvPicPr/>
          <p:nvPr/>
        </p:nvPicPr>
        <p:blipFill>
          <a:blip r:embed="rId1"/>
          <a:stretch/>
        </p:blipFill>
        <p:spPr>
          <a:xfrm>
            <a:off x="5076720" y="1612800"/>
            <a:ext cx="352764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Бати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хника росписи и украшения тка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звестна в Европе с 20 ве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7" descr="батик"/>
          <p:cNvPicPr/>
          <p:nvPr/>
        </p:nvPicPr>
        <p:blipFill>
          <a:blip r:embed="rId1"/>
          <a:stretch/>
        </p:blipFill>
        <p:spPr>
          <a:xfrm>
            <a:off x="5148360" y="1930320"/>
            <a:ext cx="33112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708000" y="2775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изайн обув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ели обуви различных эпох до современ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тересный факт. В Бразилии выпускают обувь из рыбьей кожи. Всего 150 тыс. пар. Претензии к качеству и прочности – отсутствую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7" descr="история обувь"/>
          <p:cNvPicPr/>
          <p:nvPr/>
        </p:nvPicPr>
        <p:blipFill>
          <a:blip r:embed="rId1"/>
          <a:stretch/>
        </p:blipFill>
        <p:spPr>
          <a:xfrm>
            <a:off x="4932360" y="191628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обувь"/>
          <p:cNvPicPr/>
          <p:nvPr/>
        </p:nvPicPr>
        <p:blipFill>
          <a:blip r:embed="rId2"/>
          <a:stretch/>
        </p:blipFill>
        <p:spPr>
          <a:xfrm>
            <a:off x="1116000" y="465300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нитки"/>
          <p:cNvPicPr/>
          <p:nvPr/>
        </p:nvPicPr>
        <p:blipFill>
          <a:blip r:embed="rId3"/>
          <a:stretch/>
        </p:blipFill>
        <p:spPr>
          <a:xfrm>
            <a:off x="1042920" y="189000"/>
            <a:ext cx="25210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ие умельц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зайн изделий из пластмассовых материалов ( очк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зайн изделий из бумаг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-квилинг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- тетропа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итраж – роспись орнам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атик – техника росписи по тка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из.минут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 – руки на затылке, ноги вместе. Выполнить повороты туловища вправо и влево – 8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. Прикрыть веки, крепко зажмурить глаза, открыть веки – 6 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боксер"/>
          <p:cNvPicPr/>
          <p:nvPr/>
        </p:nvPicPr>
        <p:blipFill>
          <a:blip r:embed="rId1"/>
          <a:stretch/>
        </p:blipFill>
        <p:spPr>
          <a:xfrm>
            <a:off x="6012000" y="256536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актическая часть.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изайн оч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ояви фантазию, технологические приемы, конструкторское мышление, трудолюб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Удач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6" descr="защитные очки"/>
          <p:cNvPicPr/>
          <p:nvPr/>
        </p:nvPicPr>
        <p:blipFill>
          <a:blip r:embed="rId1"/>
          <a:stretch/>
        </p:blipFill>
        <p:spPr>
          <a:xfrm>
            <a:off x="5132520" y="1600200"/>
            <a:ext cx="3068640" cy="2692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художник-конструктор"/>
          <p:cNvPicPr/>
          <p:nvPr/>
        </p:nvPicPr>
        <p:blipFill>
          <a:blip r:embed="rId2"/>
          <a:stretch/>
        </p:blipFill>
        <p:spPr>
          <a:xfrm>
            <a:off x="3851280" y="45086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291960"/>
            <a:ext cx="6193080" cy="14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«Квилинг»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«Страна цветов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Искусство изготовления цветов из бумажных лен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правляясь в путешествие по стране цветов, необходимо проявить фантазию, творчество, терп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7" descr="бабочка"/>
          <p:cNvPicPr/>
          <p:nvPr/>
        </p:nvPicPr>
        <p:blipFill>
          <a:blip r:embed="rId1"/>
          <a:stretch/>
        </p:blipFill>
        <p:spPr>
          <a:xfrm>
            <a:off x="7020000" y="404640"/>
            <a:ext cx="12970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Художественное творчество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илин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ть фрагмент цветка – сир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ть фрагмент цветка – на свободную т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нтазируй и вс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учитс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j0309619"/>
          <p:cNvPicPr/>
          <p:nvPr/>
        </p:nvPicPr>
        <p:blipFill>
          <a:blip r:embed="rId1"/>
          <a:stretch/>
        </p:blipFill>
        <p:spPr>
          <a:xfrm>
            <a:off x="250920" y="2133720"/>
            <a:ext cx="2954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Работа на токарном станк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 – одеть спец. одежду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Б – всать на резиновый коврик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Г – одеть спец. защитные оч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6" descr="станок"/>
          <p:cNvPicPr/>
          <p:nvPr/>
        </p:nvPicPr>
        <p:blipFill>
          <a:blip r:embed="rId1"/>
          <a:stretch/>
        </p:blipFill>
        <p:spPr>
          <a:xfrm>
            <a:off x="5292720" y="2089080"/>
            <a:ext cx="32400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Тетропак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дин из видов декоративно-прикладного творч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кономь, решай экологическую проблему – это решает данный вид деятель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7" descr="заставка цветок"/>
          <p:cNvPicPr/>
          <p:nvPr/>
        </p:nvPicPr>
        <p:blipFill>
          <a:blip r:embed="rId1"/>
          <a:stretch/>
        </p:blipFill>
        <p:spPr>
          <a:xfrm>
            <a:off x="1042920" y="2406600"/>
            <a:ext cx="2305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изайн орнамент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ча конструктора составить орнамент из ячеек основы квадрат, полукр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структорское мышление и логика тебе помог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7" descr="четверть круга"/>
          <p:cNvPicPr/>
          <p:nvPr/>
        </p:nvPicPr>
        <p:blipFill>
          <a:blip r:embed="rId1"/>
          <a:stretch/>
        </p:blipFill>
        <p:spPr>
          <a:xfrm>
            <a:off x="5003640" y="1600200"/>
            <a:ext cx="3313440" cy="3197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геометрич тела"/>
          <p:cNvPicPr/>
          <p:nvPr/>
        </p:nvPicPr>
        <p:blipFill>
          <a:blip r:embed="rId2"/>
          <a:stretch/>
        </p:blipFill>
        <p:spPr>
          <a:xfrm>
            <a:off x="3851280" y="5013360"/>
            <a:ext cx="1441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оспись по ткани - бати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Задание – выполнить роспись по ткани, используя уже знакомые техноло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Орнамент на свободную т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Воображение, усидчивость, аккуратность, терпение. Самоконтроль за качеством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11" descr="краски"/>
          <p:cNvPicPr/>
          <p:nvPr/>
        </p:nvPicPr>
        <p:blipFill>
          <a:blip r:embed="rId1"/>
          <a:stretch/>
        </p:blipFill>
        <p:spPr>
          <a:xfrm>
            <a:off x="647640" y="2205000"/>
            <a:ext cx="3657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итраж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Техника выполнения – нанесение рисунка (по выбору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Подготовка красок (аккуратность разведения, применения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ачественное выполнение. Удачи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7" descr="цветной орнамент"/>
          <p:cNvPicPr/>
          <p:nvPr/>
        </p:nvPicPr>
        <p:blipFill>
          <a:blip r:embed="rId1"/>
          <a:stretch/>
        </p:blipFill>
        <p:spPr>
          <a:xfrm>
            <a:off x="5292720" y="2133720"/>
            <a:ext cx="266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446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на свете цветок ал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ркий пламенный будто зар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ый солнечный и небывал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мечтою зовет ме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12" descr="шиповник"/>
          <p:cNvPicPr/>
          <p:nvPr/>
        </p:nvPicPr>
        <p:blipFill>
          <a:blip r:embed="rId1"/>
          <a:stretch/>
        </p:blipFill>
        <p:spPr>
          <a:xfrm>
            <a:off x="5580000" y="836640"/>
            <a:ext cx="295272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трастоцве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4" name="Picture 10" descr="текст старстоцвет"/>
          <p:cNvPicPr/>
          <p:nvPr/>
        </p:nvPicPr>
        <p:blipFill>
          <a:blip r:embed="rId1"/>
          <a:stretch/>
        </p:blipFill>
        <p:spPr>
          <a:xfrm>
            <a:off x="469800" y="1836720"/>
            <a:ext cx="4013280" cy="405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страстоцвет"/>
          <p:cNvPicPr/>
          <p:nvPr/>
        </p:nvPicPr>
        <p:blipFill>
          <a:blip r:embed="rId2"/>
          <a:stretch/>
        </p:blipFill>
        <p:spPr>
          <a:xfrm>
            <a:off x="4686480" y="1647720"/>
            <a:ext cx="39621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Алый хвощ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27" name="Picture 7" descr="алый хвощь"/>
          <p:cNvPicPr/>
          <p:nvPr/>
        </p:nvPicPr>
        <p:blipFill>
          <a:blip r:embed="rId1"/>
          <a:stretch/>
        </p:blipFill>
        <p:spPr>
          <a:xfrm>
            <a:off x="495360" y="1679400"/>
            <a:ext cx="3716280" cy="4372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текст алый хвощ"/>
          <p:cNvPicPr/>
          <p:nvPr/>
        </p:nvPicPr>
        <p:blipFill>
          <a:blip r:embed="rId2"/>
          <a:stretch/>
        </p:blipFill>
        <p:spPr>
          <a:xfrm>
            <a:off x="4660920" y="1635120"/>
            <a:ext cx="4013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исфима толстолистна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30" name="Picture 7" descr="дисфима"/>
          <p:cNvPicPr/>
          <p:nvPr/>
        </p:nvPicPr>
        <p:blipFill>
          <a:blip r:embed="rId1"/>
          <a:stretch/>
        </p:blipFill>
        <p:spPr>
          <a:xfrm>
            <a:off x="458640" y="1644480"/>
            <a:ext cx="3897360" cy="441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текст дисфима"/>
          <p:cNvPicPr/>
          <p:nvPr/>
        </p:nvPicPr>
        <p:blipFill>
          <a:blip r:embed="rId2"/>
          <a:stretch/>
        </p:blipFill>
        <p:spPr>
          <a:xfrm>
            <a:off x="4660920" y="1635120"/>
            <a:ext cx="40132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воды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Решение экологических проблем – приведите приме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Экономия – с этим мы справились или нет? Обоснуй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Какие качества творческой деятельности мы затронул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6" descr="сова ученый"/>
          <p:cNvPicPr/>
          <p:nvPr/>
        </p:nvPicPr>
        <p:blipFill>
          <a:blip r:embed="rId1"/>
          <a:stretch/>
        </p:blipFill>
        <p:spPr>
          <a:xfrm>
            <a:off x="5962680" y="2276640"/>
            <a:ext cx="24256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жел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Учитесь видеть и творить красо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Только способные люди ценить прекрасное могут преодолеть все труд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Ищите свою творческую деятельность в большом мире професс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7" descr="мальчик с книгой"/>
          <p:cNvPicPr/>
          <p:nvPr/>
        </p:nvPicPr>
        <p:blipFill>
          <a:blip r:embed="rId1"/>
          <a:stretch/>
        </p:blipFill>
        <p:spPr>
          <a:xfrm>
            <a:off x="5867280" y="2349360"/>
            <a:ext cx="2449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Электроприбор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лектроприборы необходимо включать и отключат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А – дернуть за шнур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Б – сухими рукам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разетки"/>
          <p:cNvPicPr/>
          <p:nvPr/>
        </p:nvPicPr>
        <p:blipFill>
          <a:blip r:embed="rId1"/>
          <a:stretch/>
        </p:blipFill>
        <p:spPr>
          <a:xfrm>
            <a:off x="6084720" y="2133720"/>
            <a:ext cx="266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2775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         Что это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 чем этот зна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А – осторожно крутой поворо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Б – разворот разрешен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-В – осторожно электрическое напряже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7" descr="знак вопроса"/>
          <p:cNvPicPr/>
          <p:nvPr/>
        </p:nvPicPr>
        <p:blipFill>
          <a:blip r:embed="rId1"/>
          <a:stretch/>
        </p:blipFill>
        <p:spPr>
          <a:xfrm>
            <a:off x="5364000" y="260280"/>
            <a:ext cx="1368720" cy="1295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эл"/>
          <p:cNvPicPr/>
          <p:nvPr/>
        </p:nvPicPr>
        <p:blipFill>
          <a:blip r:embed="rId2"/>
          <a:stretch/>
        </p:blipFill>
        <p:spPr>
          <a:xfrm>
            <a:off x="5508720" y="2060640"/>
            <a:ext cx="3384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Экономика,  рынок,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специалист.       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офессия художник-конструкто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ак по – другому можно назвать эту професс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ак называется занятие, приносящее доход, прибыл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ир професси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личество профессий огромно. Примерно соответствует числу разнообразных потребностей людей в предметах </a:t>
            </a:r>
            <a:r>
              <a:rPr b="0" i="1" lang="ru-RU" sz="3200" spc="-1" strike="noStrike">
                <a:solidFill>
                  <a:srgbClr val="ffffcc"/>
                </a:solidFill>
                <a:latin typeface="Times New Roman"/>
              </a:rPr>
              <a:t>потребления, услугах, информации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Художник – модельер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орт Чарлз Фредерик – один из знаменитых мастер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- Ввел в моду кринолин (19в). Это нижняя юбка из волосяной ткани, на обручах или китового уса. Поддевалась под платья для придания ему колоковидной фор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пчелки"/>
          <p:cNvPicPr/>
          <p:nvPr/>
        </p:nvPicPr>
        <p:blipFill>
          <a:blip r:embed="rId1"/>
          <a:stretch/>
        </p:blipFill>
        <p:spPr>
          <a:xfrm>
            <a:off x="7596360" y="26028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Рисунок3"/>
          <p:cNvPicPr/>
          <p:nvPr/>
        </p:nvPicPr>
        <p:blipFill>
          <a:blip r:embed="rId2"/>
          <a:stretch/>
        </p:blipFill>
        <p:spPr>
          <a:xfrm>
            <a:off x="6012000" y="1989000"/>
            <a:ext cx="288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Кутюрь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сновной вид деятельности – создание коллекции уникальных моделей одежды Все модели Кутюрье выполняются в ручную в домах высокой м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зайцев вячеслав"/>
          <p:cNvPicPr/>
          <p:nvPr/>
        </p:nvPicPr>
        <p:blipFill>
          <a:blip r:embed="rId1"/>
          <a:stretch/>
        </p:blipFill>
        <p:spPr>
          <a:xfrm>
            <a:off x="4788000" y="1484280"/>
            <a:ext cx="396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06:32Z</dcterms:created>
  <dc:creator>@@@</dc:creator>
  <dc:description/>
  <dc:language>en-US</dc:language>
  <cp:lastModifiedBy>Home</cp:lastModifiedBy>
  <dcterms:modified xsi:type="dcterms:W3CDTF">2012-04-27T12:04:03Z</dcterms:modified>
  <cp:revision>16</cp:revision>
  <dc:subject/>
  <dc:title>Творческие фантазии на уроке «Технология»</dc:title>
</cp:coreProperties>
</file>