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DC4B-956B-4C26-A697-BCFA3F2A7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4BD5-3BF4-4CA2-9190-411757BA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F538-F860-4B10-A5CE-07F86CC7D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85AD-C6F6-489A-BBEF-1842E15E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1788-0B2D-4332-A60A-D4D1B9E3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83F8-FC2F-463A-994E-FF4E1ED1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A726-F576-4F58-90BA-B4334D1C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8AEB-8B10-4064-9766-D6BBC489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E3F2-F2BD-4435-8AC2-F8C6876C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42D1-A4B5-4160-A5F3-F9E49207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E0BC-1BA0-4E6C-B723-85A711A8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8CFE-2773-40F0-9E21-9EE72F4F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E92E-3FBD-4C99-A755-91B22FD03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533520" y="-457200"/>
            <a:ext cx="10744200" cy="804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1371600"/>
            <a:ext cx="9861480" cy="1069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6920" y="196920"/>
            <a:ext cx="9715320" cy="72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228600"/>
            <a:ext cx="9943920" cy="6858000"/>
            <a:chOff x="0" y="228600"/>
            <a:chExt cx="9943920" cy="685800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0" y="3586320"/>
              <a:ext cx="3242880" cy="35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6373080" y="3586320"/>
              <a:ext cx="3570840" cy="3500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" name=""/>
            <p:cNvGrpSpPr/>
            <p:nvPr/>
          </p:nvGrpSpPr>
          <p:grpSpPr>
            <a:xfrm>
              <a:off x="0" y="228600"/>
              <a:ext cx="9692640" cy="6858000"/>
              <a:chOff x="0" y="228600"/>
              <a:chExt cx="9692640" cy="685800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0" y="228600"/>
                <a:ext cx="9692640" cy="3357360"/>
                <a:chOff x="0" y="228600"/>
                <a:chExt cx="9692640" cy="3357360"/>
              </a:xfrm>
            </p:grpSpPr>
            <p:pic>
              <p:nvPicPr>
                <p:cNvPr id="4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678720" y="228600"/>
                  <a:ext cx="3013920" cy="3357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228600"/>
                  <a:ext cx="3473280" cy="3357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73280" y="228600"/>
                  <a:ext cx="3205440" cy="3357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242880" y="3586320"/>
                <a:ext cx="3131280" cy="3500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еник 1</cp:lastModifiedBy>
  <dcterms:modified xsi:type="dcterms:W3CDTF">2012-05-28T10:49:3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