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0DC-93B8-40A1-A918-31909F34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0593-0128-425C-937D-5FCE1EF7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7B2-DFD3-4B88-A6E4-78EE9F7C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A41D-E9C0-49DE-98F9-24990147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842-7D51-483A-B11C-4333A7D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7AB-1ECA-43A1-A56E-A03FAAE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023-D07C-4A25-903D-1A470BB4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E06-65C7-408F-96E3-96BDF294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376-E2E8-4FCC-B5B9-88D348D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025-DE7D-412C-BA53-2AED5BCA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8A5-4A70-4FEF-89C5-21A8C959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D11-BF99-4F26-AD5A-CD1BFFA4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9D53-5BE7-46DC-BBF8-AB3038F89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33520" y="-457200"/>
            <a:ext cx="10744200" cy="804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1371600"/>
            <a:ext cx="9861480" cy="1069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6920" y="196920"/>
            <a:ext cx="9715320" cy="72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28600"/>
            <a:ext cx="9943920" cy="6858000"/>
            <a:chOff x="0" y="228600"/>
            <a:chExt cx="9943920" cy="685800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0" y="3586320"/>
              <a:ext cx="324288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6373080" y="3586320"/>
              <a:ext cx="3570840" cy="35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0" y="228600"/>
              <a:ext cx="9692640" cy="6858000"/>
              <a:chOff x="0" y="228600"/>
              <a:chExt cx="9692640" cy="68580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0" y="228600"/>
                <a:ext cx="9692640" cy="3357360"/>
                <a:chOff x="0" y="228600"/>
                <a:chExt cx="9692640" cy="3357360"/>
              </a:xfrm>
            </p:grpSpPr>
            <p:pic>
              <p:nvPicPr>
                <p:cNvPr id="4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678720" y="228600"/>
                  <a:ext cx="3013920" cy="3357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228600"/>
                  <a:ext cx="3473280" cy="3357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73280" y="228600"/>
                  <a:ext cx="3205440" cy="3357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2880" y="3586320"/>
                <a:ext cx="3131280" cy="350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 1</cp:lastModifiedBy>
  <dcterms:modified xsi:type="dcterms:W3CDTF">2012-05-28T10:49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